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Day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urr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day of resurr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mmaus we ret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confused, amazed, and frighte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omes to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is stranger asks a ques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at is this which troubles you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ets us in our pain and suffe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lks with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trouble, words come from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ing fire within our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s to us the scripture's mea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peaks to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near our destin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ask the stranger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yields unto our urg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tays with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of sorrow is forgott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guest becomes the ho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ing bread and blessing,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himself made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ed eyes, renewed convic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urney back to scenes of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all that Christ is ris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through us made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55:5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3Z</dcterms:modified>
  <cp:revision>4</cp:revision>
  <dc:subject/>
  <dc:title>No Slide Title</dc:title>
</cp:coreProperties>
</file>