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For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ld We 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6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for the world we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ld to Christ we b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loving zea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oor, and them that mou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aint and overbor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sick and sorrow-wo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Christ doth he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for the world we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ld to Christ we b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fervent pray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ayward and the lo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restless passions toss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deemed at countless co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dark despai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for the world we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ld to Christ we b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one acc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us the work to sh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us reproach to d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us the cross to b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Christ our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for the world we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ld to Christ we b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joyful s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ewborn souls, whose d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laimed from error's w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spired with hope and pra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Christ bel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16:21:5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7:19Z</dcterms:modified>
  <cp:revision>3</cp:revision>
  <dc:subject/>
  <dc:title>No Slide Title</dc:title>
</cp:coreProperties>
</file>