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Ye Thankfu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ople, Co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9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ye thankful people,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ise the song of harvest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is safely gathered 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re the winter storms beg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ur Maker doth provid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r wants to be suppli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God's own temple,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ise the song of harvest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world is God's own fie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uit as praise to God we yiel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at and tares together sow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to joy or sorrow grow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rst the blade and then the 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the full corn shall app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harvest, grant that w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lesome grain and pure may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Lord our God shall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all take the harvest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field shall in that 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ffenses purge a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ing angels charge at la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fire the tares to ca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e fruitful ears to sto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garner 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n so, Lord, quickly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thy final harvest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 thou thy people 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 from sorrow, free from s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, forever purifi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y presence to ab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with all thine angels,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ise the glorious harvest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1:10:24Z</dcterms:created>
  <dc:creator>Gary Wintergerst</dc:creator>
  <dc:description/>
  <dc:language>en-US</dc:language>
  <cp:lastModifiedBy>Gary Wintergerst</cp:lastModifiedBy>
  <cp:lastPrinted>1995-12-28T04:47:54Z</cp:lastPrinted>
  <dcterms:modified xsi:type="dcterms:W3CDTF">1999-11-25T22:12:54Z</dcterms:modified>
  <cp:revision>5</cp:revision>
  <dc:subject/>
  <dc:title>No Slide Title</dc:title>
</cp:coreProperties>
</file>