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sk the Lord's bles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hastens and hast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ill to make 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cked oppr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cease from distres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s to his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forgets not hi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to gu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with us joi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aining, mainta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the begin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ght we were w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Lord, wast at 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be th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do extol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eader triumph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y that thou st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efender wil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congreg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ape tribul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 be ever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ke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1:35:12Z</dcterms:created>
  <dc:creator>Gary Wintergerst</dc:creator>
  <dc:description/>
  <dc:language>en-US</dc:language>
  <cp:lastModifiedBy>Gary Wintergerst</cp:lastModifiedBy>
  <cp:lastPrinted>1995-07-02T18:21:44Z</cp:lastPrinted>
  <dcterms:modified xsi:type="dcterms:W3CDTF">1999-11-25T22:04:05Z</dcterms:modified>
  <cp:revision>3</cp:revision>
  <dc:subject/>
  <dc:title>No Slide Title</dc:title>
</cp:coreProperties>
</file>