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7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8 Richard Alan Henders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me to do thy wi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me to do thy w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6:06:0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14Z</dcterms:modified>
  <cp:revision>3</cp:revision>
  <dc:subject/>
  <dc:title>No Slide Title</dc:title>
</cp:coreProperties>
</file>