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35320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, from Who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Blessings Fl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94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, from whom all blessings fl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, all creatures here below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 Alleluia!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, the source of all our gift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Jesus Christ, whose power uplift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Spirit, Holy Spiri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 Alleluia! 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9T20:33:42Z</dcterms:created>
  <dc:creator>Gary Wintergerst</dc:creator>
  <dc:description/>
  <dc:language>en-US</dc:language>
  <cp:lastModifiedBy>Gary Wintergerst</cp:lastModifiedBy>
  <dcterms:modified xsi:type="dcterms:W3CDTF">1999-11-25T22:03:50Z</dcterms:modified>
  <cp:revision>9</cp:revision>
  <dc:subject/>
  <dc:title>No Slide Title</dc:title>
</cp:coreProperties>
</file>