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4 Lorenz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ong, O God of all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 of peace for lands afar and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home, the country where my heart i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re my hopes, my dreams, my holy shr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ther hearts in other lands are bea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opes and dreams as true and high as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untry's skies are bluer than the oc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nlight beams on cloverleaf and p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ther lands have sunlight too, and cl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kies are everywhere as blue as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my song, thou God of all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 of peace for their land and for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prayer, O Lord of all earth's kingdom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come; on earth thy will be d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rist be lifted up till all shall serv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ts united learn to live as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my prayer, thou God of all the nat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elf I give thee; let thy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54:14Z</dcterms:created>
  <dc:creator>Gary Wintergerst</dc:creator>
  <dc:description/>
  <dc:language>en-US</dc:language>
  <cp:lastModifiedBy>Gary Wintergerst</cp:lastModifiedBy>
  <cp:lastPrinted>1995-08-11T15:57:30Z</cp:lastPrinted>
  <dcterms:modified xsi:type="dcterms:W3CDTF">1999-11-25T22:06:02Z</dcterms:modified>
  <cp:revision>6</cp:revision>
  <dc:subject/>
  <dc:title>No Slide Title</dc:title>
</cp:coreProperties>
</file>