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Gre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Flame Aspir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great a flame aspi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d by a spark of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love the nations fi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s the kingdoms on a blaz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fire on earth he c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d in some hearts it i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all might catch the f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artake the glorious blis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first the work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mall and feeble was his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Word doth swiftly r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wins its widening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and more it spreads and gr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mighty to prev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's strongholds it now o'erthr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kes the trembling gates of h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of God, your Savior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 door hath opened w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th given the word of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word is glorif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ighty to red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alone the work hath wr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thy is the work of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who spake a world from nau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w ye not the cloud a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ttle as a human han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spreads along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gs o'er all the thirsty l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the promise of a sh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ops already from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Lord will shortly p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spirit of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33:4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8Z</dcterms:modified>
  <cp:revision>3</cp:revision>
  <dc:subject/>
  <dc:title>No Slide Title</dc:title>
</cp:coreProperties>
</file>