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oses, you will not get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tch out your rod and come a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srael stood by the water's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command it did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ad reached the other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ang a song of triumph o'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ses, the cloud shall cleave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ire by night, a shade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oes shall not before you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'll possess fair Canaan's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srael was in Egypt's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pressed so hard they could not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orld's a wilderness of w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on to Canaan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all from bondage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all in Christ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us saith the Lord," bold Moses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f not, I'll smite your first-born dead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shall they in bondage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come out with Egypt's sp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ot always weep and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ar those slavery chains forl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12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7Z</dcterms:modified>
  <cp:revision>3</cp:revision>
  <dc:subject/>
  <dc:title>No Slide Title</dc:title>
</cp:coreProperties>
</file>