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Shall Overcom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533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shall overcom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shall overcom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shall overcome someday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h, deep in my heart I do believ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shall overcome someday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'll walk hand in han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'll walk hand in han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'll walk hand in hand someday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h, deep in my heart I do believ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'll walk hand in hand someday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shall all be fre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shall all be fre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shall all be free someday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h, deep in my heart I do believ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shall all be free someday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shall live in peac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shall live in peac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shall live in peace someday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h, deep in my heart I do believ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shall live in peace someday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Lord will see us through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Lord will see us through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Lord will see us through someday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h, deep in my heart I do believ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Lord will see us through someday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2-07T15:09:14Z</dcterms:created>
  <dc:creator>Gary Wintergerst</dc:creator>
  <dc:description/>
  <dc:language>en-US</dc:language>
  <cp:lastModifiedBy>Gary Wintergerst</cp:lastModifiedBy>
  <cp:lastPrinted>1995-08-07T15:04:32Z</cp:lastPrinted>
  <dcterms:modified xsi:type="dcterms:W3CDTF">1999-11-25T22:07:05Z</dcterms:modified>
  <cp:revision>3</cp:revision>
  <dc:subject/>
  <dc:title>No Slide Title</dc:title>
</cp:coreProperties>
</file>