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a broken world, we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want and war incr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nt us, Lord, in this our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cient dream of pe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dream of swords to sickles b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pears to scythe and sp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pons of our warfare sp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of peace remad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every battle flag is fur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trumpet stil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wars shall cease in all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aking dream fulfil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force of arms shall there preva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justice cease its s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hall their loftiest visions fa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reamers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ince of Peace, who died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t world to red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se in triumph from the gr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our waking dre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, Lord, your better world to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kingdom, love's dom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peace with God, and peace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eternal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33:16Z</dcterms:created>
  <dc:creator>Gary Wintergerst</dc:creator>
  <dc:description/>
  <dc:language>en-US</dc:language>
  <cp:lastModifiedBy>Gary Wintergerst</cp:lastModifiedBy>
  <cp:lastPrinted>1996-01-03T12:38:48Z</cp:lastPrinted>
  <dcterms:modified xsi:type="dcterms:W3CDTF">1999-11-25T22:05:58Z</dcterms:modified>
  <cp:revision>5</cp:revision>
  <dc:subject/>
  <dc:title>No Slide Title</dc:title>
</cp:coreProperties>
</file>