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Truth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 upon this sou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 and inwar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 my spirit, clear my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 within this heart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every high des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self in thy pure f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Power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and nerve this wil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I may strongly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avely bear, and nobly str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Righ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within my conscience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Lord, and I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bound, forever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30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1Z</dcterms:modified>
  <cp:revision>4</cp:revision>
  <dc:subject/>
  <dc:title>No Slide Title</dc:title>
</cp:coreProperties>
</file>