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long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grim journ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tria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tria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heart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ost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trou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trou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head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ed in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21:43:4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0Z</dcterms:modified>
  <cp:revision>3</cp:revision>
  <dc:subject/>
  <dc:title>No Slide Title</dc:title>
</cp:coreProperties>
</file>