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Our S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Forg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Rosamond Herklo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orgive our sins as we forgive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aught us, Lord, to p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alone can grant us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ive the words we s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your pardon reach and b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forgiving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roods on wrongs and will not l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d bitterness depart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lazing light your cross revea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th we dimly k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rivial debts are owed to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our debt to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cleanse the depths within our sou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 resentment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bound to all in bond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ives will spread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25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5Z</dcterms:modified>
  <cp:revision>4</cp:revision>
  <dc:subject/>
  <dc:title>No Slide Title</dc:title>
</cp:coreProperties>
</file>