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to D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hsema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to dark Gethsema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that feel the tempter's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Redeemer's conflict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with him one bitter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not from his grief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Jesus Christ to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at the judgment h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ten, bound, reviled, arraign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wormwood and the g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angs his soul sustain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n not suffering, shame, or l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Christ to bear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vary's mournful mountain cli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adoring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k that miracle of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sacrifice comple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t is finished!" hear him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Jesus Christ to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hasten to the to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y laid his breathless c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solitude and glo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taken him a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He meets our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teach us so to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23:2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5Z</dcterms:modified>
  <cp:revision>2</cp:revision>
  <dc:subject/>
  <dc:title>No Slide Title</dc:title>
</cp:coreProperties>
</file>