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atisfy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ngry He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7 Archdiocese of Philadelph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atisfy the hungr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ift of finest wh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ive to us, O sav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to 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give yourself to us, O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elfless let us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each other in your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ruth and char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atisfy the hungr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ift of finest wh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ive to us, O sav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to 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atisfy the hungr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ift of finest wh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ive to us, O sav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to 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hen the shepherd calls his shee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know and heed his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hen you call your family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ollow and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atisfy the hungr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ift of finest wh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ive to us, O sav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to 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joyful lips we sing to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raise and gratitu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you should count us worthy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are this heavenly f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atisfy the hungr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ift of finest wh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ive to us, O sav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to 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not the cup we bless and sh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lood of Christ out-poure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one cup, one loaf, decl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oneness in the Lor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atisfy the hungr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ift of finest wh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ive to us, O sav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to 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ystery of your presence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tal tongue can te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all the world cannot cont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s in our hearts to dwe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8:07:1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29Z</dcterms:modified>
  <cp:revision>4</cp:revision>
  <dc:subject/>
  <dc:title>No Slide Title</dc:title>
</cp:coreProperties>
</file>