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ions,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3-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2 Concordia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of the nations,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rgin's Son, here make thy h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 now, O heaven and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chose such a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y human flesh and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 of ou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e Word of God made fle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's offspring, pure and fres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birth! O wondrous 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Virgin undefil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an and divin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ger now his race to ru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ather is his sour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God he runs his cour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to death and hell desc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high throne he reasc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y manger's halo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s night with newbor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 night this light subd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faith shine ever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59:2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6Z</dcterms:modified>
  <cp:revision>3</cp:revision>
  <dc:subject/>
  <dc:title>No Slide Title</dc:title>
</cp:coreProperties>
</file>