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of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of the world in mercy br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e of the soul in mercy 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om the words of life were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whose death our sins are dea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the heart by sorrow br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the tears by sinners sh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thy feast to us the t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y thy grace our souls are f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15:02Z</dcterms:created>
  <dc:creator>Gary Wintergerst</dc:creator>
  <dc:description/>
  <dc:language>en-US</dc:language>
  <cp:lastModifiedBy>Gary Wintergerst</cp:lastModifiedBy>
  <cp:lastPrinted>1995-12-25T20:31:46Z</cp:lastPrinted>
  <dcterms:modified xsi:type="dcterms:W3CDTF">1999-11-25T22:12:27Z</dcterms:modified>
  <cp:revision>4</cp:revision>
  <dc:subject/>
  <dc:title>No Slide Title</dc:title>
</cp:coreProperties>
</file>