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ing a So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Bethlehe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7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ing a song of Bethlehem, of shepherds watching t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f the news that came to them from angels in the ai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ight that shone on Bethlehem fills all the world tod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Jesus' birth and peace on earth the angels sing al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ing a song of Nazareth, of sunny days of jo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ing of fragrant flowers' breath, and of the sinless Bo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now the flowers of Nazareth in every heart may gr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spreads the fame of his dear name on all the winds that bl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ing a song of Galilee, of lake and woods and hi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him who walked upon the sea and bade the waves be sti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ough like waves on Galilee, dark seas of trouble ro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faith has heard the Master's word, falls peace upon the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ing a song of Calvary, its glory and dism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him who hung upon the tree, and took our sins aw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he who died on Calvary is risen from the gra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hrist, our Lord, by heaven adored, is mighty now to sa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07:34:3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4:24Z</dcterms:modified>
  <cp:revision>3</cp:revision>
  <dc:subject/>
  <dc:title>No Slide Title</dc:title>
</cp:coreProperties>
</file>