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rust and never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urely bring you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r youthful days ar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ld age is stealing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r body bends beneath the weight of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never leave you th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ll go with you to the 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, leave it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rust and never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urely bring you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e world from you withho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its silver and its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have to get along with meager f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remember in his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e feeds the little bi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, leave it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rust and never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urely bring you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r body suffers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r health you can't re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r soul is almost sinking in desp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knows the pain you fe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n save and he can h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, leave it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rust and never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urely bring you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r enemies ass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r heart begins to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't forget that God in heaven answers pray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make a way for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ll lead you safely throu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, leave it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21:50:4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0Z</dcterms:modified>
  <cp:revision>4</cp:revision>
  <dc:subject/>
  <dc:title>No Slide Title</dc:title>
</cp:coreProperties>
</file>