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Look to Th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6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Lord, we look to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in thy name agr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w thyself the Prince of Pe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d our strife forever cea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y reconciling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stumbling block rem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ch to each unite, end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nd spread thy banner 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us of one heart and m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ntle, courteous, and k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wly, meek, in thought and 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together like our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for each other ca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ch the other's burdens b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y church the pattern gi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w how true believers l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ee from anger and from pr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thus in God abi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depths of love expr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heights of holin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then with joy rem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family ab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wings of angels f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w how true believers di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6T11:59:46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7:16Z</dcterms:modified>
  <cp:revision>3</cp:revision>
  <dc:subject/>
  <dc:title>No Slide Title</dc:title>
</cp:coreProperties>
</file>