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the Lord is on your s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 patiently the cross of grief or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o your God to order and prov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change God faithful will rem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your best, your heavenly fri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orny ways leads to a joyful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your God will undert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 the future, as in ages p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pe, your confidence let nothing sh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now mysterious shall be bright at l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the waves and winds still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rist who ruled them while he dwelt be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the hour is hastening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shall be forever with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isappointment, grief, and fear are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forgot, love's purest joys resto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when change and tears ar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afe and blessed we shall meet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54:1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05Z</dcterms:modified>
  <cp:revision>2</cp:revision>
  <dc:subject/>
  <dc:title>No Slide Title</dc:title>
</cp:coreProperties>
</file>