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yer Is the Soul'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re Desir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9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yer is the soul's sincere desi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uttered or express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otion of a hidden fi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trembles in the brea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yer is the burden of a s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alling of a t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upward glancing of an ey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none but God is ne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yer is the simplest form of speec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infant lips can tr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yer the sublimest strains that reac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ajesty on hi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yer is the contrite sinners' vo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turning from their 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angels in their songs rejoi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y, "Behold, they pray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yer is the Christians' vital brea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hristians' native ai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 watchword at the gates of dea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enter heaven with pray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ou, by whom we come to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ife, the Truth, the Way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ath of prayer thyself hast tr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teach us how to pr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2T17:32:26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6:21Z</dcterms:modified>
  <cp:revision>3</cp:revision>
  <dc:subject/>
  <dc:title>No Slide Title</dc:title>
</cp:coreProperties>
</file>