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eate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3 Boris &amp; Clare Ander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eated heaven and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perfect brought to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power made dark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revolving day and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's mercy gr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needs that love awa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ho fashions all that liv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ch one a blessing g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ne, will ever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ols are mere va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made gods of wood and cl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not help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's grace beyond com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s us all from death's desp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arth's creatures small and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at blessed sta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2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2Z</dcterms:modified>
  <cp:revision>4</cp:revision>
  <dc:subject/>
  <dc:title>No Slide Title</dc:title>
</cp:coreProperties>
</file>