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od's Sain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od's sai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 and all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without sai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ts how to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faith in acqui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bit of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depth of ad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elp us to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march with eve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urn them God's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need to withdr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tter to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carry the gosp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fire and through f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world is their par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purpose is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those sai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praised and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ar someone's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shoulder their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me our complai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forts, our car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patience in c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ourage, is their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od's sai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 and all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without sai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ts how to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ing, in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rove it is tru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 of self-g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ads u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19:08Z</dcterms:created>
  <dc:creator>Gary Wintergerst</dc:creator>
  <dc:description/>
  <dc:language>en-US</dc:language>
  <cp:lastModifiedBy>Gary Wintergerst</cp:lastModifiedBy>
  <cp:lastPrinted>1996-01-02T14:01:06Z</cp:lastPrinted>
  <dcterms:modified xsi:type="dcterms:W3CDTF">1999-11-25T22:13:00Z</dcterms:modified>
  <cp:revision>5</cp:revision>
  <dc:subject/>
  <dc:title>No Slide Title</dc:title>
</cp:coreProperties>
</file>