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9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(Extra verses includ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at end of fi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George William Kitchin and Michael Robert Newbolt, 1916 al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1974 Hope Publishing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et us follow in the glorious tr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 with joy our song of life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hristians, follow this triumphant s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sts of God in unity comb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new born servant of the Crucifi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s on the brow the seal of him who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nce lifted on the glorious t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hast promised, draw the world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our song of triumph ever b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Crucified for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oses lifted up brazen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ust we lift the rose of Jesse’s l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the seal of water on our b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th of death is ours to fathom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00:30Z</dcterms:created>
  <dc:creator>Gary Wintergerst</dc:creator>
  <dc:description/>
  <dc:language>en-US</dc:language>
  <cp:lastModifiedBy>Gary Wintergerst</cp:lastModifiedBy>
  <cp:lastPrinted>1995-07-10T21:17:46Z</cp:lastPrinted>
  <dcterms:modified xsi:type="dcterms:W3CDTF">2003-06-28T16:32:04Z</dcterms:modified>
  <cp:revision>6</cp:revision>
  <dc:subject/>
  <dc:title>No Slide Title</dc:title>
</cp:coreProperties>
</file>