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Accep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O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6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5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accept each o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Christ accepted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us as sister, br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person to emb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present, Lord, among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ing us to belie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urselves accep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eant to love and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us, O Lord, your less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n our daily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truggle to be hum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earch for hope and fai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us to care for peop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, not just for s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ove them as we find th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as they may be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your acceptance chang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at we may be mov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iving situatio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o the truth in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ractice your accept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we know b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able of forgive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aughter's healing 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for today's encounte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who are in n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hunger for accept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righteousness and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ed new eyes for see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w hands for holding 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ew us with your Spir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free us, make us o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11:0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16Z</dcterms:modified>
  <cp:revision>4</cp:revision>
  <dc:subject/>
  <dc:title>No Slide Title</dc:title>
</cp:coreProperties>
</file>