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Hail the Pow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Jesus' Na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54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at with yonder sacred thro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t his feet may fall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ll join the everlasting s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own him Lord of 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ll join the everlasting s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own him Lord of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15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hail the power of Jesus' na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5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ngels prostrate fa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5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forth the royal diade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5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own him Lord of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5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forth the royal diade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5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own him Lord of 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chosen seed of Israel's 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ransomed from the f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him who saves you by his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own him Lord of 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him who saves you by his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own him Lord of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ners, whose love can ne'er forge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ormwood and the g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spread your trophies at his fee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own him Lord of 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spread your trophies at his fee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own him Lord of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every kindred, every trib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is terrestrial b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him all majesty ascri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own him Lord of 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him all majesty ascri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own him Lord of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own him, ye martyrs of your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from his altar ca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xtol the Stem of Jesse's R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own him Lord of 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xtol the Stem of Jesse's R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own him Lord of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0T19:52:24Z</dcterms:created>
  <dc:creator>Gary Wintergerst</dc:creator>
  <dc:description/>
  <dc:language>en-US</dc:language>
  <cp:lastModifiedBy>Gary Wintergerst</cp:lastModifiedBy>
  <cp:lastPrinted>1995-07-10T19:50:30Z</cp:lastPrinted>
  <dcterms:modified xsi:type="dcterms:W3CDTF">1999-11-25T22:04:13Z</dcterms:modified>
  <cp:revision>5</cp:revision>
  <dc:subject/>
  <dc:title>No Slide Title</dc:title>
</cp:coreProperties>
</file>