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-a-Bye,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ittle Bo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7 Jaroslav J. Vaj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-a-bye, my dear little boy, dear little b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 of wonders, my blessing and jo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umber as I gently hol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tender love enfold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 of God to me and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my arms lies so peacefully cur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ttle Jesus, Infant Divine, Infant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the Father, yet born to be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 rock you calmly sl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 guards their watch are keep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child, one day we shall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love has destined for you and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0T21:50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4Z</dcterms:modified>
  <cp:revision>3</cp:revision>
  <dc:subject/>
  <dc:title>No Slide Title</dc:title>
</cp:coreProperties>
</file>