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511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3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 at the feet of our frie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washing thei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way we should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s at the feet of his frie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washes thei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 who acts as a sl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rich and poo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black and wh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n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ar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are the ones we should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are the ones we should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se are neighbors to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puts us on our kne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as though we are slav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way we should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07:38Z</dcterms:created>
  <dc:creator>Gary Wintergerst</dc:creator>
  <dc:description/>
  <dc:language>en-US</dc:language>
  <cp:lastModifiedBy>Gary Wintergerst</cp:lastModifiedBy>
  <dcterms:modified xsi:type="dcterms:W3CDTF">1999-11-25T22:06:00Z</dcterms:modified>
  <cp:revision>3</cp:revision>
  <dc:subject/>
  <dc:title>No Slide Title</dc:title>
</cp:coreProperties>
</file>