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atchers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oly O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atchers and ye holy on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seraphs, cherubim, and thron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glad strai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out, dominions, princedoms,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rtues, archangels, angels' choir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igher than the cherub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glorious than the serap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their prais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bearer of th'eternal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gracious, magnify the Lor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ond, ye souls in endles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patriarchs and prophets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oly twelve, ye martyrs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aints triumphant, raise the so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iends, in gladness let u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ernal anthems echo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the Father, God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the Spirit, Three in 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18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3:49Z</dcterms:modified>
  <cp:revision>2</cp:revision>
  <dc:subject/>
  <dc:title>No Slide Title</dc:title>
</cp:coreProperties>
</file>