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pth of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pth of mercy! Can there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still reserved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my God his wrath for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, the chief of sinners, sp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long withstood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provoked him to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not hearken to his ca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ved him by a thousand fal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y Master have den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fresh have cruc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 profaned his hallowed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m to an open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 me the Savior st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s his wounds and spreads his ha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! I know, I fe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eeps and loves me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cline me to rep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now my sins la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foul revolt de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, believe, and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11:0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0Z</dcterms:modified>
  <cp:revision>2</cp:revision>
  <dc:subject/>
  <dc:title>No Slide Title</dc:title>
</cp:coreProperties>
</file>