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Confid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ha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confidence is sha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liefs we thought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pirit in its sick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s but cannot find a 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active in the tens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faith not yet mat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ar systems, void of m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ze the spirit into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our researches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ultimate un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must die, or come full circ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ts source in God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iscipline of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's hardest to b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rudgery of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's not enough to gr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maturing, learns accept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insights we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, and thus redeem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hrist we cruc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God's eternal ans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world's eternal wh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in this faith matu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ontent to live and di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4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6:26Z</dcterms:modified>
  <cp:revision>4</cp:revision>
  <dc:subject/>
  <dc:title>No Slide Title</dc:title>
</cp:coreProperties>
</file>