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O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sed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once despi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Galilean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suffer to releas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free salvation b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universal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t borne our sin and sh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merits we find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given through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chal Lamb, by God app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s on thee were lai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lmighty love an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full atonement ma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in may be for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virtue of thy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ed is the gate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d are we with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hail! enthroned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forever to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heavenly hosts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at thy Father's s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for sinners thou art plea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thou dost our place prep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for saints art interce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glory they app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, honor, power, and bles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orthy to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est praises, without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 it is for us to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, ye bright angelic spiri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your sweetest, noblest l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o sing of Jesus' meri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o chant Emmanuel's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4T16:36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9Z</dcterms:modified>
  <cp:revision>3</cp:revision>
  <dc:subject/>
  <dc:title>No Slide Title</dc:title>
</cp:coreProperties>
</file>