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ank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ank we all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hands and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ndrous things ha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this world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our mothers' ar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blessed us on ou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untless gift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is our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is bounteous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fe be nea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 joyful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peace to cheer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still in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ide us when perplex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ee us from all 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world and the nex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and thanks to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 now be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, and him who reig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m in highest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ne eternal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earth and heaven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us it was, is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4:30:24Z</dcterms:created>
  <dc:creator>Gary Wintergerst</dc:creator>
  <dc:description/>
  <dc:language>en-US</dc:language>
  <cp:lastModifiedBy>Gary Wintergerst</cp:lastModifiedBy>
  <dcterms:modified xsi:type="dcterms:W3CDTF">1999-11-25T22:03:54Z</dcterms:modified>
  <cp:revision>4</cp:revision>
  <dc:subject/>
  <dc:title>No Slide Title</dc:title>
</cp:coreProperties>
</file>