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Vict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8 Lutheran Book of Wor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amb who was sl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begun his reign.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thy is Christ, the Lamb who was sl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blood set us free to be people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, riches, wisdom, and streng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nor, blessing, and glory are hi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ith all the people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oin in the hymn of all cre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, honor, glory, and m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o God and the Lamb forever. Am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19:47:22Z</dcterms:created>
  <dc:creator>Gary Wintergerst</dc:creator>
  <dc:description/>
  <dc:language>en-US</dc:language>
  <cp:lastModifiedBy>Gary Wintergerst</cp:lastModifiedBy>
  <cp:lastPrinted>1995-12-25T20:44:06Z</cp:lastPrinted>
  <dcterms:modified xsi:type="dcterms:W3CDTF">1999-11-25T22:12:33Z</dcterms:modified>
  <cp:revision>5</cp:revision>
  <dc:subject/>
  <dc:title>No Slide Title</dc:title>
</cp:coreProperties>
</file>