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Faith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Str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!" now we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King im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, triumphant, burst the b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omb's dark port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!" with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ather p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!" yet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Spirit rai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faithful, raise the str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riumphant gl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brought forth Isra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joy from s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sed from Pharaoh's bitter yo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cob's sons and daugh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d them with unmoistened foo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Red Sea wa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 Tis the spring of souls to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th burst his pri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ree days' sleep in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sun hath ris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inter of our s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and dark, is fl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is light, to whom we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praise undy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queen of seas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with the day of splen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royal feast of feas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its joy to 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to glad Jerusal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th true aff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s in unwearied str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resurrec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ther might the gates of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tomb's dark p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watchers, nor the se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thee as a mort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day amidst the twel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stand, bestow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y peace which everm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eth human kn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2:07:34Z</dcterms:created>
  <dc:creator>Gary Wintergerst</dc:creator>
  <dc:description/>
  <dc:language>en-US</dc:language>
  <cp:lastModifiedBy>Gary Wintergerst</cp:lastModifiedBy>
  <cp:lastPrinted>1995-08-02T11:39:04Z</cp:lastPrinted>
  <dcterms:modified xsi:type="dcterms:W3CDTF">1999-11-25T22:05:16Z</dcterms:modified>
  <cp:revision>3</cp:revision>
  <dc:subject/>
  <dc:title>No Slide Title</dc:title>
</cp:coreProperties>
</file>