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John R. Peacey, 197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Public domai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 good courage, armed with heavenly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good Spirit daily to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the kingdom we see face to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 the faint, give courage to the we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e afflicted; richly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supplies the grace and power we see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streng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fast the good, be urgent for the 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 to no one evil; Christ at l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overcome all darkness with his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God's people every day and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rving Christ, our every gift empl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ing in the Holy Spirit's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2:46Z</dcterms:created>
  <dc:creator>Gary Wintergerst</dc:creator>
  <dc:description/>
  <dc:language>en-US</dc:language>
  <cp:lastModifiedBy>Gary Wintergerst</cp:lastModifiedBy>
  <cp:lastPrinted>1995-12-28T04:23:40Z</cp:lastPrinted>
  <dcterms:modified xsi:type="dcterms:W3CDTF">2003-06-14T15:36:13Z</dcterms:modified>
  <cp:revision>5</cp:revision>
  <dc:subject/>
  <dc:title>No Slide Title</dc:title>
</cp:coreProperties>
</file>