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tand Amaz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th the ransomed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ce I at last shall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joy through the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ing of his love fo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tand amazed in the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the Nazar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 how he could l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inner, condemned, uncle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 it was in the gar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rayed: "Not my will, but thin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no tears for his own grief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weat-drops of blood for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ity angels behe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me from the world of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fort him in the sor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for my soul that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ok my sins and my sor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ade them his very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the burden to Calv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ffered and died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04:4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7Z</dcterms:modified>
  <cp:revision>3</cp:revision>
  <dc:subject/>
  <dc:title>No Slide Title</dc:title>
</cp:coreProperties>
</file>