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, O Lord, You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ants Ga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5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Eng:2, Jap:11, Jap/Eng:1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58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kai no tomo t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 tsunag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yujika no moto ni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tsu warer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ami no mikuni 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 a te to sh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u Yesu no michi 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sumi yuka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kai no tomo t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 tsunag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yujika no moto ni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, O Lord, your servants g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nd we link with h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ing toward our Savior's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5080" y="27432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tsu warer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ami no mikuni 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 a te to sh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ed in love we sta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seek the realm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unite to pra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1040" y="266688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u Yesu no michi 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sumi yuka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Savior, guide our step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 are the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1040" y="274320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, O Lord, your servants g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nd we link with h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ing toward our Savior's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ed in love we sta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seek the realm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unite to pra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Savior, guide our step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 are the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are the tongues we spea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cattered are the l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our hearts are one in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in love's demand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'en in darkness hope appea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ing age and youth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eacher, dwell wit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 are the Tru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ture's secrets open w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nges never cea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, oh where, can weary soul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nd the source of peac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o all those sore distress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rn by endless strif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healer, bring your bal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 are the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, O God, an age renew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ed with deathless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us as we work and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us from ab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th and courage, faith and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eded in our strif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Master, be our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our Truth, our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2T21:41:3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13Z</dcterms:modified>
  <cp:revision>4</cp:revision>
  <dc:subject/>
  <dc:title>No Slide Title</dc:title>
</cp:coreProperties>
</file>