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in Jerusalem just like Joh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ohn, O John, what did you s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'd be there on judgment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in Jerusalem just like Joh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hn said the city was just four-squ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declared he'd meet me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in Jerusalem just like Joh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sinners, mind how you step on the cro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oot might slip and your soul get lo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20:17:48Z</dcterms:created>
  <dc:creator>Gary Wintergerst</dc:creator>
  <dc:description/>
  <dc:language>en-US</dc:language>
  <cp:lastModifiedBy>Gary Wintergerst</cp:lastModifiedBy>
  <cp:lastPrinted>1996-01-02T15:08:26Z</cp:lastPrinted>
  <dcterms:modified xsi:type="dcterms:W3CDTF">1999-11-25T22:13:05Z</dcterms:modified>
  <cp:revision>4</cp:revision>
  <dc:subject/>
  <dc:title>No Slide Title</dc:title>
</cp:coreProperties>
</file>