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Emmanu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Our Pray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6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Emmanuel, hear our pray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ait to feel thy touc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ep-wounded souls to thee rep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vior, we are suc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aith is feeble, we conf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aintly trust thy 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ilt thou pity us the less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at far from thee,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ember him who once appli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rembling for relief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ord, I believe," with tears he cried; 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elp my unbelief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, too, who touched thee in the pr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ling virtue sto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answered, "Daughter, go in pea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faith hath made thee whol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her, with hopes and fears we co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ouch thee if we m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end us not despairing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none unhealed a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4:02:5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6Z</dcterms:modified>
  <cp:revision>2</cp:revision>
  <dc:subject/>
  <dc:title>No Slide Title</dc:title>
</cp:coreProperties>
</file>