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, I Lov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, I love thee, I know thou art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 all the follies of sin I res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Redeemer, my Savior art th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 because thou hast first lov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rchased my pardon on Calvary's t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 for wearing the thorns on thy b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sions of glory and endles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ever adore thee in heaven so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with the glittering crown on my b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9:2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0Z</dcterms:modified>
  <cp:revision>4</cp:revision>
  <dc:subject/>
  <dc:title>No Slide Title</dc:title>
</cp:coreProperties>
</file>