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Loves Excell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8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divine, all loves exce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of heaven, to earth come d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in us thy humble dwell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y faithful mercies crow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hou art all compa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, unbounded love thou 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sit us with thy salv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ter every trembling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, O breathe thy loving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every troubled breas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all in thee inher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find that second r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away our bent to sin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pha and Omega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d of faith, as its begin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our hearts at liber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mighty to del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all thy life rece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ddenly return and n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more thy temples lea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 we would be always bl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e thee as thy host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 and praise thee without cea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in thy perfect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ish, then, thy new cre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 and spotless let us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ee thy great salv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ectly restored in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d from glory into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n heaven we take our pl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cast our crowns bef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t in wonder, love,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6T21:04:36Z</dcterms:created>
  <dc:creator>Gary Wintergerst</dc:creator>
  <dc:description/>
  <dc:language>en-US</dc:language>
  <cp:lastModifiedBy>Gary Wintergerst</cp:lastModifiedBy>
  <cp:lastPrinted>1995-08-06T21:00:28Z</cp:lastPrinted>
  <dcterms:modified xsi:type="dcterms:W3CDTF">1999-11-25T22:05:43Z</dcterms:modified>
  <cp:revision>3</cp:revision>
  <dc:subject/>
  <dc:title>No Slide Title</dc:title>
</cp:coreProperties>
</file>