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s, Rej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ye heed to what we say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is born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 and ass before him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is in the manger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born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born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ye hear of endless bliss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was born for thi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opened heaven's d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 are blest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for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for t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ye need not fear the grave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was born to sa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s you one and calls you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ain his everlasting h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to sa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3:3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0Z</dcterms:modified>
  <cp:revision>2</cp:revision>
  <dc:subject/>
  <dc:title>No Slide Title</dc:title>
</cp:coreProperties>
</file>