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ly Trust Hi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3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every soul by sin oppress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mercy with the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will surely give you r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rusting in his W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ly trust him, only trust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ly trust him now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save you, he will sav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save you n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Jesus shed his precious blo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ch blessings to best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lunge now into the crimson flo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washes bright as snow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ly trust him, only trust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ly trust him now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save you, he will sav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save you n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Jesus is the truth, the w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leads you into re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lieve in him without del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you are fully bles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ly trust him, only trust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ly trust him now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save you, he will sav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save you n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then and join this holy b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n to glory g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dwell in that celestial l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joys immortal flow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ly trust him, only trust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ly trust him now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save you, he will sav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save you n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9T20:47:48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5:23Z</dcterms:modified>
  <cp:revision>3</cp:revision>
  <dc:subject/>
  <dc:title>No Slide Title</dc:title>
</cp:coreProperties>
</file>