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Faith Look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p to Th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5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faith looks up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Lamb of Calva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 divin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hear me while I pr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all my guilt a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et me from this d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wholly thin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y rich grace imp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ength to my fainting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zeal inspir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ou hast died for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y my love to th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re, warm, and changeless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living fi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life's dark maze I tr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riefs around me spr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ou my gui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d darkness turn to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pe sorrow's tears a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let me ever str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e as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ends life's transient drea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death's cold, sullen strea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o'er me ro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Savior, then in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ar and distrust rem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ear me safe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ransomed soul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3T20:18:1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6:08Z</dcterms:modified>
  <cp:revision>4</cp:revision>
  <dc:subject/>
  <dc:title>No Slide Title</dc:title>
</cp:coreProperties>
</file>