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James Quin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come down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rain from heaven descen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our hearts and bring to b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hope and love unend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almighty, we reve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we long to hea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eternal, throned on hi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brought to lif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came from heaven to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cified for our salv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ng Word, the world rest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us, your love out-pou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caused blind eyes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and heal our mortal blin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f we are: our healer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se our tongues to tell your kind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Word in pity spo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world, by our sin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speaks your Father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God beyond all t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sends us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with us dw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truth, to all truth lea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life, with one Bread fe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14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4:25Z</dcterms:modified>
  <cp:revision>4</cp:revision>
  <dc:subject/>
  <dc:title>No Slide Title</dc:title>
</cp:coreProperties>
</file>