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In Hea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o thy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y and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never cea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o unit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o redeem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rememb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racious 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resurrec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we br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we shall s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is the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for the we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for the need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led in our kin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our wor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ado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59:0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00Z</dcterms:modified>
  <cp:revision>2</cp:revision>
  <dc:subject/>
  <dc:title>No Slide Title</dc:title>
</cp:coreProperties>
</file>