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lessings F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 all blessings f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, all creatures here be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bove, ye heavenly 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ather, Son, and Holy Gho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20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51Z</dcterms:modified>
  <cp:revision>4</cp:revision>
  <dc:subject/>
  <dc:title>No Slide Title</dc:title>
</cp:coreProperties>
</file>