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Gracious Power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1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74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gracious powers so wonderfully shelte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onfidently waiting, come what m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know that God is with us night and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ever fails to greet us each new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is this heart by its old foe torment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evil days bring burdens hard to b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ive our frightened souls the sure salv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hich, O Lord, you taught us to prep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this cup you give is filled to brimm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bitter sorrow, hard to underst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take it thankfully and without tremb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of so good and so beloved a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when again in this same world you give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joy we had, the brightness of your s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remember all the days we lived throu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ur whole life shall then be yours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18:40:46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58Z</dcterms:modified>
  <cp:revision>4</cp:revision>
  <dc:subject/>
  <dc:title>No Slide Title</dc:title>
</cp:coreProperties>
</file>