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We Thank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6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5 The Church Pension Fu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we thank you, for you plant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holy name within our heart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ledge and faith and life immort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your Son to us impart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have made all for your pleas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n us food for all our d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ing in Christ the bread eterna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s is the power, be yours the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ch o'er your church, O Lord, in merc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it from evil, guard it sti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fect it in your love, unite it, cleans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nformed unto your w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grain, once scattered on the hillsid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in the broken bread made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from all lands your church be gather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your kingdom by your 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5:27:5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25T22:07:17Z</dcterms:modified>
  <cp:revision>4</cp:revision>
  <dc:subject/>
  <dc:title>No Slide Title</dc:title>
</cp:coreProperties>
</file>