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Chario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oked over Jordan, and what did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and of angels coming aft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get there before I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all my friends I'm coming to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metimes up, I'm sometimes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till my souls feels heavenly 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ightest day that I can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27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58Z</dcterms:modified>
  <cp:revision>4</cp:revision>
  <dc:subject/>
  <dc:title>No Slide Title</dc:title>
</cp:coreProperties>
</file>