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od, Our Help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Ages Pa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17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od, our help in ages p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hope for years to 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shelter from the stormy bl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ur eternal ho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der the shadow of thy thr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may we dwell secu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fficient is thine arm al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ur defense is su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fore the hills in order sto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earth received her fr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everlasting, thou art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endless years the s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thousand ages, in thy s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e like an evening g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rt as the watch that ends the n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fore the rising su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me, like an ever rolling strea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rs all who breathe a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fly forgotten, as a drea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es at the opening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od, our help in ages p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hope for years to co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thou our guide while life shall l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ur eternal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1T18:04:46Z</dcterms:created>
  <dc:creator>Gary Wintergerst</dc:creator>
  <dc:description/>
  <dc:language>en-US</dc:language>
  <cp:lastModifiedBy>Gary Wintergerst</cp:lastModifiedBy>
  <cp:lastPrinted>1995-07-01T18:39:42Z</cp:lastPrinted>
  <dcterms:modified xsi:type="dcterms:W3CDTF">1999-11-25T22:03:59Z</dcterms:modified>
  <cp:revision>6</cp:revision>
  <dc:subject/>
  <dc:title>No Slide Title</dc:title>
</cp:coreProperties>
</file>