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All the Spirit'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fts To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3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9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all the Spirit's gifts to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pray that I may never cea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ake and treasure most these thre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, joy, and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pirit shows me love's the roo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every gift sent from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every flower, of every fru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God i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pirit shows if I poss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ove no evil can destro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ever great is my distr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this is j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what's ahead is myste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fe itself is ours on l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day the Spirit says to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Go forth in peace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go in peace, but made aw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, in a needy world like thi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clearest purpose is to sh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, joy, and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9T20:42:4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5:23Z</dcterms:modified>
  <cp:revision>4</cp:revision>
  <dc:subject/>
  <dc:title>No Slide Title</dc:title>
</cp:coreProperties>
</file>