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Is Br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Eng:2; Ch:6(v 1); Eng/Ch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cr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for all is brok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drank the cup on Golgoth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ace we trust, and spread with rever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holy feast, and thus rememb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ly fear we seek thy pres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distressed by people's grief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oly face is stained with bitter t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uman pain still bearest thou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pray, come thou among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en our eyes, brightly appe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, heaven's joy un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ife with thine forever blend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u shi zhi shen, wei zhong-sheng bok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ai Gulou di, tong in kube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g en xin-zhong, feng ming chang jin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g she sheng-yan, zhuii dang ni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for all is brok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drank the cup on Golgoth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u shi zhi shen, wei zhong-sheng bok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ai Gulou di, tong in kube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ace we trust, and spread with rever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holy feast, and thus rememb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g en xin-zhong, feng ming chang jin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g she sheng-yan, zhuii dang ni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3:00:04Z</dcterms:created>
  <dc:creator>Gary Wintergerst</dc:creator>
  <dc:description/>
  <dc:language>en-US</dc:language>
  <cp:lastModifiedBy>Gary Wintergerst</cp:lastModifiedBy>
  <cp:lastPrinted>1995-12-25T20:38:26Z</cp:lastPrinted>
  <dcterms:modified xsi:type="dcterms:W3CDTF">1999-11-25T22:12:31Z</dcterms:modified>
  <cp:revision>6</cp:revision>
  <dc:subject/>
  <dc:title>No Slide Title</dc:title>
</cp:coreProperties>
</file>