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el Pobr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(When the Poor Ones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3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79f"/>
                </a:solidFill>
                <a:latin typeface="Arial"/>
              </a:rPr>
              <a:t>(Sp:2; Eng:11; Sp/Eng:2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1 Ediciones Paulin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7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poor ones who have nothing share with strange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thirsty water give unto us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crippled in their weakness strengthen othe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we know that God still goes that road with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we know that God still goes that road with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at last all those who suffer find their comfo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y hope though even hope seems hopeless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love though hate at times seems all around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we know that God still goes that road with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we know that God still goes that road with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our joy fills up our cup to overflow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our lips can speak no words other than tru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know that love for simple things is bet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we know that God still goes that road with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we know that God still goes that road with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our homes are filled with goodness in abundan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learn how to make peace instead of w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each stranger that we meet is called a neighb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we know that God still goes that road with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we know that God still goes that road with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el pobre nada tiene y aun repart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el hombre pasa sed y agua nos d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el débil a su hermano fortale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el pobre nada tiene y aun repart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el hombre pasa sed y agua nos d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ts val="58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When the poor ones who have nothing share with strangers,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thirsty water give unto us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5080" y="34290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el débil a su hermano fortale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crippled in their weakness strengthen othe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 Dios mismo en nuestro mismo camin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 Dios mismo en nuestro mismo camin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we know that God still goes that road with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we know that God still goes that road with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sufre un hombre y logra su consuel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espera y no se cansa de esper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at last all those who suffer find their comfo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ts val="58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when they hope though even hope seems hopelessness,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876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amamos, aunque el odio nos rod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love though hate at times seems all around 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 Dios mismo en nuestro mismo camin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 Dios mismo en nuestro mismo camin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we know that God still goes that road with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we know that God still goes that road with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crece la alegria y nos inund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dicen nuestros labios la verd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our joy fills up our cup to overflow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our lips can speak no words other than tru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amamos el sentir de los sencillo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know that love for simple things is bett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5080" y="327672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 Dios mismo en nuestro mismo camin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 Dios mismo en nuestro mismo camin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we know that God still goes that road with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we know that God still goes that road with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abunda el bien y llena los hogar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our homes are filled with goodness in abundan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 Dios mismo en nuestro mismo camin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 Dios mismo en nuestro mismo camin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un hombre donde hay guerra pone paz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"hermano" le llamamos al extran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learn how to make peace instead of w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each stranger that we meet is called a neighbo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35080" y="34290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 Dios mismo en nuestro mismo camin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 Dios mismo en nuestro mismo camin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we know that God still goes that road with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we know that God still goes that road with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sufre un hombre y logra su consuel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espera y no se cansa de esper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amamos, aunque el odio nos rod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 Dios mismo en nuestro mismo camin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 Dios mismo en nuestro mismo camin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crece la alegria y nos inund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dicen nuestros labios la verd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amamos el sentir de los sencill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 Dios mismo en nuestro mismo camin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 Dios mismo en nuestro mismo camin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abunda el bien y llena los hogar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un hombre donde hay guerra pone paz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"hermano" le llamamos al extran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 Dios mismo en nuestro mismo camin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 Dios mismo en nuestro mismo camin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1T15:38:26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6:01Z</dcterms:modified>
  <cp:revision>5</cp:revision>
  <dc:subject/>
  <dc:title>No Slide Title</dc:title>
</cp:coreProperties>
</file>