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48769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of Mank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 and Father of man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our foolish w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othe us in our rightful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urer lives thy service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eeper reverence,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imple trust like theirs who 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the Syrian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ious calling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, like them, without a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 and follow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bbath rest by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alm of hill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esus knelt to share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ce of eter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erpreted by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op thy still dews of quie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our strivings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from our souls the strain and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ordered lives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y of th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through the heats of our des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oolness and thy bal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ense be dumb, let flesh ret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hrough the earth-quake, wind, and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ill, small voice of cal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6:20:12Z</dcterms:created>
  <dc:creator>Gary Wintergerst</dc:creator>
  <dc:description/>
  <dc:language>en-US</dc:language>
  <cp:lastModifiedBy>Gary Wintergerst</cp:lastModifiedBy>
  <cp:lastPrinted>1995-08-03T13:21:40Z</cp:lastPrinted>
  <dcterms:modified xsi:type="dcterms:W3CDTF">1999-11-25T22:05:32Z</dcterms:modified>
  <cp:revision>3</cp:revision>
  <dc:subject/>
  <dc:title>No Slide Title</dc:title>
</cp:coreProperties>
</file>