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Sun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6 G. Schirmer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o Oo Come Sunday, oh, come Sunday, that's the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dear Lord above, God Almighty, God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look down and see my people throu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believe that God put sun and moon up in the sk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on't mind the gray skies, cause they're just clouds passing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dear Lord above, God Almighty, God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look down and see my people throu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is a goodness time, a brighter light on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unto others as you would have them do unto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ave a brighter by and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dear Lord above, God Almighty, God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look down and see my people throu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believe God is now, was then, and always will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od's blessing we can make it through eter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dear Lord above, God Almighty, God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look down and see my people throu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2T13:30:28Z</dcterms:created>
  <dc:creator>Gary Wintergerst</dc:creator>
  <dc:description/>
  <dc:language>en-US</dc:language>
  <cp:lastModifiedBy>Gary Wintergerst</cp:lastModifiedBy>
  <cp:lastPrinted>1996-01-02T15:12:20Z</cp:lastPrinted>
  <dcterms:modified xsi:type="dcterms:W3CDTF">1999-11-25T22:13:08Z</dcterms:modified>
  <cp:revision>5</cp:revision>
  <dc:subject/>
  <dc:title>No Slide Title</dc:title>
</cp:coreProperties>
</file>