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Y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mpet, B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ye the trumpet, blow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adly solemn s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nations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arth's remotest bou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great high pri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full atonement ma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eary spirits,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mournful souls, be gla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ol the Lamb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ll-atoning La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mption in his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orld proclaim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spel trumpet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ws of heavenly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ved from earth, app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your Savior's f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slaves of sin and h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berty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fe in Jesus d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t in Jesus' liv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have sold for nou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eritage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have it back unb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 of Jesus' lov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30:5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0Z</dcterms:modified>
  <cp:revision>3</cp:revision>
  <dc:subject/>
  <dc:title>No Slide Title</dc:title>
</cp:coreProperties>
</file>