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Thi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, O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aused the Lord of bli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the dreadful cur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oul, for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the dreadful cur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, O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aused the Lord of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ay aside his cr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oul, for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ay aside his cr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nd to the Lamb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ing, I will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nd to the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nd to the Lamb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the great I 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millions join the the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ing, I will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millions join the the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from death I'm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on, I'll sing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from death I'm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from death I'm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and joyfu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etern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on, I'll sing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etern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27:1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5:06Z</dcterms:modified>
  <cp:revision>2</cp:revision>
  <dc:subject/>
  <dc:title>No Slide Title</dc:title>
</cp:coreProperties>
</file>