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 Tak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re of You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30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not dismayed whate'er bet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 take care of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neath his wings of love ab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 take care of yo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 take care of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every day, o'er all the 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take care of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 take care of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days of toil when heart doth fa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 take care of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dangers fierce your path assa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 take care of yo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 take care of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every day, o'er all the 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take care of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 take care of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you may need he will prov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 take care of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you ask will be deni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 take care of yo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 take care of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every day, o'er all the 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take care of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 take care of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matter what may be the t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 take care of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n, weary one, upon his bre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 take care of yo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 take care of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every day, o'er all the 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take care of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 take care of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2T18:10:04Z</dcterms:created>
  <dc:creator>Gary Wintergerst</dc:creator>
  <dc:description/>
  <dc:language>en-US</dc:language>
  <cp:lastModifiedBy>Gary Wintergerst</cp:lastModifiedBy>
  <cp:lastPrinted>1995-07-02T18:21:44Z</cp:lastPrinted>
  <dcterms:modified xsi:type="dcterms:W3CDTF">1999-11-25T22:04:04Z</dcterms:modified>
  <cp:revision>4</cp:revision>
  <dc:subject/>
  <dc:title>No Slide Title</dc:title>
</cp:coreProperties>
</file>