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L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Sweetly Jo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let us sweetly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o praise in hymns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e all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our common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s and hearts and voice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s in the ancient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date the joy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e feast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ear expected Gu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bidden to the f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self our hearts prep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sit, and banque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ify us, Lord, and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thy Spirit, give thy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yself within us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our feast a feast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9:48Z</dcterms:created>
  <dc:creator>Gary Wintergerst</dc:creator>
  <dc:description/>
  <dc:language>en-US</dc:language>
  <cp:lastModifiedBy>Gary Wintergerst</cp:lastModifiedBy>
  <cp:lastPrinted>1995-12-28T04:47:12Z</cp:lastPrinted>
  <dcterms:modified xsi:type="dcterms:W3CDTF">1999-11-25T22:12:56Z</dcterms:modified>
  <cp:revision>4</cp:revision>
  <dc:subject/>
  <dc:title>No Slide Title</dc:title>
</cp:coreProperties>
</file>