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o'er the tumu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life's wild, restless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 his sweet voice sound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, "Christian, follow m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f old the apostles heard 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Galilean l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ed from home and toil and kind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all for Jesus' s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from the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vain world's golden st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ch idol that would keep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, "Christian, love me mor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joys and in our sor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toil and hours of 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 calls, in cares and pleas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ian, love me more than thes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! By thy merc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may we hear thy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ur hearts to thine obedi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and love thee best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5:00:26Z</dcterms:created>
  <dc:creator>Gary Wintergerst</dc:creator>
  <dc:description/>
  <dc:language>en-US</dc:language>
  <cp:lastModifiedBy>Gary Wintergerst</cp:lastModifiedBy>
  <cp:lastPrinted>1995-08-07T14:55:28Z</cp:lastPrinted>
  <dcterms:modified xsi:type="dcterms:W3CDTF">1999-11-25T22:05:48Z</dcterms:modified>
  <cp:revision>4</cp:revision>
  <dc:subject/>
  <dc:title>No Slide Title</dc:title>
</cp:coreProperties>
</file>