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m Goin’ a Sing Wh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pirit Says S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3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m goin’ a sing when the Spirit says s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m goin’ a sing when the Spirit says s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m goin’ a sing when the Spirit says s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bey the Spirit of th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m goin’ a pray when the Spirit says pr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m goin’ a pray when the Spirit says pr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m goin’ a pray when the Spirit says pr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bey the Spirit of th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m goin’ a moan when the Spirit says moa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m goin’ a moan when the Spirit says moa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m goin’ a moan when the Spirit says moa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bey the Spirit of th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m goin’ a shout when the Spirit says shou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m goin’ a shout when the Spirit says shou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m goin’ a shout when the Spirit says shou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bey the Spirit of th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1T16:09:20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5:22Z</dcterms:modified>
  <cp:revision>6</cp:revision>
  <dc:subject/>
  <dc:title>No Slide Title</dc:title>
</cp:coreProperties>
</file>