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Your W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9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7 United Church of Christ in Jap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74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your Word, O Lord, like the r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lling down upon the ear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your Word. We seek your endles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souls that hunger and thir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rrow and agoniz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ould all be lost in dark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your guiding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your Word, O Lord, like the w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owing down upon the ear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your Word. We seek your wondrous p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reness that reject all si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they persist and cl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us to complete victo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t us all free inde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your Word, O Lord, like the de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gently upon the hill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your Word. We seek your endless l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life that suffers in strif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dversities and hur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your healing power of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ong for your new wor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08:42:1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4:30Z</dcterms:modified>
  <cp:revision>4</cp:revision>
  <dc:subject/>
  <dc:title>No Slide Title</dc:title>
</cp:coreProperties>
</file>