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Well W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o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7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peace, like a river, attendeth my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sorrows like sea billows ro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ever my lot, thou hast taught me to s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well, it is well with my sou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well with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well, it is well with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Satan should buffet, though trials should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is blest assurance contro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Christ has regarded my helpless esta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ath shed his own blood for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well with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well, it is well with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in, oh, the bliss of this glorious though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in, not in part but the who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nailed to the cross, and I bear it no m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, praise the Lord, O my sou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well with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well, it is well with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, Lord, haste the day when my faith shall be s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louds be rolled back as a scro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ump shall resound, and the Lord shall desc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n so, it is well with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well with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well, it is well with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3:29:0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39Z</dcterms:modified>
  <cp:revision>4</cp:revision>
  <dc:subject>UMH</dc:subject>
  <dc:title>It Is Well With My Soul</dc:title>
</cp:coreProperties>
</file>