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the Almigh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wer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5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the almighty power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ade the mountains 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pread the flowing seas abro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uilt the lofty ski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the wisdom that ordain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un to rule the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oon shines full at God's comm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e stars obe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the goodness of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filled the earth with f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formed the creatures thru the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n pronounced them go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ow thy wonders are display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'er I turn my ey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I survey the ground I t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gaze upon the sk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not a plant or flower be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makes thy glories 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louds arise, and tempests b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order from thy thr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all that borrows life from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ever in thy c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ywhere that we can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, God, art present t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0T19:45:10Z</dcterms:created>
  <dc:creator>Gary Wintergerst</dc:creator>
  <dc:description/>
  <dc:language>en-US</dc:language>
  <cp:lastModifiedBy>Gary Wintergerst</cp:lastModifiedBy>
  <cp:lastPrinted>1995-07-05T21:57:44Z</cp:lastPrinted>
  <dcterms:modified xsi:type="dcterms:W3CDTF">1999-11-25T22:04:12Z</dcterms:modified>
  <cp:revision>3</cp:revision>
  <dc:subject/>
  <dc:title>No Slide Title</dc:title>
</cp:coreProperties>
</file>