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the H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 Is T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the home when God is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fills every br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ne their wish, and one their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e their heavenly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the home where Jesus'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sweet to every 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hildren early speak his f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arents hold him d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the home where prayer is he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ise is wont to r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parents love the sacred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its wisdom priz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us in our homes agr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blessed peace to 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te our hearts in lov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to all will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6:09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06Z</dcterms:modified>
  <cp:revision>4</cp:revision>
  <dc:subject/>
  <dc:title>No Slide Title</dc:title>
</cp:coreProperties>
</file>