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wondrou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ich the Prince of Glory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chest gain I count but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our contempt on all my pr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it, Lord, that I should b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n the death of Christ, my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vain things that charm me 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acrifice them to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from his head, his hands,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love flow mingled d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e'er such love and sorrow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horns compose so rich a crow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the whole realm of nature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re an offering far too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o amazing,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mands my soul, my life,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7:4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8Z</dcterms:modified>
  <cp:revision>3</cp:revision>
  <dc:subject/>
  <dc:title>No Slide Title</dc:title>
</cp:coreProperties>
</file>