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 Their Freedo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8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et my people seek their freedo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wilderness awhi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slave pens of the Delt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ghettos on the Nile"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God spoke from out of Sina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God spoke and it was d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 people crossed the wate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ward the rising of the su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et my people seek their freedo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wilderness awhi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aging shrines and structu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cloister and the aisle"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he Son of God has spo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storm clouds are unfur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God's people must be scatter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servants in the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murmur on the mountai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old Egyptian pla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miss our ancient bond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hope, the promise, wan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the rock shall yield its wat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manna fall by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th visions of a futu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we march toward the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aelstrom of the natio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journeying into sp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clash of generatio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hungering for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agony and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alled to newer way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Lord of our tomorrow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God of earth's today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9:13:1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26Z</dcterms:modified>
  <cp:revision>4</cp:revision>
  <dc:subject/>
  <dc:title>No Slide Title</dc:title>
</cp:coreProperties>
</file>