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he Healer Passed Through Galil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Stainer &amp; Bell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he healer passed through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f came to hear and the blind came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alyzed man was let down through a roo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ins were forgiven, his walking the proo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th of his daughter caused Jairus to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took her hand, and he raised her from sl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lind Bartimaeus cried out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 made him whole and his sight wa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epers were healed and the demons cast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nt woman straightened to laugh and to sh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welve were commissioned and sent out in tw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sick whole and to spread the good new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till so much sickness and suffering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together for healing and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7:0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5Z</dcterms:modified>
  <cp:revision>3</cp:revision>
  <dc:subject/>
  <dc:title>No Slide Title</dc:title>
</cp:coreProperties>
</file>