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name of Jesus with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sorrow and of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joy and comfort giv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hen, where'er you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name of Jesus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shield from every sn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emptations round you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at holy name in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recious name of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t thrills our souls with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is loving arms rece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ongs our tongues emplo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 b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prostrate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in heaven we'll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urney is comple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6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6Z</dcterms:modified>
  <cp:revision>3</cp:revision>
  <dc:subject/>
  <dc:title>No Slide Title</dc:title>
</cp:coreProperties>
</file>