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God Who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haped Creation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443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279f"/>
                </a:solidFill>
                <a:latin typeface="Symbol"/>
                <a:ea typeface="Symbol"/>
              </a:rPr>
              <a:t>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1989 The UM Publ. Hou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mercy and compassion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r goodness is revealed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 tenderness you touch u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broken hearts are healed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 claim us as your childre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 strip our prideful sham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 freedom born of mercy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bless your holy name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God who shaped creation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t earth's chaotic daw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r word of power was spoke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lo! the dark was gone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 framed us in your imag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 brought us into birth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 blessed our infant footstep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shared your splendored earth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God, with pain and anguish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 mother sees her child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mbark on dead-end pathway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uring, but defiled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o too your heart is broken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hate and lust increas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worlds you birthed and nurtured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purn ways that lead to peac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though your heart is broken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people scorn your way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 never cease your searching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rough evil's darksome maz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when we cease our runn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r joys, O God, abound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ike joy of searching woman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treasured coin is foun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God, when trinkets tarnish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pleasures lose their charm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, wearied by our wander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seek your opened arm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 motherlike compassion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 share your warm embrac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 set for us a banquet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heal us through your grac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1-03T12:09:56Z</dcterms:created>
  <dc:creator>Gary Wintergerst</dc:creator>
  <dc:description/>
  <dc:language>en-US</dc:language>
  <cp:lastModifiedBy>Gary Wintergerst</cp:lastModifiedBy>
  <cp:lastPrinted>1996-01-03T12:45:56Z</cp:lastPrinted>
  <dcterms:modified xsi:type="dcterms:W3CDTF">1999-11-25T22:06:05Z</dcterms:modified>
  <cp:revision>5</cp:revision>
  <dc:subject/>
  <dc:title>No Slide Title</dc:title>
</cp:coreProperties>
</file>