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e Lamb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0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0 The UM Publ. Hous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e Lamb, the loving Lamb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amb of Calvar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amb that was sl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lives aga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intercede for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1T15:01:1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5:09Z</dcterms:modified>
  <cp:revision>3</cp:revision>
  <dc:subject/>
  <dc:title>No Slide Title</dc:title>
</cp:coreProperties>
</file>