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l Voces Para Celebr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5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Sp/Eng: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l voces para celeb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i Liberta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glorias de su majes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triunfos de s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O for a thousand tongues to sing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my great Redeemer's  praise,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the glories of my God and King,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the triumphs of his grace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buen Señor, Maestro y Dio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pueda divulg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cious Master and m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sist me to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1040" y="335268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grato nombre y su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ielo, tierra y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read through all the earth abro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nors of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760" y="327672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dulce nombre de Jesú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libra del te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! the name that charms our f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ids our sorrows cea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s tristezas traelu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al peca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usic in the sinner's 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life, and health,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truye el poder del m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brinda libert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reaks the power of canceled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ets the prisoner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as impuro puede d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za y sant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can made the foulest clea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availed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2767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habla y al oir su voz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muerto vivirá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peaks, and listening to his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life the dead recei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alegra el triste coraz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pobres hallan paz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urnful, broken hearts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umble poor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876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cuchen, sordos, al Señ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be el mundo a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him, ye deaf; his praise, ye dumb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osened tongues emplo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l voces para celeb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i Liberta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glorias de su majes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triunfos de s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ojos salten, vean h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iegos a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blind, behold your Savior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p, ye lame, for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risto, pues, conocer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gracia del perd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, your head, you then shall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feel your sins forgive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quí del cielo goz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cielo es s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icipate your heaven be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wn that love is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35268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buen Señor, Maestro y Dio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pueda divulg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grato nombre y su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ielo, tierra y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dulce nombre de Jesú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libra del te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s tristezas traelu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al peca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truye el poder del m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brinda libert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as impuro puede d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za y sant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habla y al oir su voz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muerto vivirá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alegra el triste coraz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pobres hallan paz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cuchen, sordos, al Señ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be el mundo a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ojos salten, vean h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iegos a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risto, pues, conocer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gracia del perd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quí del cielo goz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cielo es s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18:3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2:45Z</dcterms:modified>
  <cp:revision>4</cp:revision>
  <dc:subject/>
  <dc:title>No Slide Title</dc:title>
</cp:coreProperties>
</file>