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's My Shephe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Not Wa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's my shepherd, I'll not want. He makes me down to li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astures green; he leadeth me the quiet waters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he doth restore again, and me to walk doth m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e paths of righteousness, e'en for his own name's s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though I walk in death's dark vale, yet will I fear no 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art with me, and thy rod and staff me comfort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able thou hast furnished in presence of my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d thou dost with oil anoint, and my cup overflow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ness and mercy all my life shall surely follow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God's house forevermore my dwelling place shall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52:3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6Z</dcterms:modified>
  <cp:revision>3</cp:revision>
  <dc:subject/>
  <dc:title>No Slide Title</dc:title>
</cp:coreProperties>
</file>