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untry,' tis of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land of liber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e I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where my fathers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of the pilgrims' pr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mountains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freedom r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native country,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of the nobl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me I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rocks and ri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ods and templed hill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with rapture thri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at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usic swell the bree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ng from all the tr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freedom's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ortal tongues aw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at breathe part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rocks their silence br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nd pro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s'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uthor of liber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we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may our land be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reedom's holy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tect us by thy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God, our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20:3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55Z</dcterms:modified>
  <cp:revision>3</cp:revision>
  <dc:subject/>
  <dc:title>No Slide Title</dc:title>
</cp:coreProperties>
</file>