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8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laid him in the tomb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laid him in the tomb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laid him in the tomb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crucified my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crucified my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crucified my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nailed him to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nailed him to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nailed him to the tre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pierced him in the sid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pierced him in the sid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pierced him in the sid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 sun refused to shin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 sun refused to shi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 sun refused to shi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31:40Z</dcterms:created>
  <dc:creator>Gary Wintergerst</dc:creator>
  <dc:description/>
  <dc:language>en-US</dc:language>
  <cp:lastModifiedBy>Gary Wintergerst</cp:lastModifiedBy>
  <cp:lastPrinted>1995-07-27T21:25:40Z</cp:lastPrinted>
  <dcterms:modified xsi:type="dcterms:W3CDTF">1999-11-25T22:05:04Z</dcterms:modified>
  <cp:revision>3</cp:revision>
  <dc:subject/>
  <dc:title>No Slide Title</dc:title>
</cp:coreProperties>
</file>