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cred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ound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cred Head, now w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ief and shame weighed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scornfully surrou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rns, thine only crow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pale thou art with angu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re abuse and scor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at visage langu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once was bright as mor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ou, my Lord, hast suff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all for sinners' 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, mine was the transg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ne the deadly p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re I fall, my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I deserve thy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me with thy fav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ouchsafe to me th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language shall I bo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nk thee, dearest fri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is thy dying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ity without en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ke me thine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uld I fainting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never,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live my lov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12:1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3Z</dcterms:modified>
  <cp:revision>2</cp:revision>
  <dc:subject/>
  <dc:title>No Slide Title</dc:title>
</cp:coreProperties>
</file>