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By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1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'm growing old and feeb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by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'm growing old and feeb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by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my life becomes a burd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'm nearing chilly Jord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ou Lily of the Valle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by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storms of life are rag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by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storms of life are rag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by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world is tossing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ship upon the se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who rulest wind and wa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by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midst of tribul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by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midst of tribul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by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host of hell assa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y strength begins to fa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who never lost a batt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by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midst of faults and failur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by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midst of faults and failur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by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've done the best I c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y friends misunderst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who knowest all about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by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midst of persecu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by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midst of persecu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by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my foes in war arr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dertake to stop my 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who saved Paul and Sila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by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5T18:38:24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6:31Z</dcterms:modified>
  <cp:revision>2</cp:revision>
  <dc:subject/>
  <dc:title>No Slide Title</dc:title>
</cp:coreProperties>
</file>