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Of the Marty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of the martyrs, living st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pite of dungeon, fire, and s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our hearts beat high with j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e'er we hear that glorious w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of the martyrs, holy fait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be true to thee till d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of the martyrs, we will str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in all nations un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rough the truth that comes from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shall then be truly fr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of the martyrs, holy fait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be true to thee till d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of the martyrs, we will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th friend and foe in all our str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each thee, too, as love knows h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kindly words and virtuous lif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of the martyrs, holy fait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be true to thee till d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53:1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25T22:13:01Z</dcterms:modified>
  <cp:revision>3</cp:revision>
  <dc:subject/>
  <dc:title>No Slide Title</dc:title>
</cp:coreProperties>
</file>