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in the Mo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inter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in the moon of winter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ll the birds had f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ighty Gitchi Manit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angel choirs inst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ir light the stars grew d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ing hunters heard the hym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a lodge of broken bar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nder babe was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agged robe of rabbit sk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wrapped his beauty 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the hunter braves drew n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 song rang loud and hig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arliest moon of winter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t so round and f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as the ring of glory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lpless infan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iefs from far before him kne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s of fox and beaver pel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ildren of the forest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eed of Manit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Child of earth an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orn today for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kneel before the radiant b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rings you beauty, peace, and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52:0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8Z</dcterms:modified>
  <cp:revision>3</cp:revision>
  <dc:subject/>
  <dc:title>No Slide Title</dc:title>
</cp:coreProperties>
</file>