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ftly and Tender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Call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ftly and tenderly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 for you and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on the portals he's waiting and wat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for you and fo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home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ry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nestly, tenderly,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, O sinner, come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we tarry when Jesus is plea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ding for you and for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we linger and heed not his merc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es for you and for  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home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ry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nestly, tenderly,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, O sinner, come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is now fleeting, the moments are pa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ing from you and from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dows are gathering, deathbeds are co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you and for   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home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ry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nestly, tenderly,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, O sinner, come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the wonderful love he has promi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d for you and for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e have sinned, he has mercy and pard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for you and for    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home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ry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nestly, tenderly,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, O sinner, come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4:33:26Z</dcterms:created>
  <dc:creator>Gary Wintergerst</dc:creator>
  <dc:description/>
  <dc:language>en-US</dc:language>
  <cp:lastModifiedBy>Gary Wintergerst</cp:lastModifiedBy>
  <cp:lastPrinted>1995-08-02T14:30:30Z</cp:lastPrinted>
  <dcterms:modified xsi:type="dcterms:W3CDTF">1999-11-25T22:05:28Z</dcterms:modified>
  <cp:revision>3</cp:revision>
  <dc:subject/>
  <dc:title>No Slide Title</dc:title>
</cp:coreProperties>
</file>