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moment draw from earth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that lowly waits thy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my inmost soul and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thy love, thy God, thy all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eel thy power, to hear thy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ste thy love, be all my ch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love of God, whose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depth unfathomed no one kn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from far thy beauteou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ly sigh for thy rep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pained, nor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rest, till it finds rest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 that thou hast br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ind to seek its peace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ile I seek, but find thee n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peace my wandering soul shall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en shall all my wanderings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teps to thee-ward t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a thing beneath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trives with thee my heart to sh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tear it thence and reign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every motion t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heart from earth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 hath found repose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thy sovereign aid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me from low-thoughted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this self-will from all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its hidden mazes t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thy duteous child that 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less may "Abba, Father"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23:14Z</dcterms:created>
  <dc:creator>Gary Wintergerst</dc:creator>
  <dc:description/>
  <dc:language>en-US</dc:language>
  <cp:lastModifiedBy>Gary Wintergerst</cp:lastModifiedBy>
  <cp:lastPrinted>1996-01-02T16:42:50Z</cp:lastPrinted>
  <dcterms:modified xsi:type="dcterms:W3CDTF">1999-11-25T22:05:53Z</dcterms:modified>
  <cp:revision>5</cp:revision>
  <dc:subject/>
  <dc:title>No Slide Title</dc:title>
</cp:coreProperties>
</file>