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Zion, Has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Zion, haste, thy mission high fulf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o all the world that God i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 who made all nations is not wil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oul should perish, lost in shades of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how many thousands still are l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in the darksome prisonhouse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none to tell them of the Savior's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of the life he died for them to w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o every people, tongue, and n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, in whom they live and move, i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he stooped to save his lost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ed on earth that we might live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f thine own to bear the message glorio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f thy wealth to speed them on their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thy soul for them in prayer victorio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Zion, haste to bring the brighter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37:4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0Z</dcterms:modified>
  <cp:revision>3</cp:revision>
  <dc:subject/>
  <dc:title>No Slide Title</dc:title>
</cp:coreProperties>
</file>