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Grea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Our S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velous grace of our lo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exceeds our sin and our guil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nder on Calvary's mount outpo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where the blood of the Lamb was spil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and despair, like the sea waves c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eaten the soul with infinite l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, yes, grace unt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ints to the refuge, the mighty cr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 is the stain that we cannot h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avail to wash it aw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! There is flowing a crimson 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er than snow you may be to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velous, infinite, matchles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 bestowed on all who belie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hat are longing to see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this moment his grace receiv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2:36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5Z</dcterms:modified>
  <cp:revision>3</cp:revision>
  <dc:subject/>
  <dc:title>No Slide Title</dc:title>
</cp:coreProperties>
</file>