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Know Tha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Raise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1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know that Christ is raised and dies no mo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mbraced by death, he broke its fearful ho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ur despair he turned to blazing jo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hare by water in his saving deat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born, we share with him an Easter lif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living members of a living Chris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new creation comes to life and grow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Christ's new body takes on flesh and blo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universe restored and whole will sing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4T21:17:32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12:21Z</dcterms:modified>
  <cp:revision>3</cp:revision>
  <dc:subject/>
  <dc:title>No Slide Title</dc:title>
</cp:coreProperties>
</file>