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ree K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now behold him a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nd God and sacrif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s through the earth and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ree kings of Orient 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gifts we traverse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d and fountain, moor and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yonder st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a King on Bethlehem's p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ld I bring to crown him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forever, ceasing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us all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nkincense to offer have 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ense owns a Deity n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and praising, voices 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ing God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rrh is mine; its bitter perfu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s a life of gathering g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ing, sighing, bleeding,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ed in the stone-cold tomb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30:4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2Z</dcterms:modified>
  <cp:revision>2</cp:revision>
  <dc:subject/>
  <dc:title>No Slide Title</dc:title>
</cp:coreProperties>
</file>