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tory t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o the N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H 5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avior to show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path of sorrow hath t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of the world's great peop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come to the truth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come to the truth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tory to tell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turn their hearts to the 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truth and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peace and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peac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ong to be sung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lift their hearts to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that shall conquer ev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tter the spear and s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74680" bIns="27468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tter the spear and s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message to give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who reigneth above h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us his Son to save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us that God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us that God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3:40:10Z</dcterms:created>
  <dc:creator>Gary Wintergerst</dc:creator>
  <dc:description/>
  <dc:language>en-US</dc:language>
  <cp:lastModifiedBy>Gary Wintergerst</cp:lastModifiedBy>
  <dcterms:modified xsi:type="dcterms:W3CDTF">2000-06-15T15:23:00Z</dcterms:modified>
  <cp:revision>5</cp:revision>
  <dc:subject/>
  <dc:title>No Slide Title</dc:title>
</cp:coreProperties>
</file>