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iv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aptiv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I shall be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ce me to render up my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conqueror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k in life's alar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y myself I st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rison me within thine a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ong shall be m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weak and po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t master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no spring of action 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varies with the w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nnot freely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wrought its ch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slave it with thy matchles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less it shal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ower is faint and 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have learned to ser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lacks the needed fire to g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lacks the breeze to ner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nnot drive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tself be dr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lag can only be unfur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shalt breathe from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ll is not my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made it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would reach a monarch'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ust its crown res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only stands unb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the clashing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 thy bosom it has le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und in thee its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58:2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6Z</dcterms:modified>
  <cp:revision>3</cp:revision>
  <dc:subject/>
  <dc:title>No Slide Title</dc:title>
</cp:coreProperties>
</file>