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y I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st and Ov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8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y is past and o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anks, O Lord, to the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pray thee that offensel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urs of dark may b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keep us in thy s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uard us through the coming n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joys of day are ov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ift our hearts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all on thee that sinl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urs of dark may b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make their darkness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uard us through the coming n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oils of day are ov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raise our hymn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sk that free from peri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urs of dark may b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keep us in thy s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uard us through the coming n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ou our souls' preser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, for thou dost k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many are the peril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which we have to g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Jesus Christ, O hear our c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uard and save us from them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19:44:54Z</dcterms:created>
  <dc:creator>Gary Wintergerst</dc:creator>
  <dc:description/>
  <dc:language>en-US</dc:language>
  <cp:lastModifiedBy>Gary Wintergerst</cp:lastModifiedBy>
  <cp:lastPrinted>1995-12-28T04:36:48Z</cp:lastPrinted>
  <dcterms:modified xsi:type="dcterms:W3CDTF">1999-11-25T22:12:50Z</dcterms:modified>
  <cp:revision>4</cp:revision>
  <dc:subject/>
  <dc:title>No Slide Title</dc:title>
</cp:coreProperties>
</file>