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Lord, lo, to thee I fl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Rock, my refuge that's higher than I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foes I cry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ends of earth wherever I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trength in helpless-ness, O answer m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Lord, lo, to thee I fl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Rock, my refuge that's higher than I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tent give me a dwelling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neath thy wings may I find sheltering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ift on me the sunshine of thy f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Lord, lo, to thee I fl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Rock, my refuge that's higher than I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I my vows to thee may p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t by thy faithfulness to me each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live, and on thy love my burdens l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Lord, lo, to thee I fl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Rock, my refuge that's higher than I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terday, today, fore'er the s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the heritage of all who bear thy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ansom them from sin the Savior cam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6T15:15:4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1Z</dcterms:modified>
  <cp:revision>3</cp:revision>
  <dc:subject/>
  <dc:title>No Slide Title</dc:title>
</cp:coreProperties>
</file>