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the Da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6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Galliard,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, then, wherever you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wherever you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in the dance,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nced on a Friday and the sky turned blac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hard to dance with the devil on your bac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buried my body and they thought I'd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am the dance and I still go 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, then, wherever you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wherever you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in the dance,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ut me down and I leapt up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ife that'll never, never d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live in you if you'll live i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, then, wherever you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wherever you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in the dance,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nced in the morning when the world was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danced in the moon and the stars and the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came down from heaven and I danced on the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Bethlehem I had my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, then, wherever you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wherever you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in the dance,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nced for the scribe and the Phari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y would not dance and they would not follow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nced for the fishermen, for James and Joh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ame to me and the dance went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, then, wherever you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wherever you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in the dance,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nced on the sabbath when I cured  the 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ly people said it was a sh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whipped and they stripped and they hung me hig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left me there on a cross to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0:53:24Z</dcterms:created>
  <dc:creator>Gary Wintergerst</dc:creator>
  <dc:description/>
  <dc:language>en-US</dc:language>
  <cp:lastModifiedBy>Gary Wintergerst</cp:lastModifiedBy>
  <cp:lastPrinted>1995-07-27T17:54:18Z</cp:lastPrinted>
  <dcterms:modified xsi:type="dcterms:W3CDTF">1999-11-25T22:04:54Z</dcterms:modified>
  <cp:revision>4</cp:revision>
  <dc:subject/>
  <dc:title>No Slide Title</dc:title>
</cp:coreProperties>
</file>