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Vi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5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vi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of 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be all else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that thou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y best thou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day or by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ing or sleep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esence my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82504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wisdo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 my true w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ever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 with me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nd thou on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Go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reasure thou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100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Go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ictory w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reach heaven’s jo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ight heaven’s Su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of my own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bef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be my vision,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uler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1000" y="6531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02T13:23:08Z</dcterms:created>
  <dc:creator>Gary Wintergerst</dc:creator>
  <dc:description/>
  <dc:language>en-US</dc:language>
  <cp:lastModifiedBy>Gary Wintergerst</cp:lastModifiedBy>
  <dcterms:modified xsi:type="dcterms:W3CDTF">1999-11-25T22:06:08Z</dcterms:modified>
  <cp:revision>10</cp:revision>
  <dc:subject/>
  <dc:title>No Slide Title</dc:title>
</cp:coreProperties>
</file>