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ruth, My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Way, my Truth, my Lif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way as gives us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truth as ends all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life as killeth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Light, my Feast, my Streng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light as shows a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feast as mends in leng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strength as makes his gu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Joy, my Love, my Hear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joy as none can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love as none can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heart as joys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12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7Z</dcterms:modified>
  <cp:revision>3</cp:revision>
  <dc:subject/>
  <dc:title>No Slide Title</dc:title>
</cp:coreProperties>
</file>