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Loves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91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(Cherokee, German, Japanese, and Spanish at en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liebt mich ganz gewi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nn die Bibel sagt mir di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 Kinder schwach und kle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d't Er herzlich zu sich ein. 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a, Jesus liebt mic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a, Jesus liebt mic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a, Jesus liebt mic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e Bibel sagt mir di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q ware o ais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q wa tsuyo kere b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re yowaku-pom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sore wa araji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ga Shu es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ga Shu es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ga Shu es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re o ais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isto me ama, bein los sé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 palabra me hace 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los niños son de Aque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ien es nuestro Ami go fie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isto me am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isto me am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isto me am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Biblia dice asi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loves me! This I kn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Bible tells me s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ttle ones to him belo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are weak, but he is stro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Jesus loves 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Jesus loves 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Jesus loves 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ible tells me s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loves me! This I kn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he loved so long ag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ing children on his kn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ying "Let them come to me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Jesus loves 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Jesus loves 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Jesus loves 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ible tells me s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loves me still to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ing with me on my 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nting as a friend to gi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and love to all who l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Jesus loves 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Jesus loves 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Jesus loves 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ible tells me s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sisa a ki ke yu h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oh wel a khi no hih 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su nah sti ka Tsu tse li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 hli ni ki tih ye hn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sis a ki ke yu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sis a ki ke yu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sis a ki ke yu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khi no hih se h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26T13:40:54Z</dcterms:created>
  <dc:creator>Gary Wintergerst</dc:creator>
  <dc:description/>
  <dc:language>en-US</dc:language>
  <cp:lastModifiedBy>Gary Wintergerst</cp:lastModifiedBy>
  <cp:lastPrinted>1995-07-20T21:51:08Z</cp:lastPrinted>
  <dcterms:modified xsi:type="dcterms:W3CDTF">1999-11-25T22:04:28Z</dcterms:modified>
  <cp:revision>4</cp:revision>
  <dc:subject/>
  <dc:title>No Slide Title</dc:title>
</cp:coreProperties>
</file>