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e Comes W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uds Desce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1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e comes with clouds desc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for favored sinners sl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sand, thousand saints atten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ll the triumph of his tr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Hallelujah!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appears on earth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eye shall now behold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bed in dreadful majes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ho set at naught and sold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ierced and nailed him to the t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eply wailing, deeply wailing, deeply wai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the true Messiah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ar tokens of his pass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his dazzling body bea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use of endless exult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is ransomed worshipe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what rapture, with what rapture, with what rapt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ze we on those glorious scar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a, Amen! Let all ad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on thy eternal thr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take the power and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im the kingdom for thine 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Hallelujah!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lasting God, come dow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40:36Z</dcterms:created>
  <dc:creator>Gary Wintergerst</dc:creator>
  <dc:description/>
  <dc:language>en-US</dc:language>
  <cp:lastModifiedBy>Gary Wintergerst</cp:lastModifiedBy>
  <cp:lastPrinted>1996-01-02T14:13:06Z</cp:lastPrinted>
  <dcterms:modified xsi:type="dcterms:W3CDTF">1999-11-25T22:13:04Z</dcterms:modified>
  <cp:revision>5</cp:revision>
  <dc:subject/>
  <dc:title>No Slide Title</dc:title>
</cp:coreProperties>
</file>