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Cup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59 Sacred So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cup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ift it up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quench this thirsting of my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till I want no 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cup, fill it u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46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2:34Z</dcterms:modified>
  <cp:revision>4</cp:revision>
  <dc:subject/>
  <dc:title>No Slide Title</dc:title>
</cp:coreProperties>
</file>