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; lo! his star is shi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stable while the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n a manger on the hay recli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let us lay our gifts befor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Mary's son most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the village life from day to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revealed through every task most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rist of God, the life, the truth,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on the mountain t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the listening people gathered 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birds and flowers and sky above are preac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edness which simple trust has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in his work of h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eventide before the sun was s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vine and human, in his deep rev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 made flesh, in loving service m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in the early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as of old he calleth, "Follow m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rise, all meaner service sc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thine, we give ourselves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32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3Z</dcterms:modified>
  <cp:revision>2</cp:revision>
  <dc:subject/>
  <dc:title>No Slide Title</dc:title>
</cp:coreProperties>
</file>