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k Forth, O Beauteous Heavenly L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2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sts. 2, 3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k forth, O beauteous heavenly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usher in the morn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hepherds, shrink not with affr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hear the angels warn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child, now weak in infanc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confidence and joy shall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ower of Satan brea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peace eternal mak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night of wonder, night of jo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born the Christ, our broth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s, not mighty to destro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id us love each oth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ould he quit his kingly stat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such a world of greed and hat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deep humili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cured the world's salvatio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dearest child, into our hear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ave your crib behind you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is be where the new life star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who seek and find yo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you the honor, thanks, and pra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your gifts this time of g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conquer and deli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world, and us, fore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17:00:22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40Z</dcterms:modified>
  <cp:revision>3</cp:revision>
  <dc:subject/>
  <dc:title>No Slide Title</dc:title>
</cp:coreProperties>
</file>