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Old Rugged Cro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0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I'll cherish the old rugged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my trophies at last I lay d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cling to the old rugged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xchange it some day for a cr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a hill far away stood an old rugged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emblem of suffering and sh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love that old cross where the dearest and be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 world of lost sinners was sl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I'll cherish the old rugged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my trophies at last I lay dow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cling to the old rugged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xchange it some day for a cr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at old rugged cross, so despised by the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 a wondrous attraction for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dear Lamb of God left his glory ab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ar it to dark Calvar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I'll cherish the old rugged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my trophies at last I lay d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cling to the old rugged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xchange it some day for a cr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at old rugged cross, stained with blood so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wondrous beauty I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' twas on that old cross Jesus suffered and di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pardon and sanctify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I'll cherish the old rugged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my trophies at last I lay d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cling to the old rugged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xchange it some day for a cr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old rugged cross I will ever be tru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s shame and reproach gladly b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he'll call me some day to my home far a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is glory forever I'll sha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4T13:28:0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6:26Z</dcterms:modified>
  <cp:revision>3</cp:revision>
  <dc:subject/>
  <dc:title>No Slide Title</dc:title>
</cp:coreProperties>
</file>