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 to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ign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ann J. Schultz;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By Frances E. Co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 to God who reign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all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power, the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our salv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ling balm my soul is fi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faithless murmur still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never far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rough all grief dist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ver present help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eace and joy and bles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a mother's tender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ently leads the chosen ba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, all my toilsome way a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loud thy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rth may hear the gratefu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unwearied rais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joyful in the Lord,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soul and body bear your par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who name Christ's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all praise and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who own his power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ud the wondrous sto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 each false idol from it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Lord, and Christ al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19:30Z</dcterms:created>
  <dc:creator>Gary Wintergerst</dc:creator>
  <dc:description/>
  <dc:language>en-US</dc:language>
  <cp:lastModifiedBy>Gary Wintergerst</cp:lastModifiedBy>
  <cp:lastPrinted>1995-07-01T19:36:46Z</cp:lastPrinted>
  <dcterms:modified xsi:type="dcterms:W3CDTF">2002-06-19T02:52:58Z</dcterms:modified>
  <cp:revision>4</cp:revision>
  <dc:subject/>
  <dc:title>No Slide Title</dc:title>
</cp:coreProperties>
</file>