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Assuran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6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assurance, Jesus is mi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hat a foretaste of glory divi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ir of salvation, purchase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of his Spirit, washed in his blo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story, this is my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ing my Savior all the day l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story, this is my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ing my Savior all the day 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fect submission, perfect de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sions of rapture now burst on my s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descending bring from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choes of mercy, whispers of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story, this is my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ing my Savior all the day l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story, this is my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ing my Savior all the day 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fect submission, all is at r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in my Savior am happy and bl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ing and waiting, looking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ed with his goodness, lost in his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story, this is my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ing my Savior all the day l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story, this is my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ing my Savior all the day 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18:24:48Z</dcterms:created>
  <dc:creator>Gary Wintergerst</dc:creator>
  <dc:description/>
  <dc:language>en-US</dc:language>
  <cp:lastModifiedBy>Gary Wintergerst</cp:lastModifiedBy>
  <cp:lastPrinted>1995-08-03T18:23:58Z</cp:lastPrinted>
  <dcterms:modified xsi:type="dcterms:W3CDTF">1999-11-25T22:05:36Z</dcterms:modified>
  <cp:revision>3</cp:revision>
  <dc:subject/>
  <dc:title>No Slide Title</dc:title>
</cp:coreProperties>
</file>