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ce, Frenz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lean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Oxford Univ.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ilence, frenzied, unclean spirit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ed God's healing Holy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ease your ranting! Flesh can't bear 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ee as night before the sun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's words the demon trem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its victim madly ru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crowd that was assemb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od in wonder, stunned and hush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the demons still are thr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ray cells of the mi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yrant voices, shrill and dr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isted thoughts that grip and b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ubts that stir the heart to panic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s distorting reason's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lt that makes our loving frantic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eams that cloud the soul with fr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ce, Lord, the unclean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mind and in our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your word that when we hear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demons shall dep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r our thought and calm our fee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e fractured, warring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ower of your hea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faithful, true, and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9:1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6Z</dcterms:modified>
  <cp:revision>3</cp:revision>
  <dc:subject/>
  <dc:title>No Slide Title</dc:title>
</cp:coreProperties>
</file>