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leave us free to seek you or reject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ive us room to answer "yes" or "no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ng for freedom where our truest be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iven hope and courage to unf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in freedom space and scope for drea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ok for ground where trees and plants can gr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re are walls that keep us all di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nce each other in with hate and w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is the bricks and mortar of our pri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ide of self, the prison coat we w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udge us, Lord, and in your judgment fre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t our feet in freedom's open sp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s as far as your compassion wand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the children of the human 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30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00Z</dcterms:modified>
  <cp:revision>4</cp:revision>
  <dc:subject/>
  <dc:title>No Slide Title</dc:title>
</cp:coreProperties>
</file>