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Sinn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Nee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sinners, poor and nee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 and wounded, sick and s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ready stands to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pity, love, and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irsty, come, and wel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free bounty glor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belief and true repen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race that brings you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e weary, heavy la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and ruined by th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arry till you're b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never come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conscience make you li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of fitness fondly dre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fitness he requir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o feel your need of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54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5Z</dcterms:modified>
  <cp:revision>3</cp:revision>
  <dc:subject/>
  <dc:title>No Slide Title</dc:title>
</cp:coreProperties>
</file>