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to Jord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came to Jord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baptized by Joh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did not come for pard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the sinless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to share repent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who mourn their s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ak the vital sent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hich good news begi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to share tempt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utmost woe and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and our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ie upon the cr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en the dove desce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im, the Son of M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dden years had 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ge of grace beg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ai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e vows we m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very day inva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bondage brea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our lives dire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we covet mo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the resurr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eads to Pentec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27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2Z</dcterms:modified>
  <cp:revision>3</cp:revision>
  <dc:subject/>
  <dc:title>No Slide Title</dc:title>
</cp:coreProperties>
</file>