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an and Wom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re Ma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an and woman we were ma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love be found and life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praise the Lord who made us tw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ise the Lord when two are 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love that comes to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child or parent, husband, w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Jesus lived and gave hi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our life and loving n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celebrate with him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rink the joy he offers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the simple moment sh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anges water into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esus died to liv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praise the love that, come what m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bring the dawn and clear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its to wipe all tear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us hope for what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ing where we cannot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pread the table, clear the h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elebrate till day is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peace go deep between us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y be shared by every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gh and make merry with you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aise the love that never e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19:51:04Z</dcterms:created>
  <dc:creator>Gary Wintergerst</dc:creator>
  <dc:description/>
  <dc:language>en-US</dc:language>
  <cp:lastModifiedBy>Gary Wintergerst</cp:lastModifiedBy>
  <cp:lastPrinted>1995-12-25T20:45:04Z</cp:lastPrinted>
  <dcterms:modified xsi:type="dcterms:W3CDTF">1999-11-25T22:12:35Z</dcterms:modified>
  <cp:revision>5</cp:revision>
  <dc:subject/>
  <dc:title>No Slide Title</dc:title>
</cp:coreProperties>
</file>