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ead Tha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ce Was Crown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2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ead that once was crowned with thor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crowned with glory n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royal diadem ador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ighty victor's br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ighest place that heavens afford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longs to him by r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 of kings and Lord of lor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aven's eternal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joy of all who dwell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joy of all be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hom he manifests his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rants his name to kn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m the cross with all its sh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ll its grace, is giv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name an everlasting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joy the joy of heav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suffer with their Lord bel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reign with him ab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profit and their joy to kn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ystery of his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ross he bore is life and heal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shame and death to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people's hope, his people's weal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everlasting the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8T15:59:16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5:20Z</dcterms:modified>
  <cp:revision>3</cp:revision>
  <dc:subject/>
  <dc:title>No Slide Title</dc:title>
</cp:coreProperties>
</file>