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Uni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united by th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ch to each endea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nfidence we seek th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now our prayer is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to help each other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other's cross to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ir friendly aid aff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each other's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unto thee, our living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in all things g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hast made us free ind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otless here be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the lodestone of thy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our hearts ag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 toward each other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 move towar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inseparably jo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our spirits cle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all the loving m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s in thee rece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bond of perfec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potless char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, still we pray, poss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nd that was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3T21:48:1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6Z</dcterms:modified>
  <cp:revision>2</cp:revision>
  <dc:subject/>
  <dc:title>No Slide Title</dc:title>
</cp:coreProperties>
</file>