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re Ye Abl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3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Are ye able," said the Mast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to be crucified with me?"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Yea," the sturdy dreamers answer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to the death we follow thee."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we are able. Our spirits are thin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mold them, make us, like thee, divin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guiding radiance above us shall b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beacon to God, to love, and loyalt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re ye able to rememb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a thief lifts up his ey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his pardoned soul is worth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a place in paradis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we are able. Our spirits are thin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mold them, make us, like thee, divin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guiding radiance above us shall b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beacon to God, to love, and loyalt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re ye able when the shadow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lose around you with the s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believe that spirit triumph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commend your soul to God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we are able. Our spirits are thin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mold them, make us, like thee, divin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guiding radiance above us shall b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beacon to God, to love, and loyalt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re ye able? Still the Mast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spers down eternit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eroic spirits answ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as then in Galile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we are able. Our spirits are thin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mold them, make us, like thee, divin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guiding radiance above us shall b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beacon to God, to love, and loyalt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14T13:48:04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7:04Z</dcterms:modified>
  <cp:revision>3</cp:revision>
  <dc:subject/>
  <dc:title>No Slide Title</dc:title>
</cp:coreProperties>
</file>