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in the N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in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nt from giving bi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ard our precious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is on the eart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in the crow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eping up beh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ing is allow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and you will fin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at the 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stion the Messia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 your friends and te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your heart's desir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at the f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righteous st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go in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him with your hai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in the hou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rtured to be m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your second pl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sten, think, and speak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 on the r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comed and resto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vel far and w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ness to the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 on the h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when men have fl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needs loving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your hope is de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 in the da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re and spices b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iest to mou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iest to s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53:0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9Z</dcterms:modified>
  <cp:revision>3</cp:revision>
  <dc:subject/>
  <dc:title>No Slide Title</dc:title>
</cp:coreProperties>
</file>