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951-74B2-4492-A277-864AE9CD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F68-558D-4DCE-BFF7-FB6755AA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E29-5AF2-45EA-A1D1-698FC084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6E5-E7A5-4CD8-9D7D-ABBF0BAF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FF5-4DCC-4603-9AEF-2233449E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82E-B5CA-429A-BC79-9A63A16A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C87-A0D0-4F80-A200-7458EA2A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963-908C-442C-A2BC-DF19259B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88D-9C3D-480B-8AC7-F8315449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23B-790B-4EBB-8E09-C2E550AB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C90-991C-431A-97AF-90009458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DF7-BCB7-4038-9399-FD86D488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E736-F830-46C5-B433-695FE8B1C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4:18:26Z</dcterms:created>
  <dc:creator>Gary Wintergerst</dc:creator>
  <dc:description/>
  <dc:language>en-US</dc:language>
  <cp:lastModifiedBy>Gary Wintergerst</cp:lastModifiedBy>
  <dcterms:modified xsi:type="dcterms:W3CDTF">1999-11-25T22:08:28Z</dcterms:modified>
  <cp:revision>7</cp:revision>
  <dc:subject/>
  <dc:title>No Slide Title</dc:title>
</cp:coreProperties>
</file>