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Sobera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O Jesus, My King and My Sovereign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p: 2, Eng: 9, Sp/Eng: 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ft all his glory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e lift my life from the ash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friend and my yea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arkness and light always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at my side, patient, hum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s me his comfort and che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's why I will faithfully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's my King and compan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tell me what could I give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your great goodness to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this be enough: serve and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itting my whole life to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so, then accept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only now I surrend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Rey sober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gozo es cantar su loo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King and my Sovere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oy is to sing him my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, y me ve cual herm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 y me imparte su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treats me like fami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shares all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1040" y="335268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jando su trono de 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vino a sacar de la escori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ft all his glory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e lift my life from the ash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Rey sober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gozo es cantar su lo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, y me ve cual herm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 y me imparte su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amigo anh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n sombras o en luz siempre v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friend and my yea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arkness and light always n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ciente y humilde a mi 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uda y consuelo me d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at my side, patient, hum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s me his comfort and che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eso constante lo si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él es mi Rey y mi ami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's why I will faithfully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's my King and compan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5053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¿que pudiera yo da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tanta bondad para mi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tell me what could I give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your great goodness to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35053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Me basta servirte y amar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Es todo entregarme yo a ti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this be enough: serve and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itting my whole life to the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onces acepta mi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 ti solo queda rendid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so, then accept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only now I surren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 por t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jando su trono de 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vino a sacar de la esc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amigo anh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n sombras o en luz siempre v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ciente y humilde a mi 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uda y consuelo me d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eso constante lo si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él es mi Rey y mi ami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¿que pudiera yo da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tanta bondad para mi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Me basta servirte y amar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Es todo entregarme yo a ti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onces acepta mi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 ti solo queda rend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 por t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King and my Sovere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oy is to sing him my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treats me like fami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shares all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38:3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24Z</dcterms:modified>
  <cp:revision>8</cp:revision>
  <dc:subject/>
  <dc:title>No Slide Title</dc:title>
</cp:coreProperties>
</file>