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y everlasting por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than friend or life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long my pilgrim journ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et me walk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 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long my pilgrim journ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et me walk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for ease or worldly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for fame my prayer shall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will I toil and su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let me walk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 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long my pilgrim journ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et me walk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through the vale of shadow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 me o'er life's fitful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gate of life etern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 enter, Lord,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gate of life etern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 enter, Lord,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37:3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1Z</dcterms:modified>
  <cp:revision>3</cp:revision>
  <dc:subject/>
  <dc:title>No Slide Title</dc:title>
</cp:coreProperties>
</file>