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Nat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3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6 Hymn Society of Amer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 of every n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every race and l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deem your whole cre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your almighty h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ate and fear divid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itter threats are hur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love and mercy guid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al our strife-torn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search for wealth and pow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corn of truth and r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rust in bombs that show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struction through the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pride of race and st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lindness to your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liver every n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God, we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strengthen all who lab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all may find relea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fear of rattling sab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dread of war's increa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ope and courage fal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et your voice be hea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faith that none can al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servants undergi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bright in us the vis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days when war shall c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atred and divis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way to love and pe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dawns the morning glorio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ruth and justice reig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hrist shall rule victorio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'er all the world's dom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1T15:48:02Z</dcterms:created>
  <dc:creator>Gary Wintergerst</dc:creator>
  <dc:description/>
  <dc:language>en-US</dc:language>
  <cp:lastModifiedBy>Gary Wintergerst</cp:lastModifiedBy>
  <cp:lastPrinted>1995-08-11T15:45:00Z</cp:lastPrinted>
  <dcterms:modified xsi:type="dcterms:W3CDTF">1999-11-25T22:06:01Z</dcterms:modified>
  <cp:revision>4</cp:revision>
  <dc:subject/>
  <dc:title>No Slide Title</dc:title>
</cp:coreProperties>
</file>