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ow a Ro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'er Bloom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1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The Church Pension F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ow a Rose e'er bloom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ender stem hath spru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se's lineage com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se of old have su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came, a floweret b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id the cold of win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alf spent was the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aiah 'twas foretold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ose I have in m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ary we behold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rgin Mother ki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how God's love a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bore to us a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alf spent was the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lower, whose fragrance tend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weetness fills the 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pel in glorious splend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rkness everyw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e man yet very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sin and death now sa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re our every lo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6:08:1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37Z</dcterms:modified>
  <cp:revision>3</cp:revision>
  <dc:subject/>
  <dc:title>No Slide Title</dc:title>
</cp:coreProperties>
</file>