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ladsom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ladsome light, O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Creator'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ternal splendor wea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stial, holy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avior Jesus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in your appear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ades the day's last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the lamps of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mon hymn outpou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f might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the incarnat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irit blest ado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of right belo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of holy so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on of God, lifegi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therefore, O Most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does glorif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exalt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54:58Z</dcterms:created>
  <dc:creator>Gary Wintergerst</dc:creator>
  <dc:description/>
  <dc:language>en-US</dc:language>
  <cp:lastModifiedBy>Gary Wintergerst</cp:lastModifiedBy>
  <cp:lastPrinted>1995-12-28T04:33:48Z</cp:lastPrinted>
  <dcterms:modified xsi:type="dcterms:W3CDTF">1999-11-25T22:12:51Z</dcterms:modified>
  <cp:revision>4</cp:revision>
  <dc:subject/>
  <dc:title>No Slide Title</dc:title>
</cp:coreProperties>
</file>