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B84-0967-443E-AB5E-AC1984A7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5FD-897C-4C5F-9A90-DAB11F0F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008-2377-46E8-AC98-939C07E3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CDC-1168-456F-A4EB-7BE891A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AA7-28E6-48F7-9769-B489279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C03-BE75-47B9-BEBF-8E2671E9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4A1-1DE0-411E-8739-8473407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55D-A26D-4CE2-8C47-ADDF72C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93D-3E16-4A60-9155-D40FFCF4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EAD-CAC5-4019-8953-0C42EC4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176-D800-48D1-8810-850D373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44B-FEF4-4042-9450-87E7ED4C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F651-826F-4AC3-8C6B-65297B62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4:18:26Z</dcterms:created>
  <dc:creator>Gary Wintergerst</dc:creator>
  <dc:description/>
  <dc:language>en-US</dc:language>
  <cp:lastModifiedBy>Gary Wintergerst</cp:lastModifiedBy>
  <dcterms:modified xsi:type="dcterms:W3CDTF">1999-11-25T22:13:35Z</dcterms:modified>
  <cp:revision>6</cp:revision>
  <dc:subject/>
  <dc:title>No Slide Title</dc:title>
</cp:coreProperties>
</file>