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Betwe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7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between my soul and my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ught of this world's delusive drea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renounced all sinful pleasu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is mine, there's nothing betwee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between my soul and my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that his blessed face may be se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preventing the least of his favo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 the way clear! let nothing betwe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between, like worldly pleasu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bits of life, though harmless they see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ust not my heart from him ever sev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my all, there's nothing betwee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between my soul and my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that his blessed face may be se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preventing the least of his favo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 the way clear! let nothing betwe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between, like pride or stati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lf or friends shall not interve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it may cost me much tribul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resolved, there's nothing betwee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between my soul and my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that his blessed face may be se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preventing the least of his favo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 the way clear! let nothing betwe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between, like pride or stati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lf or friends shall not interve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it may cost me much tribul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resolved, there's nothing betwee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between my soul and my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that his blessed face may be se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preventing the least of his favo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 the way clear! let nothing betwe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9T13:17:48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5:38Z</dcterms:modified>
  <cp:revision>4</cp:revision>
  <dc:subject/>
  <dc:title>No Slide Title</dc:title>
</cp:coreProperties>
</file>