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Holy Wing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avi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0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3 Gracia Grind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holy wings, O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read gently ove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me rest secure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good and ill in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e my strength and por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rock and hiding pl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my every momen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lived within thy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ash me in the wate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Noah's cleansing flo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me a willing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heart both clean and go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ake into thy keep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children great and sm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ile we sweetly slumb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fold us one and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14:47:36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25Z</dcterms:modified>
  <cp:revision>5</cp:revision>
  <dc:subject/>
  <dc:title>No Slide Title</dc:title>
</cp:coreProperties>
</file>