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Thy Peop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6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Thy people, praise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e, God of every natio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Thy people, praise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e, Lord of Hosts eterna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s of wonder, days of beauty, days of rapture filled with 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thy goodness, tell thy mercies, Tell Thy glorious m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Thy people, praise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e, praise Thee evermo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Thy people, praise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e, God of every natio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Thy people, praise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e, Lord of Hosts eterna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y blessings, for thy bounty, joyful songs to thee we s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gs of glory, songs of triumph to our God and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Thy people, praise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e, praise Thee evermo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9T22:14:56Z</dcterms:created>
  <dc:creator>Gary Wintergerst</dc:creator>
  <dc:description/>
  <dc:language>en-US</dc:language>
  <cp:lastModifiedBy>Gary Wintergerst</cp:lastModifiedBy>
  <cp:lastPrinted>1995-08-10T21:16:46Z</cp:lastPrinted>
  <dcterms:modified xsi:type="dcterms:W3CDTF">1999-11-25T22:02:47Z</dcterms:modified>
  <cp:revision>6</cp:revision>
  <dc:subject/>
  <dc:title>No Slide Title</dc:title>
</cp:coreProperties>
</file>