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Div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, O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ou this soul of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visit it with thine own ardor glow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forter, draw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y heart 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indle it, thy holy flame best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it freely b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arthly passions t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ust and ashes in its heat consum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thy glorious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ever on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the me round, the while my path illu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the yearning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hich the soul will 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far outpass the power of human tel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ne can guess it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Love create a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in the Holy Spirit makes a dwell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13:2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5Z</dcterms:modified>
  <cp:revision>3</cp:revision>
  <dc:subject/>
  <dc:title>No Slide Title</dc:title>
</cp:coreProperties>
</file>