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are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ose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arent, by whose name all parenthood is kn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n your love proclaim each family your ow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rect all parents, guarding 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onstant love as sentine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mes in which your people dw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who, a child within an earthly h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still undefiled did to adulthood co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hildren bless in every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y may all behold your f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nowing you may grow in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Spirit, who can bind our hearts in uni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ach us so to find the love from self set fr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our hearts such love increa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every home, by this rel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be the dwelling place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6:09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06Z</dcterms:modified>
  <cp:revision>6</cp:revision>
  <dc:subject/>
  <dc:title>No Slide Title</dc:title>
</cp:coreProperties>
</file>