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har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Prevai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1 World Library Publ.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harity and love prev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God is ever 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ught here together by Christ'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love are we thus b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ateful joy and holy f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charity we lea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with heart and mind and streng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ove Christ in retu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we now each other's faul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our faults conf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us love each other w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ian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trife among us be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contention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Christ the glory that we s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s his hol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recall that in our mid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wells God's begotten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members of his body joi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in him made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can exclude no race or cre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honored be God's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mon life embraces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Maker is the s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6:06:2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1Z</dcterms:modified>
  <cp:revision>4</cp:revision>
  <dc:subject/>
  <dc:title>No Slide Title</dc:title>
</cp:coreProperties>
</file>