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Faith Al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lead for faith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which by our works is sh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t is who justif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faith the grace appl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tive faith that lives with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quers hell and death and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s whom it first made who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ms the Savior in the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for this faith cont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 salvation is the 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lready is beg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lasting life is w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for this faith cont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 salvation is the 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lready is beg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lasting life is w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4:05:0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43Z</dcterms:modified>
  <cp:revision>3</cp:revision>
  <dc:subject/>
  <dc:title>No Slide Title</dc:title>
</cp:coreProperties>
</file>