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nely the Boa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76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9 The UM Publ. Hou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Storms in our lives, cruel and col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rely will arise ag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eatening lives, threatening 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life's wild sea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owerful and great, God's hand is the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rmly in contro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calm peace comes from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ace comes to my lone soul.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nely the boat, sailing at se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ssed on a cold, stormy nigh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uel the sea which seemed so wid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waves so high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ailor stood all al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ndering what to do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so helpless was h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ndering what to d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rong winds arose in all their rag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ssing the tiny lone boa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ves billowing high, tossing the boa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st and afloa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ailor stood all al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ndering what to do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so helpless was h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ndering what to d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embling with fear, deep in despai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oking for help all arou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ailor saw light from abov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Help can be fou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God is here in my small boa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ing by my sid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I trust in the Savi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in my life abid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Pleading for your mercy, O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n a sinner like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mand, O Lord, calm to the se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in Galile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lease save my life from all dang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nt a peaceful lif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please be merciful,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imes of calm and strif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2T16:20:02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25T22:06:16Z</dcterms:modified>
  <cp:revision>5</cp:revision>
  <dc:subject/>
  <dc:title>No Slide Title</dc:title>
</cp:coreProperties>
</file>