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Praise My Mak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I've Brea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praise my Maker while I've brea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my voice is lost in d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shall employ my nobler power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days of praise shall ne'er be p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life, and thought, and being l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immortality endur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 are they whose hopes re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Israel's God, who made the sk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arth and seas, with all their tr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truth forever stands sec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saves th'oppressed and feeds the po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none shall find God's promise v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pours eyesight on the bli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supports the fainting mi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ends the laboring conscience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helps the stranger in distr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idow and the fatherl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rants the prisoner sweet relea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praise my God who lends me brea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my voice is lost in d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shall employ my nobler powe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days of praise shall ne'er be p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life, and thought, and being l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immortality endur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4T19:01:48Z</dcterms:created>
  <dc:creator>Gary Wintergerst</dc:creator>
  <dc:description/>
  <dc:language>en-US</dc:language>
  <cp:lastModifiedBy>Gary Wintergerst</cp:lastModifiedBy>
  <cp:lastPrinted>1995-07-02T14:48:50Z</cp:lastPrinted>
  <dcterms:modified xsi:type="dcterms:W3CDTF">1999-11-25T22:02:45Z</dcterms:modified>
  <cp:revision>4</cp:revision>
  <dc:subject/>
  <dc:title>No Slide Title</dc:title>
</cp:coreProperties>
</file>