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Pentecost some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d the Holy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ld the Good News through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would hear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buil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stee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resting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a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ny kinds of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ny kinds of fa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olors and all ages,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imes and pla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the church is mar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t's bravely bu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t's riding, sometimes h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it's lea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 people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inging and there's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laughing and there's crying someti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it sayi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59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07:15Z</dcterms:modified>
  <cp:revision>4</cp:revision>
  <dc:subject/>
  <dc:title>No Slide Title</dc:title>
</cp:coreProperties>
</file>