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plendor of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Glory Br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7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plendor of God's glory br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ou that bringest light from l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ight of light, light's living sp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day, all days illumin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ou true Sun, on us thy glan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fall in royal radian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pirit's sanctifying bea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pon our earthly senses strea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ather, too, our prayers impl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 of glory evermo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ather of all grace and m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anish sin from our de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uide whate'er we nobly 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love all envy to subdu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ake ill fortune turn to fai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ive us grace our wrongs to be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19:35:30Z</dcterms:created>
  <dc:creator>Gary Wintergerst</dc:creator>
  <dc:description/>
  <dc:language>en-US</dc:language>
  <cp:lastModifiedBy>Gary Wintergerst</cp:lastModifiedBy>
  <cp:lastPrinted>1995-12-28T04:22:56Z</cp:lastPrinted>
  <dcterms:modified xsi:type="dcterms:W3CDTF">1999-11-25T22:12:49Z</dcterms:modified>
  <cp:revision>4</cp:revision>
  <dc:subject/>
  <dc:title>No Slide Title</dc:title>
</cp:coreProperties>
</file>