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ve He Ar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 in the grave he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ing the coming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grave he ar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mighty triumph o'er hi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 a victor from the dark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ives forever, with his saint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! He aro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Christ aro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inly they watch his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inly they seal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grave he ar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mighty triumph o'er hi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 a victor from the dark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ives forever, with his saint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! He aro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Christ aro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cannot keep its pr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re the bar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grave he ar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mighty triumph o'er hi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 a victor from the dark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ives forever, with his saint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! He aro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Christ aro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2:28:02Z</dcterms:created>
  <dc:creator>Gary Wintergerst</dc:creator>
  <dc:description/>
  <dc:language>en-US</dc:language>
  <cp:lastModifiedBy>Gary Wintergerst</cp:lastModifiedBy>
  <cp:lastPrinted>1995-08-02T12:13:40Z</cp:lastPrinted>
  <dcterms:modified xsi:type="dcterms:W3CDTF">1999-11-25T22:05:18Z</dcterms:modified>
  <cp:revision>2</cp:revision>
  <dc:subject/>
  <dc:title>No Slide Title</dc:title>
</cp:coreProperties>
</file>