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Pow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in this burning h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o ask these gifts of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ing hearts and spirits f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called us for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not the first to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nished by our fears from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courage, let us h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trumpets ringing cl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called us for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lives belong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our final loyal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aves are we whene'er we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devotion anyw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called us for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worthy of this hou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ing lives if it's thy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ing free our spirits st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called us for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50:4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22Z</dcterms:modified>
  <cp:revision>3</cp:revision>
  <dc:subject/>
  <dc:title>No Slide Title</dc:title>
</cp:coreProperties>
</file>