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Al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5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alive! Let Christians 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cross stands empty to the sk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treets and homes with praise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ove in death shall never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alive! No longer b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istant years in Palest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s to claim the here and 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well in every place and t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hroned afar, remotely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uched, unmoved by human p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daily, in the midst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avior in the Godhead reig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insult, rift, and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olor, scorn, or wealth div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uffers still, yet loves the m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s, though ever cruc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alive, and comes to b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news to this and every 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earth and all creation 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joy, with justice, love,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8:41:0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17Z</dcterms:modified>
  <cp:revision>4</cp:revision>
  <dc:subject/>
  <dc:title>No Slide Title</dc:title>
</cp:coreProperties>
</file>