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to Gr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5 Bliss Wi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to greet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dening in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rior-like and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ly as a gr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rds pass high in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grant flowers now b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gracious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y toil resu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impl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ly keep this chi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y conduct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tions calm and mi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erating 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y teaching you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serv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ing thy rich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day be bl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 Jesus'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's freed from 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blue sky's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for cotton c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in food satisf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countless nee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d hand suppl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3:18Z</dcterms:created>
  <dc:creator>Gary Wintergerst</dc:creator>
  <dc:description/>
  <dc:language>en-US</dc:language>
  <cp:lastModifiedBy>Gary Wintergerst</cp:lastModifiedBy>
  <cp:lastPrinted>1995-12-28T04:22:14Z</cp:lastPrinted>
  <dcterms:modified xsi:type="dcterms:W3CDTF">1999-11-25T22:12:48Z</dcterms:modified>
  <cp:revision>5</cp:revision>
  <dc:subject/>
  <dc:title>No Slide Title</dc:title>
</cp:coreProperties>
</file>