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Is D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is dying in the w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is touching earth with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and worship while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s the evening lamps a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life, beneath the d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universe, th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who seek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old of thy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art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deepening shadows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love enfolding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glory and the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stars that veil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sc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orever from our s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the stars, the day,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ngels, on our ey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ternal morning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dow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7:32Z</dcterms:created>
  <dc:creator>Gary Wintergerst</dc:creator>
  <dc:description/>
  <dc:language>en-US</dc:language>
  <cp:lastModifiedBy>Gary Wintergerst</cp:lastModifiedBy>
  <cp:lastPrinted>1995-12-28T04:38:28Z</cp:lastPrinted>
  <dcterms:modified xsi:type="dcterms:W3CDTF">1999-11-25T22:12:52Z</dcterms:modified>
  <cp:revision>4</cp:revision>
  <dc:subject/>
  <dc:title>No Slide Title</dc:title>
</cp:coreProperties>
</file>