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oung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less Proph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oung and fearless Proph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thy presence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our pride and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thy face 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more to hear thy challen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our nois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 to lead us forw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God's holy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oung and fearless Proph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ncient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ife is still a summ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human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our thoughts and ac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s prone to please the crow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and with humble cour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ruth with hearts uncow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rvel at the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ld thee to thy cour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ever on the hillto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e loomed the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teadfast face set forw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love and duty sh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betray so quick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ve thee ther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stand unswer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st war's blood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ate and lust and falseh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back Christ's holy s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bid false love of count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linds us to hi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ifts above the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ity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 up in us a protest 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inst our greed for weal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thers starve and hung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lead for work and heal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omes with little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out for lack of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ive their years sore burde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a gloomy d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2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5Z</dcterms:modified>
  <cp:revision>3</cp:revision>
  <dc:subject/>
  <dc:title>No Slide Title</dc:title>
</cp:coreProperties>
</file>