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earth and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all truth and power bel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your truth to make us wi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your power to make us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not known you: to the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onuments of folly so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our self-wrought mise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ade us trust ourselves the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not loved you: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reckage of our hatred sprea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ils wrought by human pr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il on unrepentant hea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ng to end this world-wide strif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we follow in your w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us all your words of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our darkness turn to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13:42Z</dcterms:created>
  <dc:creator>Gary Wintergerst</dc:creator>
  <dc:description/>
  <dc:language>en-US</dc:language>
  <cp:lastModifiedBy>Gary Wintergerst</cp:lastModifiedBy>
  <cp:lastPrinted>1996-01-03T12:43:44Z</cp:lastPrinted>
  <dcterms:modified xsi:type="dcterms:W3CDTF">1999-11-25T22:06:07Z</dcterms:modified>
  <cp:revision>4</cp:revision>
  <dc:subject/>
  <dc:title>No Slide Title</dc:title>
</cp:coreProperties>
</file>