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Long-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pected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9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long-expecte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set thy peopl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our fears and sins releas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ind our rest in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's strength and conso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all the earth thou 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desire of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of every longing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hy people to del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a child and yet a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reign in us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y gracious kingdom b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ne own eternal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 in all our hearts al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ne all sufficient me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us to thy glorious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6T14:01:46Z</dcterms:created>
  <dc:creator>Gary Wintergerst</dc:creator>
  <dc:description/>
  <dc:language>en-US</dc:language>
  <cp:lastModifiedBy>Gary Wintergerst</cp:lastModifiedBy>
  <cp:lastPrinted>1995-07-26T14:04:00Z</cp:lastPrinted>
  <dcterms:modified xsi:type="dcterms:W3CDTF">1999-11-25T22:04:30Z</dcterms:modified>
  <cp:revision>7</cp:revision>
  <dc:subject/>
  <dc:title>No Slide Title</dc:title>
</cp:coreProperties>
</file>