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. Francis Yardl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giving be to God our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all blessing, prodigal creat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and made your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come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ador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ur own holiness nor that we have str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s the peace which you, O Christ, have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and set a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 us, O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and fav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 in visi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truth, our hope, and our salv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 with joy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, O Dove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never 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Father, Son, and Holy Spi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source of every mer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now renew your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ater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peace from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2:32Z</dcterms:created>
  <dc:creator>Gary Wintergerst</dc:creator>
  <dc:description/>
  <dc:language>en-US</dc:language>
  <cp:lastModifiedBy>Gary Wintergerst</cp:lastModifiedBy>
  <cp:lastPrinted>1995-12-25T20:14:02Z</cp:lastPrinted>
  <dcterms:modified xsi:type="dcterms:W3CDTF">1999-11-25T22:12:19Z</dcterms:modified>
  <cp:revision>5</cp:revision>
  <dc:subject/>
  <dc:title>No Slide Title</dc:title>
</cp:coreProperties>
</file>