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122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22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Gre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22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Ar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22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22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77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86832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86832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1 Manna Music, Inc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22400"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sings my soul, my Savior God to the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great thou art, how great thou ar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sings my soul, my Savior God to the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great thou art, how great thou ar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 my God! when I in awesome wonde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nsider all the worlds thy hands have mad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ee the stars, I hear the rolling thund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power throughout the universe display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sings my soul, my Savior God to the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great thou art, how great thou ar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sings my soul, my Savior God to the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great thou art, how great thou ar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through the woods and forest glades I wand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ear the birds sing sweetly in the tree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I look down from lofty mountain grandeu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ear the brook, and feel the gentle breez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sings my soul, my Savior God to the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great thou art, how great thou ar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sings my soul, my Savior God to the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great thou art, how great thou ar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hen I think that God, his son not spar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nt him to die, I scarce can take it in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on the cross, my burden gladly bear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bled and died to take away my sin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sings my soul, my Savior God to the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great thou art, how great thou ar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sings my soul, my Savior God to the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great thou art, how great thou ar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Christ shall come with shout of acclamatio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ake me home, what joy shall fill my hear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I shall bow in humble adoratio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re proclaim, my God how great thou ar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21T22:02:50Z</dcterms:created>
  <dc:creator>Gary Wintergerst</dc:creator>
  <dc:description/>
  <dc:language>en-US</dc:language>
  <cp:lastModifiedBy>Gary Wintergerst</cp:lastModifiedBy>
  <dcterms:modified xsi:type="dcterms:W3CDTF">1999-11-25T22:03:27Z</dcterms:modified>
  <cp:revision>5</cp:revision>
  <dc:subject/>
  <dc:title>No Slide Title</dc:title>
</cp:coreProperties>
</file>