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, Joy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dor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8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enry Van Dyk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, joyful, we ad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glory, Lord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s unfold like flowers bef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ing to the sun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lt the clouds of sin and sad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ve the dark of doubt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r of immortal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us with the light of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y works with joy surround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and heaven reflect thy r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s and angels sing around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nter of unbroken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eld and forest, vale and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ery meadow, flashing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ting bird and flowing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us to rejoice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giving and forgiving, 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, ever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-spring of the joy of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cean depth of happy res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our Father, Christ our br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live in love are thine; teach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o love each 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s to the joy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tals, join the mighty chor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the morning stars bega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divine is reigning o'er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ing all within its sp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singing, march we on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ctors in the midst of strif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 music leads us sun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triumph song of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2T22:17:14Z</dcterms:created>
  <dc:creator>Gary Wintergerst</dc:creator>
  <dc:description/>
  <dc:language>en-US</dc:language>
  <cp:lastModifiedBy>Gary Wintergerst</cp:lastModifiedBy>
  <cp:lastPrinted>1995-07-01T09:33:58Z</cp:lastPrinted>
  <dcterms:modified xsi:type="dcterms:W3CDTF">2002-06-19T03:04:31Z</dcterms:modified>
  <cp:revision>10</cp:revision>
  <dc:subject/>
  <dc:title>No Slide Title</dc:title>
</cp:coreProperties>
</file>