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me D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me down at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ll lovely, Love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as born at Christma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and angels gave the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we the God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ncarnate, Love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we ou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rewith for sacred sig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hall be our tok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be yours and love be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 God and neighb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or plea and gift and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by highest heaven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everlasting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te in time behold him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spring of a virgin's womb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iled in flesh the Godhead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'incarnate De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d with us in flesh to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Emmanu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heaven-born Prince of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Sun of Righteous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ife to all he b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with healing in his w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d he lays his glory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at we no more may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raise us from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give us second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29:0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7Z</dcterms:modified>
  <cp:revision>3</cp:revision>
  <dc:subject/>
  <dc:title>No Slide Title</dc:title>
</cp:coreProperties>
</file>