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Low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holy, infant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bed a cattle st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en lowing, little kn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is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are winging angels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s ringing, tidings bring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is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cks were sleeping, shepherds k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gil till the morning 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the glory, heard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a gospel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rejoicing, free from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voicing, greet the morr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was bor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22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2Z</dcterms:modified>
  <cp:revision>2</cp:revision>
  <dc:subject/>
  <dc:title>No Slide Title</dc:title>
</cp:coreProperties>
</file>