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f Thou But Suffer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 to Guide The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142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f thou but suffer God to guide the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hope in God through all thy way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 will give strength, whate'er betide the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bear thee through the evil days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o trusts in God's unchanging lov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uilds on the rock that naught can mov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nly be still, and wait God's leisur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cheerful hope, with heart content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take whate'er thy Maker's pleasur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all-discerning love hath sent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know our in-most wants are know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we are called to be God's ow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ing, pray, and keep God's ways unswerving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o do thine own part faithfull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trust God's word; though undeserv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ou yet shalt find it true for the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 never yet forsook at need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soul that trusted God indee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8-30T17:03:40Z</dcterms:created>
  <dc:creator>Gary Wintergerst</dc:creator>
  <dc:description/>
  <dc:language>en-US</dc:language>
  <cp:lastModifiedBy>Gary Wintergerst</cp:lastModifiedBy>
  <cp:lastPrinted>1995-08-11T16:01:02Z</cp:lastPrinted>
  <dcterms:modified xsi:type="dcterms:W3CDTF">1999-11-25T22:04:08Z</dcterms:modified>
  <cp:revision>3</cp:revision>
  <dc:subject/>
  <dc:title>No Slide Title</dc:title>
</cp:coreProperties>
</file>