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rucified Redeem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2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rucified Redeemer, whose life-blood we have spil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 we raise our guilty hands, and humbly own our guil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ay we see your passion spread open to our gaz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rowded street, the country road, its Calvary display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ear your cry of anguish, we see your life outpour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battlefields run red with blood, our neighbors' blood, O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that other battle, the fight for daily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might is right and self is king, we see your thorn-crowned h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oaning of creation wrung out by pain and c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nguish of a million hearts that break in dumb despai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rucified Redeemer, these are your cries of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they break our selfish hearts, and love come in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08:30:34Z</dcterms:created>
  <dc:creator>Gary Wintergerst</dc:creator>
  <dc:description/>
  <dc:language>en-US</dc:language>
  <cp:lastModifiedBy>Gary Wintergerst</cp:lastModifiedBy>
  <cp:lastPrinted>1996-01-03T12:38:10Z</cp:lastPrinted>
  <dcterms:modified xsi:type="dcterms:W3CDTF">1999-11-25T22:05:57Z</dcterms:modified>
  <cp:revision>5</cp:revision>
  <dc:subject/>
  <dc:title>No Slide Title</dc:title>
</cp:coreProperties>
</file>