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ve That Wil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Let Me G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8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ve that wilt not let me 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rest my weary soul in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give thee back the life I ow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n thine ocean depths its fl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richer, fuller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ight that followest all my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yield my flickering torch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restores its borrowed 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n thy sunshine's blaze its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brighter, fairer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oy that seekest me through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annot close my heart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trace the rainbow thru the r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eel the promise is not v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morn shall tearless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ross that liftest up my h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are not ask to fly from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ay in dust life's glory d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ground there blossoms r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that shall endless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3T20:48:3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6:17Z</dcterms:modified>
  <cp:revision>3</cp:revision>
  <dc:subject/>
  <dc:title>No Slide Title</dc:title>
</cp:coreProperties>
</file>