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Up, St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p For Jes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1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up, stand up for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soldiers of the cros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high his royal bann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must not suffer los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victory unto vict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army shall he l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every foe is vanquish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hrist is Lord inde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up, stand up for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rumpet call obe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th to the mighty conflic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is his glorious d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that are brave now serve hi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gainst unnumbered fo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courage rise with dang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trength to strength oppo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up, stand up for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in his strength al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arm of flesh will fail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dare not trust your ow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t on the gospel arm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ch piece put on with pray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duty calls or dang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never wanting t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up, stand up for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trife will not be lo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day the noise of batt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next the victor's so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ose who vanquish evi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crown of life shall b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with the King of Gl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reign eternall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4T13:37:16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6:32Z</dcterms:modified>
  <cp:revision>3</cp:revision>
  <dc:subject/>
  <dc:title>No Slide Title</dc:title>
</cp:coreProperties>
</file>