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emos al Seño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(Let's Sing Unto the Lord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4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79f"/>
                </a:solidFill>
                <a:latin typeface="Arial"/>
              </a:rPr>
              <a:t>(Sp:2; Eng:7; Sp/Eng:1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6 Resource Publ. In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is praised for greatne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o we sing to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bestows such lovely blessing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Let's sing unto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's sing unto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emos al Señ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 himno de alegrí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 cántico de amo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's sing unto the L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hymn of glad rejoic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's sing a hymn of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7360" y="3505320"/>
            <a:ext cx="85215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 nacer el nuevo dí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Él hizo el cielo, el m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new day's fresh beginn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made the sky ab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1040" y="3505320"/>
            <a:ext cx="87505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sol y las estrellas y vióen ellos bonda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es sus obras eran bella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tars, the sun, the ocean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od saw it was g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7360" y="3581280"/>
            <a:ext cx="85215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leluya! ¡Alleluya! Cantemos al Señ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leluy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Let's sing unto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5080" y="350532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emos al Señ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 himno de alabanz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exprese nuestro amo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's sing unto the L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hymn of ador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shows our love and fait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5080" y="350532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uestra fe y nuestra esperanz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toda la creació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hope of all creati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all that has been mad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1040" y="342900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gona su grandez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í nuestro cant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is praised for greatne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o we sing to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1040" y="350532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emos al Señ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 himno de alegrí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 cántico de am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 nacer el nuevo dí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Él hizo el cielo, el m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sol y las estrellas y vióen ellos bond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 anunciando su bellez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leluya! ¡Alleluya! Cantemos al Señ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bestows such lovely blessing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Let's sing unto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5080" y="350532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leluy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emos al Señ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leluy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's sing unto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5080" y="350532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es sus obras eran bella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leluya! ¡Alleluya! Cantemos al Señ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leluy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emos al Señ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 himno de alabanz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exprese nuestro am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uestra fe y nuestra esperanz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toda la creació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gona su grandez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í nuestro cant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 anunciando su bellez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leluya! ¡Alleluya! Cantemos al Señ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leluy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emos al Señ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leluy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's sing unto the L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hymn of glad rejoic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's sing a hymn of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new day's fresh beginn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made the sky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tars, the sun, the ocean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od saw it was g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ose works were filled with beaut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Let's sing unto the Lord.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's sing unto the L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hymn of ador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shows our love and fai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hope of all creati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all that has been ma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9T16:48:10Z</dcterms:created>
  <dc:creator>Gary Wintergerst</dc:creator>
  <dc:description/>
  <dc:language>en-US</dc:language>
  <cp:lastModifiedBy>Gary Wintergerst</cp:lastModifiedBy>
  <cp:lastPrinted>1995-08-29T16:56:40Z</cp:lastPrinted>
  <dcterms:modified xsi:type="dcterms:W3CDTF">1999-11-25T22:04:11Z</dcterms:modified>
  <cp:revision>9</cp:revision>
  <dc:subject/>
  <dc:title>No Slide Title</dc:title>
</cp:coreProperties>
</file>