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rk! the Heral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gels S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4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rk! the herald angels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Glory to the newborn King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rk! the herald angels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Glory to the newborn K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ace on earth, and mercy mi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and sinners reconciled!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ful, all ye nations r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in the triumph of the ski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'angelic host procla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Christ is born in Bethlehem!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rk! the herald angels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Glory to the newborn King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by highest heaven ador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the everlasting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te in time behold him 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fspring of a virgin's womb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iled in flesh the Godhead s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'incarnate Dei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leased with us in flesh to dwe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our Emmanue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rk! the herald angels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Glory to the newborn King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 heaven-born Prince of Peac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 Sun of Righteousnes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and life to all he bring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n with healing in his wing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ld he lays his glory b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that we no more may di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to raise us from the ea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to give us second birt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2:24:4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46Z</dcterms:modified>
  <cp:revision>2</cp:revision>
  <dc:subject/>
  <dc:title>No Slide Title</dc:title>
</cp:coreProperties>
</file>