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Jesu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0</a:t>
            </a:r>
            <a:endParaRPr b="1" lang="en-US" sz="4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name I love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sing its wo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ounds like music in my 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weetest name on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first love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tells me of a Savior'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to set m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tells me of his precious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nner's perfect ple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first love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tells of one whose loving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feel my deepest wo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each sorrow bears a 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none can bear be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first love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21:50Z</dcterms:created>
  <dc:creator>Gary Wintergerst</dc:creator>
  <dc:description/>
  <dc:language>en-US</dc:language>
  <cp:lastModifiedBy>Gary Wintergerst</cp:lastModifiedBy>
  <cp:lastPrinted>1995-07-13T20:15:06Z</cp:lastPrinted>
  <dcterms:modified xsi:type="dcterms:W3CDTF">1999-11-25T22:04:19Z</dcterms:modified>
  <cp:revision>2</cp:revision>
  <dc:subject/>
  <dc:title> O How I  Love Jesus    UMH 170</dc:title>
</cp:coreProperties>
</file>