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's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light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n our darkness, he became our br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we have seen him, we have seen the Fa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peace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can serve him and despise an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lse unites us, one in God the Fath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life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 once for silver, murdered here, our br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, who redeems us, reigns with God the Fa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God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Spirit, Son, and F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God with us, my bro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9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7Z</dcterms:modified>
  <cp:revision>3</cp:revision>
  <dc:subject/>
  <dc:title>No Slide Title</dc:title>
</cp:coreProperties>
</file>