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, whose almighty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forth in beauty all the starry b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hining worlds in splen-dor through the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rateful songs before thy throne a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divine hath led us in the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free land with thee our lot is c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ruler, guardian, guide,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our law, thy paths our chosen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ar's alarms, from deadly pest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y strong arm our ever sure defen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rue religion in our hearts incr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ounteous goodness nourish us in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resh thy people on their toilsom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from night to never-ending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all our lives with love and grac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, laud, and praise be ever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3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55Z</dcterms:modified>
  <cp:revision>4</cp:revision>
  <dc:subject/>
  <dc:title>No Slide Title</dc:title>
</cp:coreProperties>
</file>