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il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ilence Now the pe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empty hands uplif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kneeling Now the ple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Father's arms in wel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hearing Now the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vessel brimmed for pou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body Now the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joyful celeb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wedding Now the so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heart forgiven lea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pirit's visit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on's epiph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Father's bles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Now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01:28Z</dcterms:created>
  <dc:creator>Gary Wintergerst</dc:creator>
  <dc:description/>
  <dc:language>en-US</dc:language>
  <cp:lastModifiedBy>Gary Wintergerst</cp:lastModifiedBy>
  <cp:lastPrinted>1995-12-25T20:23:28Z</cp:lastPrinted>
  <dcterms:modified xsi:type="dcterms:W3CDTF">1999-11-25T22:12:25Z</dcterms:modified>
  <cp:revision>5</cp:revision>
  <dc:subject/>
  <dc:title>No Slide Title</dc:title>
</cp:coreProperties>
</file>