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He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6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here! As we your peop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et to offer praise and pray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find in fuller measu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it is in Christ we sh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as in the world arou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varied skills and ar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it the coming of the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open minds and hear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re symbols to remind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our lifelong need of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re table, font, and pulp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the cross has central pl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honesty of preac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silence, as in spee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in newness and renew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Spirit comes to eac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our children find a welco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hepherd's flock and fo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s bread and wine are ta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sustains us, as of o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the servants of the Servan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in worship to expl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it means in daily l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lieve and to ad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, of church and kingdo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n age of change and doub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us faithful to the gospe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work your purpose ou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in this day's dedic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e have to give, rece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who cannot live without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dore you! We belie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35:38Z</dcterms:created>
  <dc:creator>Gary Wintergerst</dc:creator>
  <dc:description/>
  <dc:language>en-US</dc:language>
  <cp:lastModifiedBy>Gary Wintergerst</cp:lastModifiedBy>
  <cp:lastPrinted>1995-12-27T02:11:06Z</cp:lastPrinted>
  <dcterms:modified xsi:type="dcterms:W3CDTF">1999-11-25T22:12:41Z</dcterms:modified>
  <cp:revision>5</cp:revision>
  <dc:subject/>
  <dc:title>No Slide Title</dc:title>
</cp:coreProperties>
</file>