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Linda Wilberger Eg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birth of Jesus was the Maid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Mary the Maid of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belie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believes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belie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s Mary the Maid of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belie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essiah, Jesus, when he said, "I am h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e Samaritan woman who drew from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perce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perceive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perce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the Samaritan woman who drew from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perce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rising of Jesus, his glory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Mary, Joanna, and Magdal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are they, are they wh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are they who see the Lord, o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re they, are they wh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ere Mary, Joanna, and Magdal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are they, are they wh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7:2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0Z</dcterms:modified>
  <cp:revision>3</cp:revision>
  <dc:subject/>
  <dc:title>No Slide Title</dc:title>
</cp:coreProperties>
</file>