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Survey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rous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9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survey the wondrous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which the Prince of Glory d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richest gain I count but l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our contempt on all my pr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bid it, Lord, that I should bo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in the death of Christ, my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vain things that charm me m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acrifice them to his b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, from his head, his hands, his f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rrow and love flow mingled d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d e'er such love and sorrow m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thorns compose so rich a crown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the whole realm of nature m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re an offering far too sm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so amazing, so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mands my soul, my life, my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38:1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5:09Z</dcterms:modified>
  <cp:revision>2</cp:revision>
  <dc:subject/>
  <dc:title>No Slide Title</dc:title>
</cp:coreProperties>
</file>