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We Wan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ee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6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&amp; ver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64 Abingdon Pr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we want to me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thy holy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gather round thy thro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thy holy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rt our heavenly Frie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our prayers as they asce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into our hearts and minds to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thy holy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kneel in awe and f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thy holy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 God to teach us he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thy holy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e us and cleanse our hear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and guide our acts of prai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our faith from seed to flower 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thy holy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blessing, Lord, we see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thy holy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joy of thy vic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thy holy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grace alone are we sav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y flock may we be fou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mind of Christ abide in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thy holy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minds we dedicat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thy holy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t and soul consecrat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thy holy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make us whol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the sermon in this pl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s we go, lead us,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be thine 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8:41:26Z</dcterms:created>
  <dc:creator>Gary Wintergerst</dc:creator>
  <dc:description/>
  <dc:language>en-US</dc:language>
  <cp:lastModifiedBy>Gary Wintergerst</cp:lastModifiedBy>
  <cp:lastPrinted>1995-12-28T04:12:58Z</cp:lastPrinted>
  <dcterms:modified xsi:type="dcterms:W3CDTF">1999-11-25T22:12:42Z</dcterms:modified>
  <cp:revision>6</cp:revision>
  <dc:subject/>
  <dc:title>No Slide Title</dc:title>
</cp:coreProperties>
</file>