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Th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sterious Br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this mysterious b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st in Emmaus br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herewith our souls to f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y followers sp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al the volume of thy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ply the gospel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yes to see th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to know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e communing still, we mo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ou the veil re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lk with us, and our hearts shall b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lames of fervent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kindle now the heavenly z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thy mercy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our pardoned souls to fe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 and love are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49:0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2Z</dcterms:modified>
  <cp:revision>3</cp:revision>
  <dc:subject/>
  <dc:title>No Slide Title</dc:title>
</cp:coreProperties>
</file>