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Lord is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rd and King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tals, give thanks and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iumph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Savior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truth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had purged our s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ok his seat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cannot f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ules o'er earth and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eys of earth and h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to our Jesus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lorious hop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Judge shall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his servants u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ir eternal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oon shall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'archangel's voice; the trump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sound,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38:04Z</dcterms:created>
  <dc:creator>Gary Wintergerst</dc:creator>
  <dc:description/>
  <dc:language>en-US</dc:language>
  <cp:lastModifiedBy>Gary Wintergerst</cp:lastModifiedBy>
  <cp:lastPrinted>1996-01-02T14:06:50Z</cp:lastPrinted>
  <dcterms:modified xsi:type="dcterms:W3CDTF">1999-11-25T22:13:03Z</dcterms:modified>
  <cp:revision>4</cp:revision>
  <dc:subject/>
  <dc:title>No Slide Title</dc:title>
</cp:coreProperties>
</file>