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Jesus,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Life I S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6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Jesus, in whose life I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 would, but fail to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y clear light forever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ame and guide this life of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what I dream and what I d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weak days are always tw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e, oppressed by things un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whose deeds and dreams were o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3:33:4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12Z</dcterms:modified>
  <cp:revision>3</cp:revision>
  <dc:subject/>
  <dc:title>No Slide Title</dc:title>
</cp:coreProperties>
</file>