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alds Of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6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alds of Christ, who bear the King's comm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mmortal tidings in your mortal h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s on and carry swift the news you b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straight, make straight the highway of the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desert ways, dark fen, and deep mora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jungles, sluggish seas, and mountain pa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ild now the road, and falter not, nor st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pare across the earth the King's high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give us faith and strength the road to bu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 the promise of the day fulfil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ar shall be no more, and strife shall cea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the highway of the Prince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14:4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18Z</dcterms:modified>
  <cp:revision>3</cp:revision>
  <dc:subject/>
  <dc:title>No Slide Title</dc:title>
</cp:coreProperties>
</file>