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Me N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entle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me not, O gentle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t thy throne of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a sweet rel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ing there in deep contri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y unbelie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only in thy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seek thy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y wounded, broken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me by thy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spring of all my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life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have I on earth beside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in heaven but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44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9Z</dcterms:modified>
  <cp:revision>3</cp:revision>
  <dc:subject/>
  <dc:title>No Slide Title</dc:title>
</cp:coreProperties>
</file>