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piri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Ai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92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9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pirit in the ai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ing Christians everywher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ve that Christ revea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ing, working, in our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e your shyness, find your tongu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the world what God has do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n Christ has come to st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tomorrow's life to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believers break the b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a hungry child is f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ve that Christ revea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ing, working, in our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the Spirit leads the f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ing wrong and setting right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n Christ has come to st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tomorrow's life to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a stranger's not al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homeless find a h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ve that Christ revea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ing, working, in our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e Spirit fill our pra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our thoughts and change our ways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n Christ has come to st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tomorrow's life to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pirit in the ai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ing Christians everywher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ve that Christ revea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ing, working, in our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6T13:55:40Z</dcterms:created>
  <dc:creator>Gary Wintergerst</dc:creator>
  <dc:description/>
  <dc:language>en-US</dc:language>
  <cp:lastModifiedBy>Gary Wintergerst</cp:lastModifiedBy>
  <cp:lastPrinted>1995-07-20T21:51:08Z</cp:lastPrinted>
  <dcterms:modified xsi:type="dcterms:W3CDTF">1999-11-25T22:04:29Z</dcterms:modified>
  <cp:revision>4</cp:revision>
  <dc:subject/>
  <dc:title>No Slide Title</dc:title>
</cp:coreProperties>
</file>