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Shepher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ed Their Flock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shepherds watched their flocks b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seated on the 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 of the Lord came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lory shone a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lory shone ar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ear not!" said he, for mighty dr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d seized their troubled m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ad tidings of great joy I b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of humank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of human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o you, in David's town, this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born of David's l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avior, who is Christ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is shall be the s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is shall be the sig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e heavenly babe you there shall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uman view displ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eanly wrapped in swathing b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a manger l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a manger lai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spake the seraph and forth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ppeared a shining thr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ngels praising God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us addressed their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us addressed their song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ll glory be to God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earth be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will henceforth from heaven to ea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gin and never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gin and never cease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10T21:53:5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45Z</dcterms:modified>
  <cp:revision>2</cp:revision>
  <dc:subject/>
  <dc:title>No Slide Title</dc:title>
</cp:coreProperties>
</file>