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May Chur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me Comb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Hymn Society of Am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may church and home comb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ach thy perfect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entleness and love like t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none shall ever 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unworthy aims de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bue us with thy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the home let eve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ome thy dwelling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, Light divine; reveal thy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darkness else might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, Love divine, in every pl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 fellowship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steadfast faith and earnest pray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sacred vows sec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ild thou a hallowed dwelling whe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 joy and peace end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20:07:46Z</dcterms:created>
  <dc:creator>Gary Wintergerst</dc:creator>
  <dc:description/>
  <dc:language>en-US</dc:language>
  <cp:lastModifiedBy>Gary Wintergerst</cp:lastModifiedBy>
  <cp:lastPrinted>1995-12-28T04:44:50Z</cp:lastPrinted>
  <dcterms:modified xsi:type="dcterms:W3CDTF">1999-11-25T22:12:54Z</dcterms:modified>
  <cp:revision>5</cp:revision>
  <dc:subject/>
  <dc:title>No Slide Title</dc:title>
</cp:coreProperties>
</file>