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t Every Voic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1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dowed beneath thy ha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we forever sta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ue to our God, true to our native la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t every voice and 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l earth and heaven r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ng with the harmonies of libert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our rejoicing ris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gh as the listening skie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it resound loud as the rolling sea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a so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ull of the faith that the dark past has taught u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a so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ull of hope that the present has brought u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cing the rising su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our new day begu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march on 'til victory is w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ony the road we tr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itter the chastening r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elt in the days when hope unborn had die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t with a steady bea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ve not our weary fee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to the place for which our fathers sighed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have co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ver a way that with tears has been watere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have co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eading our path thru the blood of the slaughtere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t from the gloomy pa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l now we stand at las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the white gleam of our bright star is ca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our weary year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our silent tear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who hast brought us thus far on the w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who hast by thy migh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d us into the l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eep us forever in the path, we pr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st our fee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ray from the places, our God, where we met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st our heart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runk with the wine of the world, we forget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5T19:10:00Z</dcterms:created>
  <dc:creator>Gary Wintergerst</dc:creator>
  <dc:description/>
  <dc:language>en-US</dc:language>
  <cp:lastModifiedBy>Gary Wintergerst</cp:lastModifiedBy>
  <cp:lastPrinted>1995-08-07T15:04:32Z</cp:lastPrinted>
  <dcterms:modified xsi:type="dcterms:W3CDTF">2000-06-18T15:59:36Z</dcterms:modified>
  <cp:revision>7</cp:revision>
  <dc:subject/>
  <dc:title>No Slide Title</dc:title>
</cp:coreProperties>
</file>