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hepherd I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love my shepherd 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goodness faileth ne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othing lack if I am 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is min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streams of living water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ansomed soul he lead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 verdant pastures g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ood celestial feed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verse and foolish, oft I str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et in love he sought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 his shoulder gently l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me, rejoicing, brought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death's dark vale I fear no 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, dear Lord, besid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rod and staff my comfort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ross before to guide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spreadst a table in my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unction grace bestow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h, what transport of de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y pure chalice flowe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through all the length of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oodness faileth n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Shepherd, may I sing thy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y hous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55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7Z</dcterms:modified>
  <cp:revision>3</cp:revision>
  <dc:subject/>
  <dc:title>No Slide Title</dc:title>
</cp:coreProperties>
</file>