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So In Has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so in haste, my he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faith in God, and wa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hough he linger 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comes too la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cometh la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knoweth what is b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x not thyself in v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he cometh,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he cometh,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grudge the hours that 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et that wait for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oonest at the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oonest at the go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s not gained with sp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hold thee still,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shall wait his l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08:0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09Z</dcterms:modified>
  <cp:revision>3</cp:revision>
  <dc:subject/>
  <dc:title>No Slide Title</dc:title>
</cp:coreProperties>
</file>