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ile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wounded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l the sin-sick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I feel discourag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ink my work's in v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n the Holy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ives my soul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wounded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l the sin-sick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't ever feel discourag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Jesus is your fri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you look for knowled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ll ne'er refuse to l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wounded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l the sin-sick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can't preach like Pe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can't pray like Pa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tell the love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y he died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wounded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l the sin-sick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21:57:06Z</dcterms:created>
  <dc:creator>Gary Wintergerst</dc:creator>
  <dc:description/>
  <dc:language>en-US</dc:language>
  <cp:lastModifiedBy>Gary Wintergerst</cp:lastModifiedBy>
  <cp:lastPrinted>1995-08-03T21:59:54Z</cp:lastPrinted>
  <dcterms:modified xsi:type="dcterms:W3CDTF">1999-11-25T22:05:39Z</dcterms:modified>
  <cp:revision>4</cp:revision>
  <dc:subject/>
  <dc:title>No Slide Title</dc:title>
</cp:coreProperties>
</file>