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d Who Mak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inds That B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3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3 Thomas H. Troeg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d who makes all winds that b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sts that bend the sapling 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les that heave the sea in wa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rrings in the mind's deep cave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im your breath with steady p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your church, this day, this hou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, renew the life we've l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God of Penteco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e who fuels all fires that b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s around which planets t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cons marking reefs and shoa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truth to guide our soul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us as once you c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rst in tongues of sacred fl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and Power, Might and Streng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your church, its breadth and leng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wind and fl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within our mortal fr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our hearts an altar py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dle them with your own fi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 and blow upon that blaz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our lives, our deeds, and w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that tongue which every l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grace shall underst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15:13:2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06Z</dcterms:modified>
  <cp:revision>4</cp:revision>
  <dc:subject/>
  <dc:title>No Slide Title</dc:title>
</cp:coreProperties>
</file>