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Martin &amp; Morris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breath of the Lord now breathe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breath of the Lord now breath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2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5Z</dcterms:modified>
  <cp:revision>4</cp:revision>
  <dc:subject/>
  <dc:title>No Slide Title</dc:title>
</cp:coreProperties>
</file>