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So Sw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rust In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6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so sweet to trust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ake him at his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to rest upon his prom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know, "Thus saith the Lord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how I trust him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've proved him o'er and o'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precious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grace to trust him 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sweet to trust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to trust his cleansing b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simple faith to plunge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th the healing, cleansing fl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how I trust him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've proved him o'er and o'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precious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grace to trust him 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'tis sweet to trust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from sin and self to c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from Jesus simply tak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and rest, and joy and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how I trust him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've proved him o'er and o'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precious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grace to trust him 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 glad I learned to trust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Jesus, Savior, fri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know that thou art wi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t be with me to the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how I trust him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've proved him o'er and o'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precious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grace to trust him 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3:21:0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10Z</dcterms:modified>
  <cp:revision>3</cp:revision>
  <dc:subject/>
  <dc:title>No Slide Title</dc:title>
</cp:coreProperties>
</file>