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On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Jan-Lee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it begin wi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ace that was meant to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 our creat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all are 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alk with each o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rfect harmo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eace begin wi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e the moment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step I t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e my solemn v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each moment and live each mom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ace eternal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it begin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16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5:59Z</dcterms:modified>
  <cp:revision>4</cp:revision>
  <dc:subject/>
  <dc:title>No Slide Title</dc:title>
</cp:coreProperties>
</file>