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Ros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16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 angel came from heave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rolled the stone aw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 angel came from heave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rolled the stone aw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 angel came from heave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rolled the stone awa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 Lord will bear my spirit ho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rose, he rose, he rose from the dea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rose, he rose, he rose from the dea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rose, he rose, he rose from the dea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 Lord will bear my spirit ho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y crucified my Savio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nailed him to the tr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y crucified my Savio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nailed him to the tr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y crucified my Savio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nailed him to the tre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 Lord will bear my spirit ho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rose, he rose, he rose from the dea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rose, he rose, he rose from the dea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rose, he rose, he rose from the dea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 Lord will bear my spirit ho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Joseph begged his bod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laid it in the tomb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Joseph begged his bod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laid it in the tomb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Joseph begged his bod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laid it in the tomb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 Lord will bear my spirit ho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rose, he rose, he rose from the dea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rose, he rose, he rose from the dea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rose, he rose, he rose from the dea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 Lord will bear my spirit ho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ster Mary she came runn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-looking for my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ster Mary she came runn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-looking for my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ster Mary she came runn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-looking for my L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 Lord will bear my spirit ho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rose, he rose, he rose from the dea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rose, he rose, he rose from the dea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rose, he rose, he rose from the dea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 Lord will bear my spirit ho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9-23T08:35:54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05:16Z</dcterms:modified>
  <cp:revision>3</cp:revision>
  <dc:subject/>
  <dc:title>No Slide Title</dc:title>
</cp:coreProperties>
</file>