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ou the Gift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8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ou the gifts our hands have brou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ou the work our hearts have plann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s is the faith, the will, the thou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st, O God, is in thy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16:5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26Z</dcterms:modified>
  <cp:revision>3</cp:revision>
  <dc:subject/>
  <dc:title>No Slide Title</dc:title>
</cp:coreProperties>
</file>