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ly the Prese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2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7 Lanny Wolfe Mus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ly the presence of the Lord is in this pl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an feel his mighty power and his g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an hear the brush of angel's w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ee glory on each f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ly the presence of the Lord is in this pl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8T16:05:0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20Z</dcterms:modified>
  <cp:revision>3</cp:revision>
  <dc:subject/>
  <dc:title>No Slide Title</dc:title>
</cp:coreProperties>
</file>