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ock Your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earest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ock your reign, O dearest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made a crown of thor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you with taunts along that 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hich no one ret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lorious is that cr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rns would flower upon your b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orrows heal our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ock acclaim, O gra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natched a purple clo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assion turned, for all they c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soldier's jo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gh we merit b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your role of mercy th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our naked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ceptered reed, O patient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thrust into your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cted out their grim char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ts appointed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mpires rise and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shall not cease to g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 embrace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6:59:4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3Z</dcterms:modified>
  <cp:revision>3</cp:revision>
  <dc:subject/>
  <dc:title>No Slide Title</dc:title>
</cp:coreProperties>
</file>