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ow on earth have un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the Three in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 through faith commun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whose rest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happy ones, and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grace that w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m, the meek and low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gh may dwell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Jesus Christ our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is new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he came and sought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ight ever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ving servant peo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death set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forth from every n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ne o'er all the ear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arter of salvati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ame prof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t one table f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ne hope always pres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Christ's own Spirit 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ith a scornful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sees us oppres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chisms rent asu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eresies distres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aints their watch are keep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y goes up, "How long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oon the night of weep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morn of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oil and tribul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umult of our w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it the consumm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ith the vision gl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nging eyes are bl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reat church vict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church a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21:53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0Z</dcterms:modified>
  <cp:revision>3</cp:revision>
  <dc:subject/>
  <dc:title>No Slide Title</dc:title>
</cp:coreProperties>
</file>