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Mad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Found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made the sure found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head and corners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osen of the Lord and prec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ing all the church in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Zion's help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r confidenc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is temple, where we call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of Hosts,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y faithful loving-kind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thy people as they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y fullest benedi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d within its walls al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vouchsafe to all thy serva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y ask of thee to 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y gain from thee for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lessed to re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reafter in thy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more with thee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ud and hono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ud and honor to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ud and honor to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three and ever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might and on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unending ages r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06:2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15Z</dcterms:modified>
  <cp:revision>3</cp:revision>
  <dc:subject/>
  <dc:title>No Slide Title</dc:title>
</cp:coreProperties>
</file>