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hristia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to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hristians, join to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ud praise to Christ our K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, with heart and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his throne rej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is his gracious choi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ift your hearts on hig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praises fill the sk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our guide and fri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us he'll condesc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ove shall never e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t the Lord agai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shall not end the strai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heaven's blissful sh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goodness we'll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forevermo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21:00:54Z</dcterms:created>
  <dc:creator>Gary Wintergerst</dc:creator>
  <dc:description/>
  <dc:language>en-US</dc:language>
  <cp:lastModifiedBy>Gary Wintergerst</cp:lastModifiedBy>
  <cp:lastPrinted>1995-07-10T20:57:48Z</cp:lastPrinted>
  <dcterms:modified xsi:type="dcterms:W3CDTF">1999-11-25T22:04:15Z</dcterms:modified>
  <cp:revision>3</cp:revision>
  <dc:subject/>
  <dc:title>No Slide Title</dc:title>
</cp:coreProperties>
</file>