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ike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ike a gentle spirit deep with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reins our fervent passions day b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s us strength to challenge and to w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pite the perils of our chosen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God be God wherever life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tongue bear witness to the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umankind is one by God's dec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God be God, let God be God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ike a mother eagle hovers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mighty wings of power manif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ike a gentle shepherd stills our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forts us against a peaceful br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our vain pretensions we consp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pe God's image as we see our 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 to the voice above our base desi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the sculptor, we the broken st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fretful claims of sex and 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iversal love of God shines throu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is love transcending style and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idle options we purs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48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8Z</dcterms:modified>
  <cp:revision>4</cp:revision>
  <dc:subject/>
  <dc:title>No Slide Title</dc:title>
</cp:coreProperties>
</file>