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Lead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lead me day b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steadfast, wise, and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most of all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y dear Lord loves me s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, fount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rom morn till the set of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t home, praise in chur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 everywhere on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lead me day b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follow and obe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ly your words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love ever ab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, fount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rom morn till the set of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t home, praise in chur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 everywhere on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confidence I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ous praises to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upright heart I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 care and sympath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, fount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rom morn till the set of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t home, praise in chur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 everywhere on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11:10Z</dcterms:created>
  <dc:creator>Gary Wintergerst</dc:creator>
  <dc:description/>
  <dc:language>en-US</dc:language>
  <cp:lastModifiedBy>Gary Wintergerst</cp:lastModifiedBy>
  <cp:lastPrinted>1996-01-02T16:39:00Z</cp:lastPrinted>
  <dcterms:modified xsi:type="dcterms:W3CDTF">1999-11-25T22:05:52Z</dcterms:modified>
  <cp:revision>6</cp:revision>
  <dc:subject/>
  <dc:title>No Slide Title</dc:title>
</cp:coreProperties>
</file>