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Mort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esh Keep Silen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mortal flesh keep sil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th fear and trembling st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nder nothing earthly-mi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ith blessing in his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our God to earth descende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ull homage to dem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kings, yet born of M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f old on earth he st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lords, in human vest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ody and the blood; he will give to all the faithfu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own self for heavenly f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nk on rank the host of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eads its vanguard on the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Light of light descende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realms of endless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e powers of hell may vanis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darkness clears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his feet the six-winged serap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erubim, with sleepless ey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il their faces to the pres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ith ceaseless voice they cr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Lord Most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08:04:1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28Z</dcterms:modified>
  <cp:revision>3</cp:revision>
  <dc:subject/>
  <dc:title>No Slide Title</dc:title>
</cp:coreProperties>
</file>