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rica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utifu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9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eautiful for spacious ski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mber waves of gr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purple mountains majesti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ove the fruited plai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rica! Americ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shed his grace on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thy go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brotherho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sea to shining se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eautiful for heroes prov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liberating strif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more than self their country lov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ercy more than lif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rica! Americ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God thy gold ref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all success be noble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very gain div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eautiful for patriot drea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sees beyond the year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e alabaster cities glea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dimmed by human tear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rica! Americ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mend thine every fla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firm thy soul in self-contro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liberty in la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21:16:18Z</dcterms:created>
  <dc:creator>Gary Wintergerst</dc:creator>
  <dc:description/>
  <dc:language>en-US</dc:language>
  <cp:lastModifiedBy>Gary Wintergerst</cp:lastModifiedBy>
  <cp:lastPrinted>1995-12-28T04:45:40Z</cp:lastPrinted>
  <dcterms:modified xsi:type="dcterms:W3CDTF">1999-11-25T22:12:54Z</dcterms:modified>
  <cp:revision>6</cp:revision>
  <dc:subject/>
  <dc:title>No Slide Title</dc:title>
</cp:coreProperties>
</file>