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tos y Pal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Filled with Exciteme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ng: 2; Sp:9; Sp/Eng: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at entrance to Jerusal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hosannas to the Christ, our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iving Savior who still calls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ing us to follow him with love and fai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tos y palmas esparciendo, v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ueblo alegre de Jerusalé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excitement, all the happy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cloaks and branches on the city stree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á a lo lejos se empieza a mi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ollino al Hij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n the distance they begin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ding on a donkey, comes the Son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tos y palmas esparciendo, v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ueblo alegre de Jerusalé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á a lo lejos se empieza a mi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ollino al Hij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n la entrada de Jerusalé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cantamos a Jesus el R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at entrance to Jerusal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hosannas to the Christ, our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Cristo vivo que nos llama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seguirle con amor y 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iving Savior who still calls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ing us to follow him with love and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n la entrada de Jerusalé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cantamos a Jesus el R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Cristo vivo que nos llama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seguirle con amor y 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excitement, all the happy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cloaks and branches on the city stree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n the distance they begin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ding on a donkey, comes the Son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5:04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2Z</dcterms:modified>
  <cp:revision>6</cp:revision>
  <dc:subject/>
  <dc:title>No Slide Title</dc:title>
</cp:coreProperties>
</file>