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,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Pres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, in whose presence my soul takes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whom in affliction I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omfort by day and my song in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, my salvation, my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dost thou, dear Shepherd, resort with thy sh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eed them in pastures of lov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, why in the valley of death should I w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alone in this wilderness rov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y should I wander, an alien from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cry in the desert for brea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oes will rejoice when my sorrows they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mile at the tears I have sh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ore, my dear Savior, the light of th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oul-cheering comfort im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the sweet tokens of pardoning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joy to my desolate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ooks! and ten thousands of angels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riads wait for hi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! and eternity, filled with hi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-echoes the prais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9:07:5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59Z</dcterms:modified>
  <cp:revision>2</cp:revision>
  <dc:subject/>
  <dc:title>No Slide Title</dc:title>
</cp:coreProperties>
</file>