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Under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Better By and B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 when the morning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aints of God are gathered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ell the story how we've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mptations, hidden snar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ten take us unaw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hearts are made to bl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thoughtless word or d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wonder why the t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try to do our b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'll understand it bet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 when the morning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aints of God are gathered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ell the story how we've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ossed and dr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restless sea of ti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ber skies and howling tempes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t succeed a bright sun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at land of perfect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mists have rolled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understand it bet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 when the morning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aints of God are gathered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ell the story how we've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ften destitu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things that life dem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nt of food and want of shel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rsty hills and barren lan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rusting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ccording to God's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understand it bet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 when the morning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aints of God are gathered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ell the story how we've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als dark on every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cannot under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ays that God would lea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at blessed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 guides us with his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'll follow till we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7:48:1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2Z</dcterms:modified>
  <cp:revision>3</cp:revision>
  <dc:subject/>
  <dc:title>No Slide Title</dc:title>
</cp:coreProperties>
</file>