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Be the D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ing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be the dear uniting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ill not let us 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bodies may far off re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till are one in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ed in one spirit to our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appoints we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in Jesus' footsteps t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 his work be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ever walk i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hing know be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desire, nothing est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Jesus crucifi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one who him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ch with each ag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the One, the Truth, we l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point of uni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akers of the Savior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me in mind and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joy, nor grief, nor time, nor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life, nor death can 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34:5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8Z</dcterms:modified>
  <cp:revision>3</cp:revision>
  <dc:subject/>
  <dc:title>No Slide Title</dc:title>
</cp:coreProperties>
</file>