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avior Bl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Savior bl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my Sovereign di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he devote that sacred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inners such as 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t for crimes that I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roaned upon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pity! Grace unkn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beyond deg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ight the sun in darkness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ut its glories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, the mighty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d for his own creature's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might I hide my blushing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his dear cross app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solve my heart in thank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lt mine eyes to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rops of tears can ne'er rep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of love I o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Lord, I give myself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that I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0:0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6Z</dcterms:modified>
  <cp:revision>2</cp:revision>
  <dc:subject/>
  <dc:title>No Slide Title</dc:title>
</cp:coreProperties>
</file>