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Who Clai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aith of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9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t.. 4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2 Church Pension Fu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who claim the faith of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the wonders that were do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love of God the Fath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 sin the victory w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he made the Virgin Ma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ther of his only S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were the chosen peop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t of whom the Lord did c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was the land of prom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shioned for his earthly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more blessed far the mo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who bore him in her womb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fore let all faithful peop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the honor of her na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church, in her foreshadow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rt in her thanksgiving clai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Christ's mother sang in gladn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Christ's people sing the sam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Magnify, my soul, God's greatne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y Savior I rejoi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ages call me bless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is praise I lift my voi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s cast down all the migh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lowly are his choice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08:48:2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4:31Z</dcterms:modified>
  <cp:revision>3</cp:revision>
  <dc:subject/>
  <dc:title>No Slide Title</dc:title>
</cp:coreProperties>
</file>