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In Th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in thy name, O Lord, I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aily labor to purs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, only thee, resolved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I think or speak or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 thy wisdom hath assig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cheerfully fulf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my works thy presence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ove thy good and perfect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may I set at my right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eyes mine inmost substance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bor on at thy comm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fer all my works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e delightfully empl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'er thy bounteous grace hath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un my course with even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sely walk with thee to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5:59:1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03Z</dcterms:modified>
  <cp:revision>4</cp:revision>
  <dc:subject/>
  <dc:title>No Slide Title</dc:title>
</cp:coreProperties>
</file>