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(Victory Hymn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Arial"/>
              </a:rPr>
              <a:t>[Eng: 2; Hin (v1.):9]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cr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Cha ra no may hain shisha navate.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sa nava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Jaya jaya teri ham hain gate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Jaya jaya teri ham hain gate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 jaya jaya jaya jaya h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ho aho jaya ho aho jaya ho a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 jaya jaya jaya jaya h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ho aho jaya ho a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jaya jaya jaya 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We come before thee, O Great and Holy,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reat and Hol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We bow our heads to thee, Great and Holy,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reat and Hol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Low at thy feet we bow in quiet reverence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then sing thy praises, evermore repeating: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 jaya jaya jaya jaya h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ho aho jaya ho a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jaya jaya jaya 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Lord, let us see thee, grant us a vision!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a visi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Sins and denials, dear Lord, forgive us.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forgi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Take us and keep us in thy strong protection;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safe in thy refuge, we will sing thy praises: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 jaya jaya jaya jaya ho. Jaya h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ho aho jaya ho a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jaya jaya jaya 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Tere sana mukh ham hain ate.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m hain a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12:24:20Z</dcterms:created>
  <dc:creator>Gary Wintergerst</dc:creator>
  <dc:description/>
  <dc:language>en-US</dc:language>
  <cp:lastModifiedBy>Gary Wintergerst</cp:lastModifiedBy>
  <cp:lastPrinted>1996-01-03T12:52:00Z</cp:lastPrinted>
  <dcterms:modified xsi:type="dcterms:W3CDTF">1999-11-25T22:06:16Z</dcterms:modified>
  <cp:revision>5</cp:revision>
  <dc:subject/>
  <dc:title>No Slide Title</dc:title>
</cp:coreProperties>
</file>