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ike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Lead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ike a shepherd lea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ch we need thy tender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pleasant pastures fee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use thy folds prep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bought us, thine we 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bought us, thine we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ine, thou dost befri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guardian of our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y flock, from sin def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us when we go ast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, O hear us when we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, O hear us when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promised to recei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and sinful though we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mercy to relie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o cleanse and power to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early turn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early turn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let us seek thy fav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let us do thy w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Lord and onl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y love our bosoms f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loved us, love us st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loved us, love us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0:42:02Z</dcterms:created>
  <dc:creator>Gary Wintergerst</dc:creator>
  <dc:description/>
  <dc:language>en-US</dc:language>
  <cp:lastModifiedBy>Gary Wintergerst</cp:lastModifiedBy>
  <cp:lastPrinted>1995-08-03T22:17:52Z</cp:lastPrinted>
  <dcterms:modified xsi:type="dcterms:W3CDTF">1999-11-25T22:05:41Z</dcterms:modified>
  <cp:revision>3</cp:revision>
  <dc:subject/>
  <dc:title>No Slide Title</dc:title>
</cp:coreProperties>
</file>