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Walk on, O people of God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UMH 30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Sp:2; Eng:11; Sp/Eng:2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esareo Gabaraín; trans. By George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ockwood, 198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9 Ediciones Paulin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nited Methodist  Publishing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law, God's new alli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on Calvary's summit; on the rock there towers a cro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that gives birth to new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people, a new l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brought us salv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death and rising ag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thing comes to new birt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law, God's new alli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akes into his bo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sin, enslavement, and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he destroys them he brings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's abundance, life's new jo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rings reconcili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ll things and people with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ture bursts into new flowe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law, God's new alli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embrac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souls find pardon at la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heaven's gates are reopen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sinner, to us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rael walks a journe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e live, salvation's our s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's resurrection has freed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re new worlds to expl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a ley, nueva alianz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ra allá en el Calvari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roca hay una cruz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law, God's new alli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a ley, nueva alianz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law, God's new alliance,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ra allá en el Calvari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roca hay una cruz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on Calvary's summi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rock there towers a cros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3680" y="3505320"/>
            <a:ext cx="84452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erte que engendra la v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os hombres, nueva luz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that gives birth to new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people, a new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08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sto nos ha salvad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su muerte y resurrec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brought us salv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death and rising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as las cosas renac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thing comes to new birt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1040" y="342900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a ley, nueva alianz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law, God's new alliance,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erte que engendra la v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os hombres, nueva luz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sto nos ha salvad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su muerte y resurrec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as las cosas renac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sto toma en su cuerp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pecado, la esclavitu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akes into his bo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sin, enslavement, and pai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7360" y="3429000"/>
            <a:ext cx="83692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destruirlos, nos tra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nueva plenitu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he destroys them he brings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's abundance, life's new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7360" y="3429000"/>
            <a:ext cx="83692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ne en paz a los homb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as cosas y al Cread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rings reconcili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ll things and people with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" y="3429000"/>
            <a:ext cx="83692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o renace a la vid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ture bursts into new flowe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7360" y="3429000"/>
            <a:ext cx="83692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a ley, nueva alianz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law, God's new alliance,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ielo y tierra se abraz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stra alma halla el perd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embrac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souls find pardon at l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uelven a abrirse los ciel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a el hombre pecad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rael peregrin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heaven's gates are reopen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sinner, to us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rael walks a journe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ve y canta tu reden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y nuevos mundos abiert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e live, salvation's our s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's resurrection has freed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re new worlds to expl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a ley, nueva alianz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sto toma en su cuerp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pecado, la esclavitu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a ley, nueva alianz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law, God's new alliance,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destruirlos, nos tra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nueva plenitu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ne en paz a los homb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as cosas y al Cread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o renace a la vid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a ley, nueva alianz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ielo y tierra se abraz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stra alma halla el perd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uelven a abrirse los ciel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a el hombre pecad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rael peregrin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ve y canta tu reden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y nuevos mundos abiert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a ley, nueva alianz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2T16:02:02Z</dcterms:created>
  <dc:creator>Gary Wintergerst</dc:creator>
  <dc:description/>
  <dc:language>en-US</dc:language>
  <cp:lastModifiedBy>Gary Wintergerst</cp:lastModifiedBy>
  <cp:lastPrinted>1995-09-22T21:01:12Z</cp:lastPrinted>
  <dcterms:modified xsi:type="dcterms:W3CDTF">2003-06-14T15:32:25Z</dcterms:modified>
  <cp:revision>26</cp:revision>
  <dc:subject/>
  <dc:title>No Slide Title</dc:title>
</cp:coreProperties>
</file>