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All Ye Faith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, for us sinn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and in the m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embrace thee with love and a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ould not love thee, loving us so dearl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Lord, we greet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his happy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o thee be all glory gi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the Father, now in flesh appear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este, fidel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eti triumphant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, venit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m videte Regem angeloru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, Dominu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all ye faith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and triumph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ye, O come ye, to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behold him, born the King of angel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God of true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from Light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shuns not the Virgin's wo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the Father, begotten, not creat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choir of ange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in exul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, all ye citizens of heaven abov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all glory in the high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the shephe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mmoned to his crad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ing their flocks, draw nigh to gaz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oo will thither bend our joyful footstep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22:26:3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4Z</dcterms:modified>
  <cp:revision>2</cp:revision>
  <dc:subject/>
  <dc:title>No Slide Title</dc:title>
</cp:coreProperties>
</file>