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3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of these mornings bright and f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'a take my wings and cleave the ai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get to heaven goin'a sing and shou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n't nobody there goin'a turn me 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get to heaven goin'a put on my sho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'a run about and spread the new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get to heaven goin'a sing and shou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n't nobody there goin'a turn me 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6:48:0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06Z</dcterms:modified>
  <cp:revision>4</cp:revision>
  <dc:subject/>
  <dc:title>No Slide Title</dc:title>
</cp:coreProperties>
</file>