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and Guardia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pirit, guide and guardi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-sped flame and hovering d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 of life and voice of prophe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gn of blessing, power of lov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o those who lead your peo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sh anointing of your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them forth as bold apostl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r church in every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ur Savior, sovereign, shephe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made flesh, love crucif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er, healer, suffering serv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iend of sinners, foe of prid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tending may all pasto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rn and live a shepherd's c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em courage and compas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n through word and deed and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Creator, life-best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th beyond all thought's re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nt of wisdom, womb of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and forgiving al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you know our strength and weak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ay those the church exal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see her life steadfast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not overlook her faul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ne God, mysterious be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divided and diver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er than our minds can fath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er than our creeds rehears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in our varied calli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full image to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our ministries uni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give glory to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0:48:1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37Z</dcterms:modified>
  <cp:revision>4</cp:revision>
  <dc:subject/>
  <dc:title>No Slide Title</dc:title>
</cp:coreProperties>
</file>