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who art in heaven, hallowed b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, thy will be done on earth as it is in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is day our daily b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give us our trespasses as we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trespass against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d us not into temptation, but deliver us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ine is the kingdom, and the power and the glory for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4:1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8Z</dcterms:modified>
  <cp:revision>2</cp:revision>
  <dc:subject/>
  <dc:title>No Slide Title</dc:title>
</cp:coreProperties>
</file>