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od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s Gi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od to pilgrims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d of life from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nna from on hig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unger; Lord, supply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y delights deny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hearts to thee draw n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ream of love past t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urest fountain, wel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ut the Savior's sid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aint with thirst; rev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ne abundance g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e need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y thee bid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re adore thee, hidd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orms of bread and w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when the veil is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behold,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ountenanc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9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30Z</dcterms:modified>
  <cp:revision>3</cp:revision>
  <dc:subject/>
  <dc:title>No Slide Title</dc:title>
</cp:coreProperties>
</file>