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ine, O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ine, O Lord, I have heard thy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t told thy love to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long to rise in the arms of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closer drawn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ecrate me now to thy servic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ower of grace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soul look up with a steadfast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will be lost in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pure delight of a single h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efore thy throne I sp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kneel in prayer, and with thee,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mune as friend with frie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depths of love that I cannot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cross the narrow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heights of joy that I may not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rest in peace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49:4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5Z</dcterms:modified>
  <cp:revision>3</cp:revision>
  <dc:subject/>
  <dc:title>No Slide Title</dc:title>
</cp:coreProperties>
</file>