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in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o reign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Son,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pure in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lorious banner wav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Christ y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lear hosanna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eluias lou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st answering echoes upward fl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reaths of incense c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on through life's long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chanting as y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th to age, by night and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ladness and in w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ast the march shall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ied ones shall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ilgrims find their heavenl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rusalem the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41:48Z</dcterms:created>
  <dc:creator>Gary Wintergerst</dc:creator>
  <dc:description/>
  <dc:language>en-US</dc:language>
  <cp:lastModifiedBy>Gary Wintergerst</cp:lastModifiedBy>
  <cp:lastPrinted>1995-07-13T19:38:40Z</cp:lastPrinted>
  <dcterms:modified xsi:type="dcterms:W3CDTF">1999-11-25T22:04:16Z</dcterms:modified>
  <cp:revision>3</cp:revision>
  <dc:subject/>
  <dc:title>No Slide Title</dc:title>
</cp:coreProperties>
</file>