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Name Of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6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name of Jesus every knee shall b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tongue confess him King of glory n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Father's pleasure we should call him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from the beginning was the mighty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ed for a season, to receive a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lips of sinners unto whom he c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ly he bore it, spotless to the l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ught it back victorious when from death he pas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e it up triumphant with its human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ranks of creatures to the central he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throne of Godhead, to the Father's bre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it with the glory of that perfect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hearts enthrone him; there let him subdu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is not holy, all that is not tru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 as your captain in temptation's hou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his will enfold you in its light and pow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7:16:2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19Z</dcterms:modified>
  <cp:revision>3</cp:revision>
  <dc:subject/>
  <dc:title>No Slide Title</dc:title>
</cp:coreProperties>
</file>