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ain would take my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adow of a mighty ro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a weary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ome within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est upon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burning of the noon-tide h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at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eye at times can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ery dying form of 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uffered there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my stricken heart with t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wonders I confes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nders of redeem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unworth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ake, O cross, thy shad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abiding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sk no other sunshine th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shine of his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tent to let the world go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no gain nor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inful self my only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lory all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3T21:50:30Z</dcterms:created>
  <dc:creator>Gary Wintergerst</dc:creator>
  <dc:description/>
  <dc:language>en-US</dc:language>
  <cp:lastModifiedBy>Gary Wintergerst</cp:lastModifiedBy>
  <dcterms:modified xsi:type="dcterms:W3CDTF">1999-11-25T22:05:08Z</dcterms:modified>
  <cp:revision>4</cp:revision>
  <dc:subject/>
  <dc:title>No Slide Title</dc:title>
</cp:coreProperties>
</file>