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ife Is O'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ttle D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ife is o'er, the battle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ory of life is w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ng of triumph has begu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s of death have done their wor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rist their legions hath dispers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houts of holy joy outbur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hree sad days are quickly sp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ises glorious from the d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our risen H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by the stripes which wounde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's dread sting thy servant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ay live, and sing to the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46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12Z</dcterms:modified>
  <cp:revision>2</cp:revision>
  <dc:subject/>
  <dc:title>No Slide Title</dc:title>
</cp:coreProperties>
</file>