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e Is Glad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6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e is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d all s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unshine of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e are gi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ifts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true Redeemer 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uls thou mak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bonds thou break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rusts thee sure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built secure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ands forever.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are pi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thy shi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ying or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 are clea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ught can us sever.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God be 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ear no pow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of earth or sin or de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ees and bles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orst distres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n change them in a bre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fore the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f God's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and voic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eaven rejoi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forever.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out for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 o'er s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and prai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oices still rai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 hymns forever.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7:15:4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19Z</dcterms:modified>
  <cp:revision>2</cp:revision>
  <dc:subject/>
  <dc:title>No Slide Title</dc:title>
</cp:coreProperties>
</file>