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o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John B. Foley and  North Amer. Liturgy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ile or J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ant or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or man,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the work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in for the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ed and g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ed to one,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8:00:2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5Z</dcterms:modified>
  <cp:revision>3</cp:revision>
  <dc:subject/>
  <dc:title>No Slide Title</dc:title>
</cp:coreProperties>
</file>