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iah D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the Messiah d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t off for sins, but not hi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omplished is the sacrif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redeeming work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eil is rent; in Christ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ving way to heaven is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ddle wall is broken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world may enter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All my guilt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no sacrifice be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, for me the Lamb is sl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I am just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ign of sin and death is o'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ay live from sin set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th lost his mortal pow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swallowed up in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6:54:1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2Z</dcterms:modified>
  <cp:revision>2</cp:revision>
  <dc:subject/>
  <dc:title>No Slide Title</dc:title>
</cp:coreProperties>
</file>