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Spirit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tr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Thomas E. Herbrans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Spirit's entry now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ter and the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of Jesus on your b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al both felt and h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water be the sacred sig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ust die each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ise again by his desig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llowers of his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ing Spirit, hear our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baptismal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shes us through all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cleanse again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13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0Z</dcterms:modified>
  <cp:revision>4</cp:revision>
  <dc:subject/>
  <dc:title>No Slide Title</dc:title>
</cp:coreProperties>
</file>