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Your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 people, raise your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se away all griev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your joy and be made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's life receiv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re's gifts of wheat and v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re set befor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offer bread and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comes to restore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welcome Christ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eat reve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s pioneered the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new cre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et the Christ, our risen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recogniz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ith joy we greet the sp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winter ri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3:05:06Z</dcterms:created>
  <dc:creator>Gary Wintergerst</dc:creator>
  <dc:description/>
  <dc:language>en-US</dc:language>
  <cp:lastModifiedBy>Gary Wintergerst</cp:lastModifiedBy>
  <cp:lastPrinted>1995-12-25T20:39:50Z</cp:lastPrinted>
  <dcterms:modified xsi:type="dcterms:W3CDTF">1999-11-25T22:12:32Z</dcterms:modified>
  <cp:revision>4</cp:revision>
  <dc:subject/>
  <dc:title>No Slide Title</dc:title>
</cp:coreProperties>
</file>