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48769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op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Grou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ope is firmly gr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eat and liv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whenever I most nee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ails to keep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 must wholly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ever good and j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, who can trust our na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an, weak, and insecu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of all the airy cast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the hurricane endu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t on sand, naught can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earthly wisdom plan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every time and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love's abundant st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ustains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 of life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share earth and 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t on God's unfail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, O thank, our great Creat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God's only Son t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, the heavenly po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us out of earth and c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to heed, strong in d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all the people f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42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5Z</dcterms:modified>
  <cp:revision>4</cp:revision>
  <dc:subject/>
  <dc:title>No Slide Title</dc:title>
</cp:coreProperties>
</file>