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Gho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ouls Inspi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5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Ghost, our souls inspi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ghten with celestial fi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the anointing Spirit 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dost thy sevenfold gifts imp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blessed unction from ab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comfort, life, and fire of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able with perpetual l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ullness of our blinded s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oint and cheer our soiled f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abundance of thy g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far our foes; give peace at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ou art guide, no ill can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us to know the Father,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e, of both, to be but 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rough the ages all al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, this may be our endless song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y eternal me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Son, and Holy Spiri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8:13:20Z</dcterms:created>
  <dc:creator>Gary Wintergerst</dc:creator>
  <dc:description/>
  <dc:language>en-US</dc:language>
  <cp:lastModifiedBy>Gary Wintergerst</cp:lastModifiedBy>
  <cp:lastPrinted>1995-12-27T02:05:20Z</cp:lastPrinted>
  <dcterms:modified xsi:type="dcterms:W3CDTF">1999-11-25T22:12:38Z</dcterms:modified>
  <cp:revision>5</cp:revision>
  <dc:subject/>
  <dc:title>No Slide Title</dc:title>
</cp:coreProperties>
</file>