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With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with me; fast falls the event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ness deepens; Lord, with me ab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ther helpers fail and comforts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of the helpless, O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to its close ebbs out life's little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's joys grow dim; its glories pas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and decay in all around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changest not,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y presence every passing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but thy grace can foil the tempter's powe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, like thyself, my guide and stay can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cloud and sunshine, Lord,         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ear no foe, with thee at hand to bl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ls have no weight, and tears not bitter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s death's sting? Where, grave, thy victor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riumph still, if thou   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thou thy cross before my closing ey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through the gloom and point me to the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morning breaks, and earth's vain shadows fl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fe, in death, O Lord,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Gary Wintergerst</cp:lastModifiedBy>
  <cp:lastPrinted>1996-01-02T13:57:40Z</cp:lastPrinted>
  <dcterms:modified xsi:type="dcterms:W3CDTF">1999-11-25T22:12:56Z</dcterms:modified>
  <cp:revision>4</cp:revision>
  <dc:subject/>
  <dc:title>No Slide Title</dc:title>
</cp:coreProperties>
</file>