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ord, Wh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orn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1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ord, what a morn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ord, what a morn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my Lord, what a mo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tars begin to f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'll hear the trumpet s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ake the nations undergr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ing to my God's right h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tars begin to f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ord, what a morn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ord, what a morn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my Lord, what a mo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tars begin to f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'll hear the sinner mo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ake the nations undergr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ing to my God's right h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tars begin to f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ord, what a morn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ord, what a morn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my Lord, what a mo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tars begin to f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'll hear the Christian shou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ake the nations undergr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ing to my God's right h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tars begin to f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20:09:24Z</dcterms:created>
  <dc:creator>Gary Wintergerst</dc:creator>
  <dc:description/>
  <dc:language>en-US</dc:language>
  <cp:lastModifiedBy>Gary Wintergerst</cp:lastModifiedBy>
  <cp:lastPrinted>1996-01-02T14:13:36Z</cp:lastPrinted>
  <dcterms:modified xsi:type="dcterms:W3CDTF">1999-11-25T22:13:05Z</dcterms:modified>
  <cp:revision>4</cp:revision>
  <dc:subject/>
  <dc:title>No Slide Title</dc:title>
</cp:coreProperties>
</file>