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Shout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is day of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Hush in wo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amaz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 all surrou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a spreading tree has gr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leaves of grace ab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a taste of love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Raise your spiri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averns of desp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gladness in the mo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what love can do and d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the wine of resurr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ervant, but a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our strong compan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and peace shall never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more shall be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 of new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world is still in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its grim, demonic choru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 is risen! Get you gon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 and Last is with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Hosanna every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48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2Z</dcterms:modified>
  <cp:revision>4</cp:revision>
  <dc:subject/>
  <dc:title>No Slide Title</dc:title>
</cp:coreProperties>
</file>