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 Aw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0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 away, steal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 away to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 away, steal away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in't got long to stay 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 he calls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lls me by the thun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umpet sounds within-a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in't got long to stay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 away, steal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 away to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 away, steal away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in't got long to stay 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en trees a-b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or sinners stand a-trembl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umpet sounds within-a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in't got long to stay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 away, steal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 away to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 away, steal away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in't got long to stay 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 he calls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lls me by the light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umpet sounds within-a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in't got long to stay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12:02Z</dcterms:created>
  <dc:creator>Gary Wintergerst</dc:creator>
  <dc:description/>
  <dc:language>en-US</dc:language>
  <cp:lastModifiedBy>Gary Wintergerst</cp:lastModifiedBy>
  <cp:lastPrinted>1996-01-02T14:03:06Z</cp:lastPrinted>
  <dcterms:modified xsi:type="dcterms:W3CDTF">1999-11-25T22:12:58Z</dcterms:modified>
  <cp:revision>4</cp:revision>
  <dc:subject/>
  <dc:title>No Slide Title</dc:title>
</cp:coreProperties>
</file>