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Make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Discipl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7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eon M. Adk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4 Abingdon P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o, make of all disciples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ear the call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comes from thee, our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y eternal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spire our ways of lear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arnest, fervent pray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our daily l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eal thee every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o, make of all disciples,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ing in the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Father, Son, and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ge to age the s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ll each new disci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llow the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ing soul and bo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ater and the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o, make of all disciples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t thy feet would st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each life's voc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ents thy holy 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ultivate the nat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plants in ever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ealing in our wit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aster teacher's 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o, make of all disciples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lcome thy comm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o, I am with you always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ake thy guiding h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ask looms large before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ollow without f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eaven and earth thy p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bring God's kingdom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26:1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2002-06-19T02:57:19Z</dcterms:modified>
  <cp:revision>5</cp:revision>
  <dc:subject/>
  <dc:title>No Slide Title</dc:title>
</cp:coreProperties>
</file>