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erve Your Cit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3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9 Galliard, L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love and serve your ci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bear its daily str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cry for peace and just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curse and all who bless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day of loss and sorr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day of helpless str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nor, peace, and love retreat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 the Lord, who is your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day of wealth and plen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ted work and wasted pl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 to mind the word of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Work ye yet while it is day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days are days of judgm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Lord is waiting st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ing near to all who spurn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fering peace from Calvary's hi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n Lord, shall yet the cit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e city of despair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day, our Judge, our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its name, "The Lord is there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3T08:36:42Z</dcterms:created>
  <dc:creator>Gary Wintergerst</dc:creator>
  <dc:description/>
  <dc:language>en-US</dc:language>
  <cp:lastModifiedBy>Gary Wintergerst</cp:lastModifiedBy>
  <cp:lastPrinted>1996-01-03T12:40:26Z</cp:lastPrinted>
  <dcterms:modified xsi:type="dcterms:W3CDTF">1999-11-25T22:06:00Z</dcterms:modified>
  <cp:revision>4</cp:revision>
  <dc:subject/>
  <dc:title>No Slide Title</dc:title>
</cp:coreProperties>
</file>