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Me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ories of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277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me the stories of Jesus I love to h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gs I would ask him to tell me if he were her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cenes by the wayside, tales of the se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ories of Jesus, tell them to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rst let me hear how the children stood round his kn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shall fancy his blessing resting on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s full of kindness, deeds full of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in the love-light of Jesus' f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the city I'd follow the children's b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ving a branch of the palm tree high in my h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of his heralds, yes, I would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udest hosannas, "Jesus is King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27T21:08:36Z</dcterms:created>
  <dc:creator>Gary Wintergerst</dc:creator>
  <dc:description/>
  <dc:language>en-US</dc:language>
  <cp:lastModifiedBy>Gary Wintergerst</cp:lastModifiedBy>
  <cp:lastPrinted>1995-07-27T21:04:18Z</cp:lastPrinted>
  <dcterms:modified xsi:type="dcterms:W3CDTF">1999-11-25T22:05:01Z</dcterms:modified>
  <cp:revision>4</cp:revision>
  <dc:subject/>
  <dc:title>No Slide Title</dc:title>
</cp:coreProperties>
</file>