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Who Stretched the Spangled Heave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5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7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who stretched the spangled heave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finite in time and pl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ung the suns in burning radia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silent fields of sp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your children, in your like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re inventive powers with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Creator, still crea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us what we yet may 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udly rise our modern cit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tely buildings, row on r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their windows, blank, unfee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e on canyoned streets be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 lonely drift unnotic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ity's ebb and f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t to purpose and to mea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arcely caring where they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ventured worlds undreamed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the childhood of our 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n the ecstasy of wing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untraveled realms of sp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bed the secrets of the ato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ielding unimagined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cing us with life's destruc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our most triumphant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each far horizon beck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it challenge us ane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ren of creative purpo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ing others, honoring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our dreams prove rich with prom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endeavor well begu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Creator, give us guida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our goals and yours are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8:55:3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12Z</dcterms:modified>
  <cp:revision>4</cp:revision>
  <dc:subject/>
  <dc:title>No Slide Title</dc:title>
</cp:coreProperties>
</file>