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eluy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Alleluia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cr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2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eluyan, heleluyan; hele, heleluya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eluyan, heleluyan; hele, heleluy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9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27Z</dcterms:modified>
  <cp:revision>4</cp:revision>
  <dc:subject/>
  <dc:title>No Slide Title</dc:title>
</cp:coreProperties>
</file>