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untai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All Agl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8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harvest is from our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blessing is from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or the harv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s to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or the harv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praise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as we're plant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word deep in each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has sent sunshine and the ra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the seedlings may gr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sert lands which seem barr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wers still might bloo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sting in God's promises, ou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s to God we will show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ching far as earthly eyes can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ching far as humble hands can to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harvest is from our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blessing is from our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or the harv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s to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or the harv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praise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untains are all aglow wi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utumn colors so br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vers are filled with wa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ing life to our day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lden fields wave their praise to God'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untiful harv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tefully, skyward ari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our joyous songs of prais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ching far as earthly eyes can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ching far as humble hands can to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harvest is from our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blessing is from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or the harv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s to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or the harv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praise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land so abundant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ch the harvest bear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orchard is filled wi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uscious, ripened new frui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n and rain by the Lord's desig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come at proper ti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king hard, God has given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sons for deep gratitu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ching far as earthly eyes can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ching far as humble hands can to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harvest is from our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blessing is from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or the harv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s to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or the harv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praise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ly spring is the time to s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God's rich seeds of lif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king hard, tilling God's ear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ing preparat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ing forward to rewards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rvest so plentifu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mised blessings will soon be ou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ach revelat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ching far as earthly eyes can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ching far as humble hands can to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2:06:5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3:48Z</dcterms:modified>
  <cp:revision>4</cp:revision>
  <dc:subject/>
  <dc:title>No Slide Title</dc:title>
</cp:coreProperties>
</file>