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Whose Gl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s the Ski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73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whose glory fills the ski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the true, the only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n of Righteousness, ar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iumph o'er the shades of n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-spring from on high, be n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star, in my heart appe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rk and cheerless is the mor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accompanied by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less is the day's retur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thy mercy's beams I s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thy inward light imp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eer my eyes and warm my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isit then this soul of m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ierce the gloom of sin and grief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me, Radiancy di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catter all my unbelief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and more thyself displ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ing to the perfect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3T20:31:36Z</dcterms:created>
  <dc:creator>Gary Wintergerst</dc:creator>
  <dc:description/>
  <dc:language>en-US</dc:language>
  <cp:lastModifiedBy>Gary Wintergerst</cp:lastModifiedBy>
  <cp:lastPrinted>1995-07-13T19:44:46Z</cp:lastPrinted>
  <dcterms:modified xsi:type="dcterms:W3CDTF">1999-11-25T22:04:21Z</dcterms:modified>
  <cp:revision>3</cp:revision>
  <dc:subject/>
  <dc:title>No Slide Title</dc:title>
</cp:coreProperties>
</file>