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n Our Music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lorifi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n our music God is glori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doration leaves no room for pr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as though the whole creation cri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often, making music, we have f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dimension in the world of s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orship moved us to a more prof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has the church in liturgy and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aith and love, through centuries of w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witness to the truth in every tong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id not Jesus sing a psalm that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utmost evil strove against the light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sing, for whom he won the f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instrument be tuned for prai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rejoice who have a voice to rai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God give us faith to sing al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0:4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2:48Z</dcterms:modified>
  <cp:revision>4</cp:revision>
  <dc:subject/>
  <dc:title>No Slide Title</dc:title>
</cp:coreProperties>
</file>