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Frío Inverna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Cold December Flies Away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Sp: 2; Eng:9; Sp/Eng:16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p. 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7 Skinner Chávez-Mel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blessed tree blooms the reddest fl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tree blooms the r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love's own garden, full and strong in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opeless time of sin shadows deep had fall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lay under death, eyes were closed in sleep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when all seemed lost in night, came the sun whose golden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unending joy, brings the endless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, highest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's bright dawning, Son beloved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bud has come to bloom, and the world awake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ly's purest flower dwells a wondrous fragran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t spreads to all the earth from the moment of its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ts beauty lives. In the flower it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flower, and it sprea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ts heavenly brightness, sweet perfume delightf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frío invernal del mes de dicie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apullo del rosal brota en un peseb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Cold December flies away at the rose-red splendor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April's crowning glory breaks while the whole world wonder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4799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calor primaveral hace al mundo desper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ragante olor de tan bella fl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at the holy unseen power of the tree which bears the flower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On the blessed tree blooms the reddest flower,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-, yo esa ro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sa anhelo del jardín del cie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tree blooms the r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love's own garden, full and strong in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tinieblas del ayer huyen prontam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manaña deja ver sol resplandecien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In the hopeless time of sin shadows deep had fallen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All the world lay under death, eyes were closed in sleeping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frío invernal del mes de dicie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apullo del rosal brota en un pese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calor primaveral hace al mundo desper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ragante olor de tan bella flo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nocturna oscuridad busca el mundo cla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elicidad esta Navid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when all seemed lost in night, came the sun whose golden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unending joy, brings the endless j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26668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-, ya la lu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z divina almundo illumi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, highest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's bright dawning, Son beloved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25909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el capullo a florecer rosa blanca y pu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 fragancia va a ofrecer a toda criat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Now the bud has come to bloom, and the world awakens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In the lily's purest flower dwells a wondrous fragrance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aroma sin igual nueva vida da al 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de Dios el don, sumo galardó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And it spreads to all the earth from the moment of its birth;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and its beauty lives. In the flower it lives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-, que al mun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do ha dado, es su Hijo ama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flower, and it sprea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ts heavenly brightness, sweet perfume delightf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-, yo esa ro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sa anhelo del jardín del cie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tinieblas del ayer huyen prontam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manaña deja ver sol resplandecien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nocturna oscuridad busca el mundo cla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elicidad esta Navid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-, ya la lu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z divina almundo illumi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el capullo a florecer rosa blanca y pu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 fragancia va a ofrecer a toda criat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aroma sin igual nueva vida da al 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de Dios el don, sumo galard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-, que al mun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do ha dado, es su Hijo ama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ld December flies away at the rose-red splen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ril's crowning glory breaks while the whole world wond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holy unseen power of the tree which bears the fl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1:53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3Z</dcterms:modified>
  <cp:revision>7</cp:revision>
  <dc:subject/>
  <dc:title>No Slide Title</dc:title>
</cp:coreProperties>
</file>