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, This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, this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bl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-ings of the l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me, O kee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, King of k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ine 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m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dear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ill that 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day hav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ith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self, and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 ere I sl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peace may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o 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may d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ve as lit-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le as my b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o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o I m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glorious 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udgmen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my so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e rep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sweet slee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eyelids cl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eep that may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vigorous m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my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w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lessings f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, all crea-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es here be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eavenly 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ather,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ly Gho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41:48Z</dcterms:created>
  <dc:creator>Gary Wintergerst</dc:creator>
  <dc:description/>
  <dc:language>en-US</dc:language>
  <cp:lastModifiedBy>Gary Wintergerst</cp:lastModifiedBy>
  <cp:lastPrinted>1995-12-28T04:36:26Z</cp:lastPrinted>
  <dcterms:modified xsi:type="dcterms:W3CDTF">1999-11-25T22:12:50Z</dcterms:modified>
  <cp:revision>4</cp:revision>
  <dc:subject/>
  <dc:title>No Slide Title</dc:title>
</cp:coreProperties>
</file>