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ous Things of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e Are Spoke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73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ous things of thee are spok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Zion, city of our God;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se word cannot be brok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med thee for his own abod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he Rock of Ages found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can shake thy sure repos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salvation's walls surround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mayst smile at all thy fo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, the streams of living water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ringing from eternal l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ll supply thy sons and daughter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ll fear of want remov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can faint while such a riv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 will their thirst assuag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ce which like the Lord, the giv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ver fails from age to ag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ound each habitation hover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 the cloud and fire appea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a glory and a cover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owing that the Lord is near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us deriving from our bann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ght by night and shade by d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fe we feed upon the manna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ch God gives us when we pr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t inhabitants of Z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shed in our Redeemer's bloo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whom our souls rely 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s us monarchs, priests to G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s, by his great love, he rais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ulers over self to reig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s priests his solemn praise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for thankful offering br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2T13:38:06Z</dcterms:created>
  <dc:creator>Gary Wintergerst</dc:creator>
  <dc:description/>
  <dc:language>en-US</dc:language>
  <cp:lastModifiedBy>Gary Wintergerst</cp:lastModifiedBy>
  <cp:lastPrinted>1996-01-02T15:15:40Z</cp:lastPrinted>
  <dcterms:modified xsi:type="dcterms:W3CDTF">1999-11-25T22:13:10Z</dcterms:modified>
  <cp:revision>4</cp:revision>
  <dc:subject/>
  <dc:title>No Slide Title</dc:title>
</cp:coreProperties>
</file>