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B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 That Bi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be the tie that bi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in Christian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ellowship of kindred mi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like to that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our Father's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our our ardent praye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ears, our hopes, our aims are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forts and our car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each other's wo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utual burdens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ten for each other fl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ympathizing t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sunder 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gives us inward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shall still be joined in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pe to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5:43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14Z</dcterms:modified>
  <cp:revision>3</cp:revision>
  <dc:subject/>
  <dc:title>No Slide Title</dc:title>
</cp:coreProperties>
</file>