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 Is Buil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 is built on nothing l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Jesus' blood and righteousn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re not trust the sweetest fr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olly lean on Jesus'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Christ the solid rock I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darkness veils his lovely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est on his unchanging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high and stormy ga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anchor holds within the vei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Christ the solid rock I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oath, his covenant, his b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pport me in the whelming fl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ll around my soul gives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hen is all my hope and st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Christ the solid rock I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shall come with trumpet s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I then in him be foun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essed in his righteousness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ultless to stand before the thr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Christ the solid rock I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2:41:2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35Z</dcterms:modified>
  <cp:revision>4</cp:revision>
  <dc:subject/>
  <dc:title>No Slide Title</dc:title>
</cp:coreProperties>
</file>