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to Z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Isaac Watts, refrain by Robert Low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our song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tear be d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hrough Emmanuel's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hrough Emmanuel's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airer worlds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airer worlds on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, beautiful Z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upward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 city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e that lov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joys be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in a song with sweet acc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in a song with sweet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surround the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surround the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, beautiful Z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upward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 city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ose refuse to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never knew our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ildren of the heavenly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ildren of the heavenly 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peak their joys ab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peak their joys abr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, beautiful Z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upward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 city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ll of Zion yiel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housand sacred swee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we reach the heavenly fiel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we reach the heavenly fiel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alk the golden stree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alk the golden stree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, beautiful Z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upward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 city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43:54Z</dcterms:created>
  <dc:creator>Gary Wintergerst</dc:creator>
  <dc:description/>
  <dc:language>en-US</dc:language>
  <cp:lastModifiedBy>Gary Wintergerst</cp:lastModifiedBy>
  <cp:lastPrinted>1996-01-02T15:16:04Z</cp:lastPrinted>
  <dcterms:modified xsi:type="dcterms:W3CDTF">2002-06-19T03:41:58Z</dcterms:modified>
  <cp:revision>5</cp:revision>
  <dc:subject/>
  <dc:title>No Slide Title</dc:title>
</cp:coreProperties>
</file>