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iendly Beas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brother, strong and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humbly born in a stable ru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friendly beasts around him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brother, strong and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donkey, shaggy and b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carried his mother uphill and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rried his mother to Bethlehem t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donkey, shaggy and b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cow, all white and 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gave him my manger for his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ave him hay to pillow his h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cow, all white and 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sheep with curly h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gave him my wool for his blanket wa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ore my coat on Christmas m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sheep with curly h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dove, from the rafters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cooed him to sleep that he should not c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oed him to sleep, my mate and 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dove, from the rafters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all the beasts, by some good sp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table dark were glad to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gifts they gave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s they gave Emmanu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19:3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1Z</dcterms:modified>
  <cp:revision>2</cp:revision>
  <dc:subject/>
  <dc:title>No Slide Title</dc:title>
</cp:coreProperties>
</file>