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353200"/>
            <a:ext cx="730440" cy="104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ift of Lo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408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2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I may speak with bravest fi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ave the gift to all inspi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ave not love, my words are v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sounding brass, and hopeless 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I may give all I poss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triving so my love prof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not be given by love with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rofit soon turns strangely th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Spirit, come, our hearts contro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pirits long to be made who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inward love guide every dee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is we worship, and are fre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9T20:12:10Z</dcterms:created>
  <dc:creator>Gary Wintergerst</dc:creator>
  <dc:description/>
  <dc:language>en-US</dc:language>
  <cp:lastModifiedBy>Gary Wintergerst</cp:lastModifiedBy>
  <dcterms:modified xsi:type="dcterms:W3CDTF">1999-11-25T22:05:51Z</dcterms:modified>
  <cp:revision>3</cp:revision>
  <dc:subject/>
  <dc:title>No Slide Title</dc:title>
</cp:coreProperties>
</file>