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Sain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William W. How, 1864 (Heb. 12: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Public domai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saints, who from their labors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hee by faith before the world conf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name, O Jesus, be forever bl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ast their rock, their fortress, and their m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Lord, their captain in the well-fought f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in the darkness drear, their one true 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thy soldiers, faithful, true, and b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ght as the saints who nobly fought of 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n with them the victor's crown of go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t communion, fellowship divi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eebly struggle, they in glory s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all are one in thee, for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the strife is fierce, the warfare l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s on the ear the distant triumph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rts are brave again, and arms are str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arth's wide bounds, from ocean's farthest co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gates of pearl streams in the countless h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to Father, Son, and Holy Ghos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55:4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2003-06-14T15:26:10Z</dcterms:modified>
  <cp:revision>5</cp:revision>
  <dc:subject/>
  <dc:title>No Slide Title</dc:title>
</cp:coreProperties>
</file>