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Offer to the Father</a:t>
            </a:r>
            <a:br>
              <a:rPr sz="4800"/>
            </a:b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(Te Ofrecemos Padre Nuestro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6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ns. Alice Park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ns. ©1994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offer to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read and with the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joys and all our sorrow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cares, Lord, all ar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be to God, the Fa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Christ, the livi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ogether with the Spiri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the holy Three-in-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offer to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read and with the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joys and all our sorrow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cares, Lord, all ar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cemos, Padre nuestr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el vino y con el p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utras pena y alegrí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trabajo y nuestro af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el trigo de los campo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un pan se convirtió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í haz de nuestras vida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y el cuerpo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cemos, Padre nuestr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el vino y con el p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utras pena y alegrí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trabajo y nuestro af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os pobres de la tierr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os que sufriendo está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bia su dolor en vin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uva en el lag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cemos, Padre nuestr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el vino y con el p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utras pena y alegrí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trabajo y nuestro af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tos dones son el sign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l esfurezo de unida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la humanidad realiz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el camp y la ciu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offer to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read and with the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joys and all our sorrow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cares, Lord, all ar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cemos, Padre nuestr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el vino y con el p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utras pena y alegrí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trabajo y nuestro af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 tu pueblo quien t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re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los dones del alt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naturaleza enter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helando libert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cemos, Padre nuestr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el vino y con el p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utras pena y alegrí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trabajo y nuestro af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sea dada al Pad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a su Hijo Redent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al Espiritu Divin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nos llena de su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cemos, Padre nuestr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el vino y con el p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utras pena y alegrí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trabajo y nuestro af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cemos, Padre nuestr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el vino y con el p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offer to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read and with the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utras pena y alegrí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trabajo y nuestro af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joys and all our sorrow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cares, Lord, all ar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el trigo de lo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po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un pan se convirtió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growing wheat will rip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show to all the wor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505320"/>
            <a:ext cx="9524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í haz de nuestras vida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y el cuerpo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an grow and ripen als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iving of the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growing wheat will rip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show to all the wor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an grow and ripen als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iving of the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cemos, Padre nuestr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el vino y con el p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offer to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read and with the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utras pena y alegrí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trabajo y nuestro af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joys and all our sorrow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cares, Lord, all ar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os pobres de la tierr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os que sufriendo está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poor and heavy lad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at the Savior’s sig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bia su dolor en vin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uva en el lag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ir grief will turn to glad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grapes are press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cemos, Padre nuestr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el vino y con el p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offer to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read and with the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utras pena y alegrí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trabajo y nuestro af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joys and all our sorrow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cares, Lord, all ar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tos dones son el sign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l esfurezo de unida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country, from the cit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riches of the l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la humanidad realiz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el camp y la ciu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ring back to 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gifts of heart and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cemos, Padre nuestr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el vino y con el p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offer to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read and with the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utras pena y alegrí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trabajo y nuestro af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joys and all our sorrow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cares, Lord, all ar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offer to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read and with the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joys and all our sorrow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cares, Lord, all ar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 tu pueblo quien t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re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los dones del alt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your people here toge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you offerings of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naturaleza enter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helando libert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ing with your whole cre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ing liberty and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cemos, Padre nuestr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el vino y con el p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offer to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read and with the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utras pena y alegrí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trabajo y nuestro af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joys and all our sorrow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cares, Lord, all ar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sea dada al Pad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a su Hijo Redent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be to God, the Fa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Christ, the livi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al Espiritu Divin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nos llena de su am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ogether with the Spiri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the holy Three-in-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cemos, Padre nuestr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el vino y con el p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offer to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read and with the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utras pena y alegrí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trabajo y nuestro af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joys and all our sorrow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cares, Lord, all ar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poor and heavy lad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at the Savior’s sig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ir grief will turn to glad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grapes are press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offer to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read and with the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joys and all our sorrow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cares, Lord, all ar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country, from the cit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riches of the l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ring back to 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gifts of heart and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offer to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read and with the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joys and all our sorrow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cares, Lord, all ar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your people here toge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you offerings of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ing with your whole cre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ing liberty and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0T19:07:56Z</dcterms:modified>
  <cp:revision>29</cp:revision>
  <dc:subject/>
  <dc:title>Walk With Me</dc:title>
</cp:coreProperties>
</file>