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Enviado Soy de Dio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; Trans Jorge Maldona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©198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construir con 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fra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earth the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ich the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 soy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mano lista est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are read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601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construir con 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fra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earth the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ich the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902016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ángeles no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s a cambi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de dol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un mundo de paz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cannot chan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of hurt and p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a worl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ustice an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ha tocado a mi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cerlo realid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údame, Señ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acer tu volunt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 is ours to d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t it really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us to ob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rry out your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are read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earth the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ich the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are read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earth the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ich the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s cannot chan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of hurt and p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a worl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ustice an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 is ours to d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t it really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us to ob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rry out your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 soy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mano lista est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construir con 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fra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 soy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mano lista est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construir con 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fratern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ángeles no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s a cambi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undo de dol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un mundo de paz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ha tocado a mi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cerlo realid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údame, Señ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8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acer tu volunt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viado soy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mano lista est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out in Jesus'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are read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601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16:58:49Z</dcterms:modified>
  <cp:revision>40</cp:revision>
  <dc:subject/>
  <dc:title>I Am the God That Healeth Thee</dc:title>
</cp:coreProperties>
</file>