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ichael W. &amp; Deborah D. Smit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Meadowgreen Music Co,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, he is holy and ju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power we trust in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, he is faithful and tru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mercy he proves he 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 and worthy of gl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 and worthy of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; now lift up your v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ift up your voi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, he is holy and ju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power we trust in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, he is faithful and tru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mercy he proves he 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 and worthy of gl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 and worthy of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; now lift up your v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ift up your voi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are you Lord and worthy of gl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are you Lord and worthy of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are you Lord; I lift up my v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ift up my voi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are you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are you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3:52:01Z</dcterms:modified>
  <cp:revision>30</cp:revision>
  <dc:subject/>
  <dc:title>A Shield About Me</dc:title>
</cp:coreProperties>
</file>