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nded World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es for Heal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nded world that cries for healing here we hold each other's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nded systems bruised and bleeding bear the load, the scars of str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llars ration our compassion, hard decisions rule the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of the healing spirit, free us to another 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our nation's spent frustration, through the corridors of str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re move a kindlier wisdom all may feel, and all may bl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x and tithe are for a purpose shared to shield the poor and wea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t the symptoms of sickness let the voice of justice sp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nor those whose loving spirit nurses hope, restores and hea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wel and basin used in service like the Chris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comes and kneel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tending, in the mending may we see the right and f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common quest for wholeness heal eac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ther by our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00:49:44Z</dcterms:modified>
  <cp:revision>31</cp:revision>
  <dc:subject/>
  <dc:title>I Am the God That Healeth Thee</dc:title>
</cp:coreProperties>
</file>