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e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. Jefferson Cleveland (Ps 15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1 J. Jefferson Clevela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e the Lord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body prais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e the Lord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body prais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ith the sound of the trump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ith the lute and the harp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ith timbrel and danc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herever you 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e the Lord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body prais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ith holy cymbal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ith strings and with pipe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ith clashing cymbal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ith all your m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e the Lord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body prais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in the holy temp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for almighty deed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for those bountiful merc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d fulfills our nee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e the Lord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body prais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on top of the mountai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both day and n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down in the low valle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because it's alr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04:05:51Z</dcterms:modified>
  <cp:revision>15</cp:revision>
  <dc:subject/>
  <dc:title>A Shield About Me</dc:title>
</cp:coreProperties>
</file>