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ear My Prayer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cques Berthier (Ps. 102:1-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ear my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ear my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call, answ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ear my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ear my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listen 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3T05:42:51Z</dcterms:modified>
  <cp:revision>57</cp:revision>
  <dc:subject/>
  <dc:title>I Am the God That Healeth Thee</dc:title>
</cp:coreProperties>
</file>