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Many Na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ian Wr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, 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many na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and g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, in parable and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iness in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lov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many nam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mothe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night and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nning all the wonders of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ting each equ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ius at pl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mothe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m fathe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gging every chi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ing all the strains of human li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ing and forg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're reconcil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m fathe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d, ach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y with endless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mly piercing evil's new disguis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of good surpris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r than despai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d, ach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ng, grow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ger on the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 no to falsehood and unkin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ing out for just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all you hav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ng, grow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, liv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ully 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darkness far beyond our se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r yet than breath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ho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, liv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0:52:52Z</dcterms:modified>
  <cp:revision>10</cp:revision>
  <dc:subject/>
  <dc:title>A Shield About Me</dc:title>
</cp:coreProperties>
</file>