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agrance of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hank you, Lord, with all of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heard the word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y mou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 of the Lord I will bless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dore before your holy tem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hank you, Lord, for your faithfulness and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all my hopes and drea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day that I cal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nswer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ave life to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of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ive on earth shall give you thank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hear all the words of your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shall sing of your way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w great is the glory of Go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6T15:49:54Z</dcterms:modified>
  <cp:revision>8</cp:revision>
  <dc:subject/>
  <dc:title>In His Time</dc:title>
</cp:coreProperties>
</file>