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89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Comes with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awn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1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Gordon Light (Ps. 30: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5 Common Cup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comes with the daw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comes with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ning su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springs from the tomb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catters the night with her so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comes with the da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eping may co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eping may come in the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dark shadows cloud our s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comes with the daw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comes with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ning su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springs from the tomb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catters the night with her so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comes with the da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rrow will tur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rrow will turn into so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od's laughter mak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 str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comes with the daw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comes with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ning su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springs from the tomb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catters the night with her so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comes with the da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rejo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rejoice, and give prai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One who brings us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comes with the daw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comes with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ning su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springs from the tomb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catters the night with her so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comes with the da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17T04:34:04Z</dcterms:modified>
  <cp:revision>13</cp:revision>
  <dc:subject/>
  <dc:title>In His Time</dc:title>
</cp:coreProperties>
</file>