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 to U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Veni Sancte Spiritu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entecost Sequ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 to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 shine fo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r gloriou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rom the four wi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irit, come breath of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rse the shadows ov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 and strengthen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Father of the po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enerous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ight of our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of the po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our pov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er upon us the seven gifts of your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light of our lives oh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our only comforter, Peace of the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eat you shade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labor you refresh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rouble you are our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 in our hearts the flame of your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the darkness of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may glow and reach to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 Sancte Spirit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05:49:07Z</dcterms:modified>
  <cp:revision>80</cp:revision>
  <dc:subject/>
  <dc:title>A Shield About Me</dc:title>
</cp:coreProperties>
</file>