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Jesu, Tawa Pano)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trick Matsikenyir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l.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tawa pan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wa pano, mu zita reny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are 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0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15:39Z</dcterms:modified>
  <cp:revision>42</cp:revision>
  <dc:subject/>
  <dc:title>Walk With Me</dc:title>
</cp:coreProperties>
</file>