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Didst Leav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Thro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0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imothy R. Matthews (Phil. 2:5-11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eav'ns arches shall ring and its choir shall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y coming to victo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y voice call me home, saying "Yet there is roo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room at my sid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e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y heart shall rejoice, Lord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ou comest and callest fo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didst leave thy throne and thy kingly crow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ou camest to earth for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in Bethlehem's home there was found no roo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y holy nativ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 to my heart, Lord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room in my heart for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's arches rang when the angels sa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claiming thy royal degr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in lowly birth didst thou come to ea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great humil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 to my heart, Lord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room in my heart for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oxes found rest, and the birds their ne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shade of the forest tr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y couch was the sod, O thou Son of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deserts of Galil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 to my heart, Lord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room in my heart for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camest, O Lord, with the living W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should set thy people fr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ith mocking scorn, and with crown of thor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bore thee to Calva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 to my heart, Lord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room in my heart for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6T16:31:23Z</dcterms:modified>
  <cp:revision>58</cp:revision>
  <dc:subject/>
  <dc:title>A Shield About Me</dc:title>
</cp:coreProperties>
</file>