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Tino Tenda, Jesu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Shon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Gen'l Bd. of Global Mi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Tino tenda, Jes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Tino tenda, Jes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Tino tenda, Jes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Halelujah!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Jesus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05:46:43Z</dcterms:modified>
  <cp:revision>38</cp:revision>
  <dc:subject/>
  <dc:title>A Shield About Me</dc:title>
</cp:coreProperties>
</file>