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. O. Chisol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through earth's little whi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earest treasure, the light of his smi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the lost ones he died to redee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the weary to find rest in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a life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ru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iving to please him in all that I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ing allegiance, glad hearted and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pathway of blessing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who died in my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on Calvary my sin and dis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love constrains me to answer his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 his leading and give him my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where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ing each duty in his hol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ing to suffer afflicti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lo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ming each trial a p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y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6-09T14:33:57Z</dcterms:modified>
  <cp:revision>17</cp:revision>
  <dc:subject/>
  <dc:title>No Slide Title</dc:title>
</cp:coreProperties>
</file>