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ictim Divine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5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harles Wesley (Heb. 10:12-2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need not go up to heav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ring the long-sought Savior dow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art to all already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dost e’en now thy banquet crown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every faithful soul appea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ow thy real presence he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ictim Divine, thy grace we clai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thus thy precious death we show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ce offered up, a spotless lamb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y great temple here bel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didst for all our kind at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tandest now befor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hr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standest in the holiest pl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now for guilty sinners slai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blood of sprinkling speaks, and pray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prevalent for helpless one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blood is still our ransom fou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preads salvation all arou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moke of thy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onement he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rkened the sun and rent the vei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de the new way to heaven appea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owed the great Invisibl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ll pleased in thee ou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looked dow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alled his rebels to a cr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still respects thy sacrif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s savor sweet doth always pleas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offering smokes through earth and ski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ffusing life, and joy, and pea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se thy lower courts it com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ills them with divine perfum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30T04:22:24Z</dcterms:modified>
  <cp:revision>25</cp:revision>
  <dc:subject/>
  <dc:title>Walk With Me</dc:title>
</cp:coreProperties>
</file>