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an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uillermo Cuélla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ios los que en su nom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vangelio anunc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uena y gran noti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libe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hist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past and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compaña a nuestro puebl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vive en nuestra luch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dle of the vill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in our strugg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universo ente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único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onl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ios los que en su nom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vangelio anunc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to the one who teac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od news of the Gosp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uena y gran noti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libe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and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past and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dle of the vill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in our strugg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onl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to the one who teac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od news of the Gosp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and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hist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compaña a nuestro puebl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vive en nuestra luch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universo ente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único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6:19:40Z</dcterms:modified>
  <cp:revision>25</cp:revision>
  <dc:subject/>
  <dc:title>A Shield About Me</dc:title>
</cp:coreProperties>
</file>