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M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S. Ri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The Estate of John S. Ri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walk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uild a land that God has planned where love shines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walk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uild a land that God has planned where love shines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oses heard the call of God he said, “Lord don’t send me.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God told Mose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You’re the one to se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people free.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walk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uild a land that God has planned where love shines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Peter was a most unlikely man to lea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lock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Jesus knew h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iness and he became the Ro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walk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uild a land that God has planned where love shines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ng Mary Magdalen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sure  her life coul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uch 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y her faith she dar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God’s love unlock the d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walk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uild a land that God has planned where love shines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you share your faith with me, and work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life made 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tness of your faithfulness calls me to walk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1:08:12Z</dcterms:modified>
  <cp:revision>8</cp:revision>
  <dc:subject/>
  <dc:title>Walk With Me</dc:title>
</cp:coreProperties>
</file>