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the Sacrifi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irk Dearman (Heb. 13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John T. Benson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the sacrifice of praise into the hous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the sacrifice of praise into the hous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offer up to you the sacrifices of thanksgiv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offer up to you the sacrifices of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6-09T13:54:01Z</dcterms:modified>
  <cp:revision>13</cp:revision>
  <dc:subject/>
  <dc:title>As the Deer</dc:title>
</cp:coreProperties>
</file>