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 Need the Lor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reg Nelson and Phil McHug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3 River Oaks Music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 need the Lord, people need the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end of broke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eams, he's the open d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 need the Lord, people need the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ill we realize people need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2:48:51Z</dcterms:modified>
  <cp:revision>10</cp:revision>
  <dc:subject/>
  <dc:title>Walk With Me</dc:title>
</cp:coreProperties>
</file>