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Sculpto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Mountai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Thornbur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sculptor of the mountai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miller of the s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jeweler of the heave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potter of the lan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womb of all cre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formless; shape us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nuisance to the Pharao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cleaver of the se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pillar in the dark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beacon of the fre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fount of all deliv'ran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ghtless; lead us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dresser of the vineya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planter of the whea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reaper of the harv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source of all we ea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host at every tab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ungry; feed us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unexpected infa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calm, determined you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table turning proph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resurrected truth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present every mome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earching; meet us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04:01Z</dcterms:modified>
  <cp:revision>22</cp:revision>
  <dc:subject/>
  <dc:title>A Shield About Me</dc:title>
</cp:coreProperties>
</file>