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 of My Hear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erry Butler (Ps. 25:4-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Mercy / Vineyard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close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 all of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 of m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your holy way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 can walk in your tru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your holy way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me wholly devoted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close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 all of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 of m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yes so I can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nderful things that you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heart up more and 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me wholly devoted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close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 all of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 of m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7T05:38:30Z</dcterms:modified>
  <cp:revision>18</cp:revision>
  <dc:subject/>
  <dc:title>I Am the God That Healeth Thee</dc:title>
</cp:coreProperties>
</file>