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ighe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rom the liturg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lory to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in the high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eace to God’s people on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leader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 God, heavenly King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lmighty God and Father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e worship you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e give you thanks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e praise you for your glory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lory to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in the high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eace to God’s people on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leader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 Jesus Christ, only Son of the Father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 God, Lamb of Go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you take away the sin of the world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ve mercy on us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leader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You are seated at the right hand of the Father:  receive our prayer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lory to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in the high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eace to God’s people on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Women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lone are the ho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, you alone are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st High, Jesus Chri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All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Holy Spirit in the glory of God the Fath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lory to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in the high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eace to God’s people on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02:33:23Z</dcterms:modified>
  <cp:revision>45</cp:revision>
  <dc:subject/>
  <dc:title>Walk With Me</dc:title>
</cp:coreProperties>
</file>