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now Lay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Grou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9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nglo-English carol (Luke 2:1-2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now lay on the grou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ars shone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hrist our Lord was born on Christmas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 Dominu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 Dominu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 Dominu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 Dominu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as Mary, daughter pure of holy An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rought into this world the God made m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laid him in a stall at Bethlehem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ss and oxen shar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oof with th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 Dominu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 Dominu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us the manger poor became a thr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e whom Mary bore was God the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then, let us join the heavenly hos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raise the Father, Son, and Holy Gho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 Dominu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 Dominu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23:45:27Z</dcterms:modified>
  <cp:revision>50</cp:revision>
  <dc:subject/>
  <dc:title>A Shield About Me</dc:title>
</cp:coreProperties>
</file>