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turn to you deep with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he past to the d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to you with tears and fast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ready to for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 will find a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you, 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ppy, we who dwell with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in your hou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we sing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goodness, 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faithfulne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our shephe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thing that we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een pastures we will find our 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waters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06:03Z</dcterms:modified>
  <cp:revision>9</cp:revision>
  <dc:subject/>
  <dc:title>In His Time</dc:title>
</cp:coreProperties>
</file>