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ot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an Janz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 Root of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, cleanser of all th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oint our wounds, awaken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ustrous movement of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Vigor, saving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free us by your living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ing flesh to wear our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creation is resto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wisdom, soaring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compass us with wings unfurl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rry us, encircling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, below, and through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18:39:21Z</dcterms:modified>
  <cp:revision>82</cp:revision>
  <dc:subject/>
  <dc:title>A Shield About Me</dc:title>
</cp:coreProperties>
</file>