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to My Hear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4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R. H. McDani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light in the valley of death now for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gates of the City beyond I can s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oods of joy o'er my soul like the sea billows ro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hall go there to dwell in that City, I kn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'm happy, so happy, as onward I g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oods of joy o'er my soul like the sea billows ro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wonderful change in my life has been wrou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light in my soul for which long I had sou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oods of joy o'er my soul like the sea billows ro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ceased from my wandering and going astr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y sins, which were many, are all washed aw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oods of joy o'er my soul like the sea billows ro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possessed of a hope that is steadfast and su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o dark clouds of doubt now my pathway obscu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oods of joy o'er my soul like the sea billows ro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Jesus came into my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27T04:04:27Z</dcterms:modified>
  <cp:revision>104</cp:revision>
  <dc:subject/>
  <dc:title>A Shield About Me</dc:title>
</cp:coreProperties>
</file>