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nton Utterbach (Prov. 18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Universal Polygram Intl. Publ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is a strong t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eous run into it and they are sa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is a strong t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eous run into it and they are sa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22:17:55Z</dcterms:modified>
  <cp:revision>19</cp:revision>
  <dc:subject/>
  <dc:title>As the Deer</dc:title>
</cp:coreProperties>
</file>