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Glory Come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ev. Willard F. Jabus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Willard F. Jabus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glory comes, the nation rej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gates before him, lift up your v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the king of glory; how shall we call him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Emmanuel, the promised of ag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glory comes, the nation rej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gates before him, lift up your v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of Galilee, in city or villag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goes among his people curing their ill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glory comes, the nation rej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gates before him, lift up your v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n of David's son, our Savior and broth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of Galilee was never ano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glory comes, the nation rej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gates before him, lift up your voi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33:58Z</dcterms:modified>
  <cp:revision>48</cp:revision>
  <dc:subject/>
  <dc:title>A Shield About Me</dc:title>
</cp:coreProperties>
</file>