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ove withhe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strength misu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ildren's innocence abu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lee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anger's f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rust betray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women battered and afrai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w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l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ungry mouth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running so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reatures dying without ca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ai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ones to mel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eace to s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arts to hold each other's n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understand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ai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4T22:24:24Z</dcterms:modified>
  <cp:revision>11</cp:revision>
  <dc:subject/>
  <dc:title>A Shield About Me</dc:title>
</cp:coreProperties>
</file>