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alle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7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avid Haas (Mic. 6:8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8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Live in the ligh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with the joy and the love of the Lord!  We are call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light for the kingdom, to live in the freedom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ity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all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ct with just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alled to love tender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alled to serve one ano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humbly with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Open your he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your mercy to all those in fear!  We are call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hope for the hopeless so all hatred and blindness will be no mo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all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ct with just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alled to love tender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alled to serve one ano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humbly with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!  Sing a new so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of that great day when all will be one!  God will reig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'll walk with each other as sisters and brothers united in lo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all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ct with just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alled to love tender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alled to serve one ano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humbly with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8T05:29:29Z</dcterms:modified>
  <cp:revision>25</cp:revision>
  <dc:subject/>
  <dc:title>I Am the God That Healeth Thee</dc:title>
</cp:coreProperties>
</file>