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ftly Pass th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uds of Gl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homas H. Troege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Oxford University Pres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ftly pass the clouds of glory, heaven's voice the dazzling l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ses and Elijah vanish; Christ alone commands the heigh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ter, James, and John fall silent, turning from the summit's r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wnward toward the shadowed valley where their Lord has fixed his ey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impsed and gone the revelation, they shall gain and keep its tru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by building on the mountain any shrine or sacred booth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by following the Savior through the valley to the cro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y testing faith's resilience through betrayal, pain, and l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transfigure our perception with the purest light that shin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ecast our life's intentions to the shape of your desig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seek no other glory than what lies past Calvary's hi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living and our dying and our rising by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7T00:10:53Z</dcterms:modified>
  <cp:revision>60</cp:revision>
  <dc:subject/>
  <dc:title>A Shield About Me</dc:title>
</cp:coreProperties>
</file>