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ve Just Come from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ountai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5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frican American Spiritu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O sinner, do you love Jesus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Yes, I do love my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Sinner, do you love Jesus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’s so swee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I’ve just come from the f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ve just come from the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’ve just come from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’s so swee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I’ve just come from the f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ve just come from the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’ve just come from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’s so swee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ve just come from the f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ve just come from the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’ve just come from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’s so swee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I’ve just come from the f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ve just come from the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’ve just come from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’s so swee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O brother, do you love Jesus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Yes, I do love my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Brother, do you love Jesus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’s so swee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I’ve just come from the f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ve just come from the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’ve just come from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’s so swee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I’ve just come from the f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ve just come from the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’ve just come from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’s so swee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O sister, do you love Jesus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Yes, I do love my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Sister, do you love Jesus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’s so swee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I’ve just come from the f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ve just come from the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’ve just come from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’s so swee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I’ve just come from the f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ve just come from the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’ve just come from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’s so swee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25T04:56:02Z</dcterms:modified>
  <cp:revision>16</cp:revision>
  <dc:subject/>
  <dc:title>Walk With Me</dc:title>
</cp:coreProperties>
</file>