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Wi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ord Ar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harles Wesl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with our Lord ar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ord, who made both earth and skie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 to save the world he ma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ose triumphant from the dea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the Prince of life and pe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amped the day forever hi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 the Lord has ma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ll may see his love display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feel his resurrection's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ise again, to fall no m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erfect righteousness renew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lled with all the life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us render him his 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olemn prayer approach his thr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eekness hear the gospel w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anks his dying love rec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joyful hearts and voices ra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ll his courts with songs of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16:25:19Z</dcterms:modified>
  <cp:revision>41</cp:revision>
  <dc:subject/>
  <dc:title>A Shield About Me</dc:title>
</cp:coreProperties>
</file>