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C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Mole End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Light of the World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make your servant s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how could there be any darkness i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are the Light of the Worl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Light of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Bread of Life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to set us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how could there be any hunger i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are the Bread of Lif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Bread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ve overcome the world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n us vict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hy could I fear when trouble is n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've overcome the worl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ve overcome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6T15:38:26Z</dcterms:modified>
  <cp:revision>6</cp:revision>
  <dc:subject/>
  <dc:title>In His Time</dc:title>
</cp:coreProperties>
</file>