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ain Killed Abel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ain killed Abel in a f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acob stole another's 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oseph's brothers gave him cha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pt and mourned  their fall from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family, small or grea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alousy twists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a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vals turn to enem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 at our hostilit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in church and world to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feelings still co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pl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rothers, sisters stand ap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 for ever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s, join in God's lam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 now and mourn, be penit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y to God: Forgi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 us as before the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2:31:38Z</dcterms:modified>
  <cp:revision>98</cp:revision>
  <dc:subject/>
  <dc:title>A Shield About Me</dc:title>
</cp:coreProperties>
</file>