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Came Down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85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Trad. Camero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0 WGRG The Iona Communit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came down that we may have lo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came down that we may have lov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came down that we may have lov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elujah forevermo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Why did he come?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came down that we may have pea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came down that we may have peac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came down that we may have peac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elujah forevermo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Why did he come?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came down that we may have jo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came down that we may have joy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came down that we may have joy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elujah forevermo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12T23:02:02Z</dcterms:modified>
  <cp:revision>42</cp:revision>
  <dc:subject/>
  <dc:title>A Shield About Me</dc:title>
</cp:coreProperties>
</file>