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Christ Jesu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omos Uno en Crist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Anon.; Eng. Trans. Alice Parker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Trans. ©1996 Abingdon Pres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solo Dios, un solo Señ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sola fe, un so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re one God, one mighty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abiding faith, one binding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solo bautismo, un solo Espírit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se es el Consola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ingle baptism, one Holy Comfor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ly Spirit, uniting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Christ Jesus, all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e spirit, all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Christ Jesus, all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e spirit, all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re one God, one mighty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abiding faith, one binding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ingle baptism, one Holy Comfor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ly Spirit, uniting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 en Cristo, somos u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, uno só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 en Cristo, somos u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, uno só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solo Dios, un solo Señ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sola fe, un sol am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solo bautismo, un solo Espírit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se es el Consola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 en Cristo, somos u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, uno só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Christ Jesus, all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e spirit, all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 en Cristo, somos u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, uno só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Christ Jesus, all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e spirit, all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2T05:16:06Z</dcterms:modified>
  <cp:revision>39</cp:revision>
  <dc:subject/>
  <dc:title>In His Time</dc:title>
</cp:coreProperties>
</file>