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3341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All Things Now Living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008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Katherine K. Davi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©1966 E. C. Schirmer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all things now living a song of thanksgiving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God the Creator triumphantly rais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o guides us and leads to the end of our day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's banners fly o'er us; God's light goes before us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 pillar of fire shining forth in the nigh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ill shadows have vanished and darkness is banishe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s forward we travel from light into light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law God enforces, the stars in their courses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sun in its orbit obediently shine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hills and the mountains, the rivers and fountains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deeps of the ocean proclaim the Divin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, too, should be voicing our love and rejoicing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glad adoration a song let us rais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ill all things now living unite in thanksgiving: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God in the highest hosanna and praise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6T20:29:32Z</dcterms:created>
  <dc:creator>Gary Wintergerst</dc:creator>
  <dc:description/>
  <dc:language>en-US</dc:language>
  <cp:lastModifiedBy>Gary Wintergerst</cp:lastModifiedBy>
  <cp:lastPrinted>1995-07-02T14:48:50Z</cp:lastPrinted>
  <dcterms:modified xsi:type="dcterms:W3CDTF">2001-02-03T03:46:45Z</dcterms:modified>
  <cp:revision>13</cp:revision>
  <dc:subject/>
  <dc:title>A Shield About Me</dc:title>
</cp:coreProperties>
</file>