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Eye Is on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arr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4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ivilla Marti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eye is on the sparrow, and I know he watch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eye is on the sparrow, and I know he watch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because I'm happy (I'm happy,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because I'm fre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I'm free,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is eye is on the sparr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know he watches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should I feel discouraged? Why should the shadows co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should my heart be lonely and long fo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h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is my portion? My constant friend is h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eye is on the sparrow, and I know he watch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eye is on the sparrow, and I know he watch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because I'm happy (I'm happy,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because I'm fre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I'm free,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is eye is on the sparr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know he watches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not your heart be troubled,” his tende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I he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esting on his goodness, I lose my doubts and fear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by the path he leadeth but one step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may se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eye is on the sparrow, and I know he watch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eye is on the sparrow, and I know he watch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because I'm happy (I'm happy,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because I'm fre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I'm free,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is eye is on the sparr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know he watches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ever I am tempted, whenever clouds ari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song gives place to sighing, when hop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me d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raw the closer to him, from care he sets me fre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6-09T14:29:29Z</dcterms:modified>
  <cp:revision>11</cp:revision>
  <dc:subject/>
  <dc:title>No Slide Title</dc:title>
</cp:coreProperties>
</file>