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oly Nigh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ethlehe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 (Luke 2:8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oly night in Bethlehem the air was filled with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ic voices sang on high and shepherds piped al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, glory, gloria! God's love is given bi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ot afraid!  Sing gloria, and peace to all the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music echo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town into the stable st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ary sang a lullaby and rocked her baby sma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, glory, gloria! God's love is given bi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ot afraid!  Sing gloria, and peace to all the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Joseph touched the lamb's soft wool and fed the donkey h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istled his own happy tune and thanked G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, glory, gloria! God's love is given bi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ot afraid!  Sing gloria, and peace to all the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and you will hear tonight these melodies of 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join your voice in harmony until the tale is tol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, glory, gloria! God's love is given bi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ot afraid!  Sing gloria, and peace to all the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6T15:42:58Z</dcterms:modified>
  <cp:revision>54</cp:revision>
  <dc:subject/>
  <dc:title>A Shield About Me</dc:title>
</cp:coreProperties>
</file>