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ith Gre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BMG Songs/Birdwing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're beautiful, your face is all I see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your hands are on this child, your grace abounds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're wonderful, your touch is all I ne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your hand is on this child, your healing I rece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5:45:38Z</dcterms:modified>
  <cp:revision>23</cp:revision>
  <dc:subject/>
  <dc:title>A Shield About Me</dc:title>
</cp:coreProperties>
</file>