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esome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h Mulli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BMG Song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an awesome God; he reig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above with wisdom, pow'r,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an awesome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0:21:07Z</dcterms:modified>
  <cp:revision>10</cp:revision>
  <dc:subject/>
  <dc:title>Give Thanks</dc:title>
</cp:coreProperties>
</file>