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 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going down of the s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shall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 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going down of the s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shall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praise y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 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going down of the s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shall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20:15:58Z</dcterms:modified>
  <cp:revision>12</cp:revision>
  <dc:subject/>
  <dc:title>A Shield About Me</dc:title>
</cp:coreProperties>
</file>