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 is living the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tomb he is ris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, opened heaven to all belie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first fruits from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our lives filled with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ness vanishes in the light of his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 hand of God raised me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nd of the Lord has triump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never die; I shall live telling his d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ne which the builders rejec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s the cornerstone chos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work of God for this marvel in our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5T01:48:59Z</dcterms:modified>
  <cp:revision>14</cp:revision>
  <dc:subject/>
  <dc:title>Give Thanks</dc:title>
</cp:coreProperties>
</file>