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Now, O Prince of Peace (O-So-So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3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Geonyong Lee; Marion Pop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8 Geonyong Le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-so-so o-so-s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ng-il eui im-gum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-ri-ga han-mo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-ru-ge ha-so-s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-so-so o-so-s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yong-hwa eui im-gu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-ri-ga han-mo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-ru-ge ha-so-s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now, O Prince of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ace, make us one bod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O Lord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oncile your peop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-so-so o-so-s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-rang eui im-gu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-ri-ga han-mo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-ru-ge ha-so-s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now, O God of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us one bod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O Lord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oncile your peop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-so-so o-so-s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-yu eui im-gum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-ri-ga han-mo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-ru-re ha-so-s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now and set us fr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 our Savio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O Lord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oncile all nation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-so-so o-so-s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ng-il eui im-gum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-ri-ga han-mo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-ru-ge ha-so-s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Hope of unity, mak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s one bod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O Lord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oncile all nation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now, O Prince of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ace, make us one bod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O Lord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oncile your peop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now, O God of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us one bod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O Lord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oncile your peop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now and set us fr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 our Savio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O Lord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oncile all nation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Hope of unity, mak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s one bod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O Lord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oncile all nation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-so-so o-so-s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yong-hwa eui im-gu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-ri-ga han-mo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-ru-ge ha-so-s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-so-so o-so-s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-rang eui im-gu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-ri-ga han-mo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-ru-ge ha-so-s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-so-so o-so-s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-yu eui im-gum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-ri-ga han-mo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-ru-re ha-so-s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22T05:34:25Z</dcterms:modified>
  <cp:revision>25</cp:revision>
  <dc:subject/>
  <dc:title>In His Time</dc:title>
</cp:coreProperties>
</file>