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It Had Not Be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5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garet P. Dourou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0 Margaret P. Dourou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it had not been for the Lord on my si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me where would I be, where would I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kept my enemies awa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et the sun shine through a cloudy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cked me in the cradle of his ar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e know I had been battered and scorn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if it had not been for the Lord on my si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me where would I be, where would I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never left me all al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gave the peace and joy I'd never 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answered when I knelt to pr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vict'ry the Lord brought me his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if it had not been for the Lord on my si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me where would I be, where would I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7T05:32:44Z</dcterms:modified>
  <cp:revision>16</cp:revision>
  <dc:subject/>
  <dc:title>A Shield About Me</dc:title>
</cp:coreProperties>
</file>