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ave Decided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Follow Jes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2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non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ave decided to follow Jes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ave decided to follow Jes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ave decided to follow Jes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turning back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turning back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orld behind me, the cross before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orld behind me, the cross before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orld behind me, the cross before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turning back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turning back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none go with me, still I will follo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none go with me, still I will follo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none go with me, still I will follow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turning back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turning back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25T02:25:19Z</dcterms:modified>
  <cp:revision>91</cp:revision>
  <dc:subject/>
  <dc:title>A Shield About Me</dc:title>
</cp:coreProperties>
</file>