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et Lunt (1 Cor. 11:23-2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Sovereign Music U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offered his body;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oured out his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s broke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ight b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y tabl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me d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of my brea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nk of my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bod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n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it remember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ied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blo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ed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forgiveness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you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9:16:06Z</dcterms:modified>
  <cp:revision>31</cp:revision>
  <dc:subject/>
  <dc:title>Walk With Me</dc:title>
</cp:coreProperties>
</file>