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r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African folk so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Hope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 and praise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 and praise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 and praise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 and praise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ut and praise God's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ut and praise God's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ut and praise God's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ut and praise God's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mighty God we ser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9:07:18Z</dcterms:modified>
  <cp:revision>28</cp:revision>
  <dc:subject/>
  <dc:title>A Shield About Me</dc:title>
</cp:coreProperties>
</file>