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King Jes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e Moo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Dayspring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King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Emmanu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, Lord of lords,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out eternity, I'll sing your prais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reign with you throughout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5:21Z</dcterms:modified>
  <cp:revision>27</cp:revision>
  <dc:subject/>
  <dc:title>A Shield About Me</dc:title>
</cp:coreProperties>
</file>