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ver My Head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4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frican American Spiritu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ver my head, I hear music in the ai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ver my head, I hear music in the ai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ver my head, I hear music in the ai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must be a God somew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6879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Oh, when the world is silent, oh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87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mm, I hear music in the ai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79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when the world is silent, oh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87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mm, I hear music in the ai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79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when the world is silent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87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mm, I hear music in the ai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7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must be a God somew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ver my head, I hear music in the ai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ver my head, I hear music in the ai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ver my head, I hear music in the ai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must be a God somew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6879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And when I'm feeling lonely, an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87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mm, I hear music in the ai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79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when I'm feeling lonely, an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87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mm, I hear music in the ai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79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when I'm feeling lonely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87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mm, I hear music in the ai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7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must be a God somew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ver my head, I hear music in the ai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ver my head, I hear music in the ai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ver my head, I hear music in the ai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must be a God somew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6879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Now when I think on Jesus, now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87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mm, I hear music in the ai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79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when I think on Jesus, now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87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mm, I hear music in the ai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79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when I think on Jesus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87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mm, I hear music in the ai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7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must be a God somew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ver my head, I hear music in the ai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ver my head, I hear music in the ai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ver my head, I hear music in the ai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must be a God somew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18:00:46Z</dcterms:created>
  <dc:creator>Gary Wintergerst</dc:creator>
  <dc:description/>
  <dc:language>en-US</dc:language>
  <cp:lastModifiedBy>Gary Wintergerst</cp:lastModifiedBy>
  <cp:lastPrinted>1996-01-02T13:57:40Z</cp:lastPrinted>
  <dcterms:modified xsi:type="dcterms:W3CDTF">2001-03-04T01:31:08Z</dcterms:modified>
  <cp:revision>12</cp:revision>
  <dc:subject/>
  <dc:title>No Slide Title</dc:title>
</cp:coreProperties>
</file>