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Com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sk Your Bles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Fred Pratt Gree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©1989 Hope Publishing Co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come to ask your bles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love that makes us 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as Christians, to acknowled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Lord, and you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, unless you bless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each other bles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as you live within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here depth of happi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our loving be a shar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gifts we each posse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no failure of forbeara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our love to bitter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come to ask your bles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presence of our friends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joy that blesses othe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love that never en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2T05:22:16Z</dcterms:modified>
  <cp:revision>40</cp:revision>
  <dc:subject/>
  <dc:title>In His Time</dc:title>
</cp:coreProperties>
</file>