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Lov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7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andt Han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Changing Church Foru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love, love,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love, love,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love so amazing. He's creat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wonderful love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an celebrate his love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oves every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an celebrate new life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oves every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love, love,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love, love,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love so amazing. He's creat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wonderful love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an sing about his love for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oves every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iving here inside of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oves every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love, love,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love, love,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love so amazing. He's creat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wonderful love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09T14:05:51Z</dcterms:modified>
  <cp:revision>32</cp:revision>
  <dc:subject/>
  <dc:title>A Shield About Me</dc:title>
</cp:coreProperties>
</file>