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Have Answer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 C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rman G. Stuempfle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7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have answered when you called, "Come, follow, follow me!"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at once have left behind both work and famil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ould the old, familiar round have held me b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clai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pt the spark within my heart from bursting into fl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have followed where you led through ancient Galil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roads unknown, b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s untried, beyond securit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ould I soon have hurried back where home and comfort dr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ruth you taught would not disturb the ordered world I knew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have matched my step with yours when crowds cried, "Crucif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n a rocky hill I saw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ross against the sk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ould I too have slipped away and left you there al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dying king with crown of thorns upon a terrible thron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rist, I cannot search my heart through all its tangled w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can I with a certa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d my steadfastness ap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nly pray that when you call, "Come, follow, follow m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ll give me strength beyond my own to follow faithful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23:23Z</dcterms:modified>
  <cp:revision>102</cp:revision>
  <dc:subject/>
  <dc:title>A Shield About Me</dc:title>
</cp:coreProperties>
</file>