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ing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Ledner (Ps. 32: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hid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ways fill my heart with songs of delive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afraid, I will tru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eak say, "I am strong in the strength of the Lor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hid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ways fill my heart with songs of delive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afraid, I will tru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eak say, "I am strong in the strength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46:52Z</dcterms:modified>
  <cp:revision>18</cp:revision>
  <dc:subject/>
  <dc:title>A Shield About Me</dc:title>
</cp:coreProperties>
</file>