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. Sp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Nelsi T. Johnson (Arr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amen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see the little bab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ying in a mang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n Christmas morning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 Jesus in the temp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alking to the elder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ow they all marveled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 Jesus at the seasho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reaching to the people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ealing all the sick ones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 Jesus on the cro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bearing all my si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bitter agony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es, Jesus died to save us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ose on Easter morn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ves foreve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're singing Alleluia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is my Savior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o lives forev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09:37Z</dcterms:modified>
  <cp:revision>30</cp:revision>
  <dc:subject/>
  <dc:title>A Shield About Me</dc:title>
</cp:coreProperties>
</file>