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aptized in Water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4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ichael Saward (Rom. 6:3-5) Jubilate 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Hym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2 Hope Publish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aptized in water, seale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e Spir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eansed by the blood of Christ, our King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irs of salvation, trusting his prom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fully now God’s praises we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aptized in water, seale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e Spir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d in the tomb with Christ, our King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with his rising, freed and forgi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fully now God’s praises we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aptized in water, seale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e Spir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rked with the sign of Christ, our King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of one Father, we are his childr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fully now God’s praises we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2-06-19T03:16:11Z</dcterms:modified>
  <cp:revision>15</cp:revision>
  <dc:subject/>
  <dc:title>Walk With Me</dc:title>
</cp:coreProperties>
</file>