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Song of Isai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ok of Common Prayer (Isa. 12:2-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The Church Pension F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you shall draw water with rejoic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springs of salvation.  And on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you shall s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Lor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 upon hi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his deeds known among the peopl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they rememb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is name is exal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praise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has done great things, and this is known in all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aloud inhabitants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ng out your your joy, for the great one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dst of you is the Holy One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4-05T01:39:28Z</dcterms:modified>
  <cp:revision>12</cp:revision>
  <dc:subject/>
  <dc:title>As the Deer</dc:title>
</cp:coreProperties>
</file>