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from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H. Troeger (Acts 17:2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Oxford University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from one blood all the families of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ircles of nurture that raised us from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anions who join us to walk through each sta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ildhood and youth and adulthood and a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urn to you, God with our thanks and our t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of the families we've known through the y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intimate networks on whom we depe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arent and partner and roommate and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earn through our families how closeness and tru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rease when our actions are loving and j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families have also distorted their rol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streating their members and bruising their soul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, Lord, to each famil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onflict and stor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ense of your wisdom and grace that transfor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p anger to insight which strengthens the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s clear the place where rebuilding c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iden that wisdom and grace to inclu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aces and viewpoints our families exclu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peace in each home bears and nurtures the bu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shared by all you have made from one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8T05:12:10Z</dcterms:modified>
  <cp:revision>23</cp:revision>
  <dc:subject/>
  <dc:title>I Am the God That Healeth Thee</dc:title>
</cp:coreProperties>
</file>