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9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niel Charles Dam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3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love would send to reveal and to me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and a friend, Jesus co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we may find claiming heart, soul, and mi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strong and kind, Jesus co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we will meet, ragged clothes, dirty f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on the street, Jesus co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we once knew coming back into vi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born anew, Jesus co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born to pray and to show us the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here to stay, Jesus co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we receive all that love can concei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we believe, Jesus co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23:38:53Z</dcterms:modified>
  <cp:revision>49</cp:revision>
  <dc:subject/>
  <dc:title>A Shield About Me</dc:title>
</cp:coreProperties>
</file>