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 Run an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e We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ul Murakami &amp; 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 run and not b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heart be fil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love of God contin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you hope and keep you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you run and not b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life be filled with jo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road you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ead you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3T04:13:31Z</dcterms:modified>
  <cp:revision>50</cp:revision>
  <dc:subject/>
  <dc:title>Walk With Me</dc:title>
</cp:coreProperties>
</file>