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 (2 Cor. 4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Make 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ze on your kingly brigh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our faces display your like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changing from glo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rored here may our lives tell your s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he light of your love is shi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he darkness shin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ight of the World, shine upo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free by the truth you now bring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Jesus,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is land with the Father's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ze, Spirit,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on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, river,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od the nations with grace and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forth your word, Lord, and 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come to your awesom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hadows into your radian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blood I may enter your brigh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e, try me, consume all my dark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on me, shin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17:12Z</dcterms:modified>
  <cp:revision>26</cp:revision>
  <dc:subject/>
  <dc:title>I Am the God That Healeth Thee</dc:title>
</cp:coreProperties>
</file>