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o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piphan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 (Matt. 2:1-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dressed in finest cloth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oney talks and status g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ower and wealth he never chos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pov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in the safes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te from crime or cheap disg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afety never knew his f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jeopard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him where the spotlights gl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wds collect and critics sta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 one knew his presence ther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eemed he lived in obsc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in the streets,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d the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eemed, for all the world, absur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se who could no gifts aff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entertaining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, distinct from all we'd plan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 poorest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id what few might underst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ouched God in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by'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4:23Z</dcterms:modified>
  <cp:revision>53</cp:revision>
  <dc:subject/>
  <dc:title>A Shield About Me</dc:title>
</cp:coreProperties>
</file>