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ome to you in the sile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lift you from all your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hear my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laim you as my ch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I a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hope for all who are hopel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eyes for all who l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adows of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e y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rest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strength for all the despai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for the ones who dwell in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blind will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e will run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ill know m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Word that leads all to freed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peace the world cannot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ll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ing all your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now walk, and 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 afraid, I am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alled you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ollow me, I will bring you h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 and you are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44:40Z</dcterms:modified>
  <cp:revision>21</cp:revision>
  <dc:subject/>
  <dc:title>In His Time</dc:title>
</cp:coreProperties>
</file>