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Outcast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ong Outcast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0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ichard D. Leac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4 Selah Publishing Co.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outcast among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casts, dismissed with double scor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littled by the labels: "unclean" and "foreign born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e back with thanks for Jesus, and then went on his way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outcast among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casts shows God t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 to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outcast among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casts, where three were crucifi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rided by the others as they hung side by s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e back from deat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power, God had the final say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outcast among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casts shows God t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 to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tcasts among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casts the boundaries are redraw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words, "Your faith has saved you," by cross and Easter da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istant longed for centers of power, peace, and ca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life is free t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urish, are found now everyw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7T05:27:33Z</dcterms:modified>
  <cp:revision>62</cp:revision>
  <dc:subject/>
  <dc:title>A Shield About Me</dc:title>
</cp:coreProperties>
</file>