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lizabeth Good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New Spring Publ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come to you today with a simple prayer to pr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thing I do, 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[Leader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ord, You’ve formed me out of clay, for your glory I was m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Use this vessel as you choose. 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ou, prais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life, O Lord, prais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8T17:02:13Z</dcterms:modified>
  <cp:revision>11</cp:revision>
  <dc:subject/>
  <dc:title>A Shield About Me</dc:title>
</cp:coreProperties>
</file>