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He Loves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nd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0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Kurt Kaiser (1 John 3:1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5 Word Music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he loves you and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he loves you and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gave his l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more could he giv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he loves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he loves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he loves you and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to Calv'ry did go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love for sinners to sh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he did the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ught hope from despai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he loves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he loves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he loves you and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he loves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he loves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he loves you and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6-09T14:19:42Z</dcterms:modified>
  <cp:revision>67</cp:revision>
  <dc:subject/>
  <dc:title>A Shield About Me</dc:title>
</cp:coreProperties>
</file>