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fted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, Jesus lifted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, Jesus lift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, Jesus lift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glory halleluja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fte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tan had me bound, Jesus lifted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tan had me bound,, Jesus lift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tan had me bound, Jesus lift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glory halleluja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fte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was in trouble, Jesus lifted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was in troubl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ft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was in troubl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ft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glory halleluja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fte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7T04:53:44Z</dcterms:modified>
  <cp:revision>8</cp:revision>
  <dc:subject/>
  <dc:title>No Slide Title</dc:title>
</cp:coreProperties>
</file>