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rayer of St. Franc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hatred, let me bring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injury, your pardon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re's doubt true faith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's despair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, let me bring hop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darkness, o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re's sadness, eve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aster, grant that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ever see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uch to be consoled as to conso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understood as to underst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oved as to love with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in pardoning that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ardo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iving of ourselves that we rece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dying that we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20:25Z</dcterms:modified>
  <cp:revision>24</cp:revision>
  <dc:subject/>
  <dc:title>I Am the God That Healeth Thee</dc:title>
</cp:coreProperties>
</file>