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ave Mercy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7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wee Hong Lim (Isa. 1:18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5 Genl. Bd. of Global Mi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ave merc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have merc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ave mercy on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ave merc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have merc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ave mercy on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red like crimson is my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er yet is forgivenes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ave merc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have merc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ave mercy on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02:38:03Z</dcterms:modified>
  <cp:revision>46</cp:revision>
  <dc:subject/>
  <dc:title>Walk With Me</dc:title>
</cp:coreProperties>
</file>