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289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Unity W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Our So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2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Ken Medem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4 Brier Patch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unity we lift our so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grateful adorat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brothers brave and sisters strong. 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cause for celebratio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ose whose faithfuln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s kept us through distr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've shared with us our p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've held us in the n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lessed congregati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stories told and told aga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every generat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ive us strength in time of p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ive us consolati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pirits to revi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keep our dream ali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are far from ho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vil seasons co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firm is our foundati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sacred scriptures handed d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blessed trust and treasu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give us hope when hope is go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k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s weep with pleasu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71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n our eyes grow bli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1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eath is close behi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1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ll recite them stil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1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words our heart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 fil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1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ope beyond all measu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God our way, our bread, our r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all these gifts the Giv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trength, our guid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nurturing breas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hand will yet deliv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keeps us till the da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night shall pass aw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hate and fear ar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our work is d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 shall sing forev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20T02:53:42Z</dcterms:modified>
  <cp:revision>25</cp:revision>
  <dc:subject/>
  <dc:title>In His Time</dc:title>
</cp:coreProperties>
</file>