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Ubi Carita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9th Cent. Latin (1 Cor. 13:2-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dfast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Jesus Chri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gathered us toge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; God will dwell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dfast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r love, O Jesus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foremost in our liv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; God will dwell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dfast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love one ano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God has loved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; God will dwell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dfast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one in love toge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one bread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; God will dwell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dfast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ve of God in Jesus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s eternal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; God will dwell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dfast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ve of God in Jesus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never have an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; God will dwell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bicaritas et am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bicaritas Deus ibi 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6-09T14:37:52Z</dcterms:modified>
  <cp:revision>35</cp:revision>
  <dc:subject/>
  <dc:title>I Am the God That Healeth Thee</dc:title>
</cp:coreProperties>
</file>