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Walked This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nesome Valle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1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merican folk hym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walked this lonesome valle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ad to walk it by himself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nobody else could walk it for him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ad to walk it by himself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must walk this lonesome valle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ave to walk it by ourselv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nobody else can walk it for u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ave to walk it by ourselv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must go and stand your trial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have to stand it by yourself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nobody else can stand it for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have to stand it by yourself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8T22:33:46Z</dcterms:modified>
  <cp:revision>71</cp:revision>
  <dc:subject/>
  <dc:title>A Shield About Me</dc:title>
</cp:coreProperties>
</file>