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Font W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t Our Journe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effery Rowthor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font we start our journey, in the Easter faith baptiz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ubts and fears no longer blind us, by the light of Christ surpri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held out and realiz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pulpit we are fashioned by the Easter tale reto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witnesses and prophets, by the power of Christ made b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proclaimed, yet still unt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altar we are nourished with the Easter gift of brea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breaking it to pieces see the love of Christ outsp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embraced, yet freely sh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door we are commissioned, now the Easter victory's w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estore a world divid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peace of Chris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ster's work must st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8T22:55:57Z</dcterms:modified>
  <cp:revision>73</cp:revision>
  <dc:subject/>
  <dc:title>A Shield About Me</dc:title>
</cp:coreProperties>
</file>