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Comes Saili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Wi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ordon Ligh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5 Common Cup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comes sailing on the w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wings flashing in the s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a journey just beg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he passage of her f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ong rings out through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laughter, full of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 gentle girl in Galilee, a gentle breeze she c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hisper softly calling in the dar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omise of a child of peace whose reign would never e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y sang the Spirit song within her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iling on the w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wings flashing in the s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a journey just beg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he passage of her f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ong rings out through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laughter, full of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ying to the river, she waited circling hig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the child now grown so full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he rose up from the water, she swept down from the sk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e carried him awa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er emb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comes sailing on the w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wings flashing in the s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a journey just beg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he passage of her f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ong rings out through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laughter, full of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comes sailing on the w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wings flashing in the s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a journey just beg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g after the deep darkness that fell upo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fter dawn returned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ame of rising s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 touched the earth again, again her wings unfurl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ing life in wind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e as she flew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comes sailing on the w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wings flashing in the s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a journey just beg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he passage of her f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ong rings out through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laughter, full of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he passage of her f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ong rings out through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laughter, full of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 waters rocking on the morning or our bi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n empty cradle waiting to be fill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heart of God the Spirit moved upon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mother breathing life into her chi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iling on the w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wings flashing in the s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a journey just beg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he passage of her f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ong rings out through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laughter, full of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fli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were the dreamers whose eyes were given s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pirit filled their dreams with for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erts turned to gardens, broken hearts found de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n down the ag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she flew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9T23:53:12Z</dcterms:modified>
  <cp:revision>84</cp:revision>
  <dc:subject/>
  <dc:title>A Shield About Me</dc:title>
</cp:coreProperties>
</file>