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me Now to Gather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6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Mary Nelson Keithahn (Lk. 22:19-20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8 Abingdon Pr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me now to gather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me now to fe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’s holy presenc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ing the mea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in from the harvest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uit of the vin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mple the supper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cred the sig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me to remember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who was sen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me to say, “Thank you”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ll that he mean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to this table.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without fe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ill forgive you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lcome you 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who are hungry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and be f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rve one another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cup and this bre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who are troubled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urting, or sa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and find healing.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and be gla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3-31T00:33:04Z</dcterms:modified>
  <cp:revision>33</cp:revision>
  <dc:subject/>
  <dc:title>Walk With Me</dc:title>
</cp:coreProperties>
</file>