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289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Is Patienc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Night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1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Mary Nelson Keithah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2000 Abingdon Pr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is patience in the n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iting for the morning l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ver giving up the f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God give us fai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is laughter in the p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in pleasures that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m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st in one we can't expl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God give us fai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is steadfast will to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 firm and positi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ing ready still to gi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God give us fai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is courage under str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fidence in hopelessn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est gift we can posse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God give us fai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17T15:20:04Z</dcterms:modified>
  <cp:revision>14</cp:revision>
  <dc:subject/>
  <dc:title>In His Time</dc:title>
</cp:coreProperties>
</file>