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’s Pray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im Strathdee (Matt. 6:9-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Desert Flower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Our Fath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 in hea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kingdom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earth as in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daily br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our si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forgive tho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in against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from the 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ria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liver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i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For th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dom, and the power, and the glory are yours,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kingdom, and the power, and the glory are yours,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, and 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 in hea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2:48:25Z</dcterms:modified>
  <cp:revision>47</cp:revision>
  <dc:subject/>
  <dc:title>Walk With Me</dc:title>
</cp:coreProperties>
</file>