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 Thyself i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ght of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ob Hud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 thyself in the sight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 thyself in the sight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shall lift you u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er and hig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shall lift you u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 thyself in the sight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 thyself in the sight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shall lift you u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er and hig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shall lift you u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1:44:34Z</dcterms:modified>
  <cp:revision>93</cp:revision>
  <dc:subject/>
  <dc:title>A Shield About Me</dc:title>
</cp:coreProperties>
</file>