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with U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erbert F. Brokering (Luke 24:13-3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0 Concordia Publishing Ho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with us, till night has com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raise to you this day be su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our bread, open our eye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be our gre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pr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us, our spirits sigh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when our wear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s c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l again our loss, 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i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ake us to your 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us, the road will be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all our weeping, wailing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pe our tears, forgive our fear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ift the heavy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lk with us, till we beho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joyful life you will unfol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our eyes to see the priz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ake us to the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with us, till day is do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ears nor dark shall dim the s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er the heart, your grace impar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bring eternal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3T05:39:50Z</dcterms:modified>
  <cp:revision>56</cp:revision>
  <dc:subject/>
  <dc:title>I Am the God That Healeth Thee</dc:title>
</cp:coreProperties>
</file>