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Clou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Exod. 13:21-2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cloud of Presence, the exodus i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ilderness and dese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ibe shall make its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lavery left behind us, new hopes within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the lan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  where milk and hone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fiery Pillar, we follow yet with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shall come rejoicing though joy be born of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lost, though wandering, for by your light we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are still God's people. The journey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Go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, and guide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rust the promise through struggle and de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our sons and daughters may journe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l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dwells with mercy, and love is law's de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22:07Z</dcterms:modified>
  <cp:revision>27</cp:revision>
  <dc:subject/>
  <dc:title>In His Time</dc:title>
</cp:coreProperties>
</file>