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titude Now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Gracias, Seño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afael Montalv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Rafael Montalv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te pertenece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vida y todo mi s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ratitud te da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lo que tú nos 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, Señor, por lo que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bendecir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titude now accept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ender care that you provid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tu fidel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por tu provis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abundant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your supp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doy de lo que tú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ozo en me coraz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your bounty I give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blessings you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ibe hoy mi ofrend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la entrego a ti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this offering I b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my joyful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mo, Dios, do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digno de l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ring to you all my love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lorify and bles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con mi vid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con lo que me d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adore you,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breath I t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te pertenece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vida y todo mi s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living belongs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 am in your hands k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ratitud te da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lo que tú nos d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bundance of your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from the heart acc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titude now accept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ender care that you provid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abundant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your supp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your bounty I give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blessings you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this offering I b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my joyful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ring to you all my love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lorify and bles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adore you,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breath I t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living belongs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 am in your hands k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bundance of your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from the heart acc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, Señor, por lo que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bendecir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tu fidel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por tu provis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doy de lo que tú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ozo en me coraz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ibe hoy mi ofrend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la entrego a t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mo, Dios, do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digno de l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con mi vid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con lo que me 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1:46:18Z</dcterms:modified>
  <cp:revision>17</cp:revision>
  <dc:subject/>
  <dc:title>Give Thanks</dc:title>
</cp:coreProperties>
</file>