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Fire Is Mean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u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fire is meant for burning with a bright and warming fl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church is meant for mission, giving glory in God'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o preach our creed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customs, but to buil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ridge of c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join hands across the nations, finding neighbors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learners; we are teachers;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grim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eekers; we are givers; we are vessels made of c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gentle, loving actions we would show that Christ i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humble listen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we would live to God's de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green bud in the springtime is a sign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renew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ay we be signs of oneness 'mid earth's peoples, many hu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rainbow lights the heavens when a stor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past and g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lives reflect the radiance of God's new and glorious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3T05:48:18Z</dcterms:modified>
  <cp:revision>10</cp:revision>
  <dc:subject/>
  <dc:title>A Shield About Me</dc:title>
</cp:coreProperties>
</file>