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3341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Holy Spirit</a:t>
            </a:r>
            <a:br>
              <a:rPr sz="4800"/>
            </a:b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125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Mark Forema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82 Mercy/Vinyard Publishing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Holy Spiri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Holy Spiri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Holy Spiri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Holy Spiri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ar us calling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ar us calling to yo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give your gift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bring your truth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be our guid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 walk besid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i="1" lang="en-US" sz="4400" spc="-1" strike="noStrike">
                <a:solidFill>
                  <a:srgbClr val="00279f"/>
                </a:solidFill>
                <a:latin typeface="Arial"/>
              </a:rPr>
              <a:t>(Descant)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ar us calling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ar us calling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ar us calling to yo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ar us calling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ar us calling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ar us calling to yo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dify your church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ify our Lord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oint the way, come walk besid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6T20:29:32Z</dcterms:created>
  <dc:creator>Gary Wintergerst</dc:creator>
  <dc:description/>
  <dc:language>en-US</dc:language>
  <cp:lastModifiedBy>Gary Wintergerst</cp:lastModifiedBy>
  <cp:lastPrinted>1995-07-02T14:48:50Z</cp:lastPrinted>
  <dcterms:modified xsi:type="dcterms:W3CDTF">2001-02-22T04:47:08Z</dcterms:modified>
  <cp:revision>87</cp:revision>
  <dc:subject/>
  <dc:title>A Shield About Me</dc:title>
</cp:coreProperties>
</file>