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re Precious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n Silve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65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Lynn DeShaz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0 Integrity's Hosanna! Music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you are more precious than silv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you are more costly than gol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 you are more beautiful than diamond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nothing I desire compares to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08T05:47:57Z</dcterms:modified>
  <cp:revision>24</cp:revision>
  <dc:subject/>
  <dc:title>A Shield About Me</dc:title>
</cp:coreProperties>
</file>