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 Restor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Damean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 restored our common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pe, our liber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first it seemed a passing drea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aking fantas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hock of joy swept over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had wept so l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eds we wate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with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ang up into a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nt forth weeping, sowing see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rd, unyielding soi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aughing hearts we carry h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uit of all our to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the One wh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ve the grow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voices full and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eds we wate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with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ang up into a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liberating God, we pr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who are oppres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ose who long for what is 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ustice now be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for those who mourn this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ho suffer w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eeds they wat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up into a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44:05Z</dcterms:modified>
  <cp:revision>37</cp:revision>
  <dc:subject/>
  <dc:title>I Am the God That Healeth Thee</dc:title>
</cp:coreProperties>
</file>