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d and Lone th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's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l P. Daw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d and lone the prophet's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choes through the desert st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 us to make a ch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ding us to do God's will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urn from sin and be baptiz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your heart and mind and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tting all the sin you priz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 your life to God's contro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ar the fruit repentance sow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of justice, truth,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no other claim than th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your heart on things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the Lord will come in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ing clean the threshing floo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ill flames the chaff devou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at alone shall fill God's stor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uch preaching stark and b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hn proclaimed salvation n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timeless warnings h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of hope to all who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dare to journey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d by faith through ways unt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ome at last like Joh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hold the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2:22Z</dcterms:modified>
  <cp:revision>47</cp:revision>
  <dc:subject/>
  <dc:title>A Shield About Me</dc:title>
</cp:coreProperties>
</file>