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irit Sends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Forth to Ser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4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elores Dufner, OSB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Delores Dufn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irit sends us for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go in Jesus'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ring glad tidings t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oo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favor to procla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go to comfort thos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mour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et the burdened fr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ope is dim, t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re a drea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lp the blind to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go to be the hands of Chri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catter joy like se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, all our days, t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erish lif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do the loving d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let us go to serve in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spel to procla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Spirit ha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powered u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go in Jesus'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3-25T01:01:22Z</dcterms:modified>
  <cp:revision>14</cp:revision>
  <dc:subject/>
  <dc:title>A Shield About Me</dc:title>
</cp:coreProperties>
</file>