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Noho Pū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s Berthi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ho pū noho mai me ia'u kia'i a pule kiai a pu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me, remain here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and pray, watch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me, remain here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and pray, watch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here and keep watch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and pray, watch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and pray not to give w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mpt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is eag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flesh is w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is nearly broken with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ain here with me, stay awak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f it is possible let this cup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f this cannot pass me by without m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ing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3T05:33:11Z</dcterms:modified>
  <cp:revision>55</cp:revision>
  <dc:subject/>
  <dc:title>I Am the God That Healeth Thee</dc:title>
</cp:coreProperties>
</file>