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g of Hop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Canto de Esperanza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lvin Schutma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emos por la paz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de tu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ing, let us work for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, share our joy with a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uchemos por la paz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eles a ti,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king for a world that's 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when we hear Christ's c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God of hope go with us every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ing all our lives with love and joy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God of justice speed us on our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ing light and hope to every land and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ing, let us work for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, share our joy with a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king for a world that's 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when we hear Christ's c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Dios de la esperanza, gozo y paz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mundo en crisis, habla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 ver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de la justicia, mándanos tu luz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uz y esperanza en la oscur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emos por la paz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de tu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uchemos por la paz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eles a ti,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Dios de la esperanza, gozo y paz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mundo en crisis, habla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 verd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God of hope go with us every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ing all our lives with love and joy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de la justicia, mándanos tu luz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uz y esperanza en la oscur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God of justice speed us on our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ing light and hope to every land and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1T03:56:58Z</dcterms:modified>
  <cp:revision>43</cp:revision>
  <dc:subject/>
  <dc:title>I Am the God That Healeth Thee</dc:title>
</cp:coreProperties>
</file>