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nd of Trump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 (Ps. 15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Hinshaw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sound of trump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harp and lu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gentle sounding of flu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field and for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city squ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any time and an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wind and sunsh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dark of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rain or snow or in the morning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deepest valle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on the highest h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let your voice be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crashing cymba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pipe and st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ith the joyful songs you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on a weekday mor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on a Sunday no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by the light of sun or mo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time of s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time of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every mom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let your praise destr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the peace and qui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your work or pl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n every 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8:57:49Z</dcterms:modified>
  <cp:revision>26</cp:revision>
  <dc:subject/>
  <dc:title>A Shield About Me</dc:title>
</cp:coreProperties>
</file>