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Me a Clean Heart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3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garet P. Dourou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0 Margaret P. Dourou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me a clean heart s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may serve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fix my heart so tha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may be used by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'm not worthy of all those bless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me a clean heart, and I'll follow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6T01:56:06Z</dcterms:modified>
  <cp:revision>95</cp:revision>
  <dc:subject/>
  <dc:title>A Shield About Me</dc:title>
</cp:coreProperties>
</file>