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206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206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206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Know You More</a:t>
            </a:r>
            <a:br>
              <a:rPr sz="4800"/>
            </a:b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206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206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FWS 2161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20640" indent="0">
              <a:lnSpc>
                <a:spcPct val="11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6206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Joe Horness (Phil. 3:10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206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©1995 Ever Devoted Music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know you in all of your glory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love you with all that I am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 all of my heart, Lord, this is my prayer: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know you mor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know you in all of your power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trust you with all that I am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 all of my heart, Lord, this is my prayer: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know you mor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know you in all of your mercy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serve you with all that I am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 all of my heart, Lord, this is my prayer: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know you mor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know you in all of your power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trust you with all that I am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 all of my heart, Lord, this is my prayer: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know you mor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know you mor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19T20:00:46Z</dcterms:created>
  <dc:creator>Gary Wintergerst</dc:creator>
  <dc:description/>
  <dc:language>en-US</dc:language>
  <cp:lastModifiedBy>Gary Wintergerst</cp:lastModifiedBy>
  <cp:lastPrinted>1995-08-30T07:48:42Z</cp:lastPrinted>
  <dcterms:modified xsi:type="dcterms:W3CDTF">2001-03-05T05:49:04Z</dcterms:modified>
  <cp:revision>15</cp:revision>
  <dc:subject/>
  <dc:title>I Am the God That Healeth Thee</dc:title>
</cp:coreProperties>
</file>