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ike You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6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Scott Wesley Brow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©1997 Maranatha Praise, Inc., admin. by The Copyright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ike you, Jesus, more lik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y heart with your desire to make me more lik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ike you, Jesus, more like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 my lips with holy fire and make me more lik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are my merc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are my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y deepest sins have forever been era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me in your presen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 in your way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ng to bring you gl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ighteousness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ike you, Jesus, more lik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y heart with your desire to make me more lik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ike you, Jesus, more like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 my lips with holy fire and make me more lik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 my lips with holy fire and make me more lik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3-06-28T16:19:31Z</dcterms:modified>
  <cp:revision>21</cp:revision>
  <dc:subject/>
  <dc:title>I Am the God That Healeth Thee</dc:title>
</cp:coreProperties>
</file>