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d a Baby B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est Indian Car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45 Boosey &amp; Co., L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se men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se men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se men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 had a baby b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 had a baby b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ary had a baby b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sang when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sang when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sang when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!  believer! Oh, yes! beli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came where the baby wa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say that his name is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 from the glory, he come from the glorious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5:56:03Z</dcterms:modified>
  <cp:revision>56</cp:revision>
  <dc:subject/>
  <dc:title>A Shield About Me</dc:title>
</cp:coreProperties>
</file>