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0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rgentine folk song (Isa 6: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, my heart adores you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knows how to say to you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holy,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, santo, sant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corazón te ador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corazón te  sabe decir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 eres, Dio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, my heart adores you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, santo, sant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corazón te ador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733920"/>
            <a:ext cx="8305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knows how to say to you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holy,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corazón te  sabe decir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 eres, Dio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429000"/>
            <a:ext cx="83822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2-06-21T20:40:40Z</dcterms:modified>
  <cp:revision>14</cp:revision>
  <dc:subject/>
  <dc:title>A Shield About Me</dc:title>
</cp:coreProperties>
</file>