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iane Ball (Eccles. 3:1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8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time, in his ti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makes all things beautiful in his t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please show me every 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you’re teaching me your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 do just what You say in your t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time, in your ti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make all things beautiful in your t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y life to you I b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each song I have to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o you a lovely th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t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6T15:30:41Z</dcterms:modified>
  <cp:revision>5</cp:revision>
  <dc:subject/>
  <dc:title>In His Time</dc:title>
</cp:coreProperties>
</file>