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side M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St. Patrick's Breast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side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fore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hind 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ithin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bove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to 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n my right hand, Christ on my left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ll around 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eld in the str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my sleeping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my sitt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my ris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m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side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fore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hind 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ithin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bove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to 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7T05:43:29Z</dcterms:modified>
  <cp:revision>19</cp:revision>
  <dc:subject/>
  <dc:title>I Am the God That Healeth Thee</dc:title>
</cp:coreProperties>
</file>