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3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immy Owe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2 Bud John Song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,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Lord God Almight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lift our hearts before you as token of our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holy, holy, ho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ous Father, gracious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so blest to be your children, gracious Fathe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lift our hearts before you as a token of our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ous Father, gracious Fa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Jesus, precious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so glad that you've redeemed us, precious Jesu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lift our hearts before you as a token of our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Jesus, precious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Holy Spir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ll our hearts anew, Holy Spiri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lift our hearts before you as a token of our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Holy Spiri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, halleluja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, hallelujah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lift our hearts before you as a token of our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, 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9:53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4T00:18:42Z</dcterms:modified>
  <cp:revision>9</cp:revision>
  <dc:subject/>
  <dc:title>Give Thanks</dc:title>
</cp:coreProperties>
</file>