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Gathe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Your Tabl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6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arl P. Daw, Jr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9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gather at your tabl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listen to your w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know, O God, your presen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our hearts and minds be stir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urish us with sacred st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claim it as our ow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us through this holy banque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to make Love’s victory 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n our worship into wit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acrament of lif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us forth to love and serve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ing peace where there is str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6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, Christ, your great compass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orgive as you forga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still behold your imag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world you died to sa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ous Spirit, help us summ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ther guests to share that fea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riumphant Love will welco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se who had been last and le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no more will envy blind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will pride our peace destro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join with saints and angel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repeat the sounding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1T18:54:23Z</dcterms:modified>
  <cp:revision>36</cp:revision>
  <dc:subject/>
  <dc:title>Walk With Me</dc:title>
</cp:coreProperties>
</file>