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We Praise You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me, O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Amen Siakudumisa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6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9516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 Xhosa (South Africa)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6 Genl. Bd. Global Mi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ing Amen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we praise y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me, O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ing amen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we praise y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me, 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ing amen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bawo, amen, baw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we praise y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me, 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ing amen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76320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Masithi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 siakudumis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Masithi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 siakudumis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Masithi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bawo, amen, baw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 siakudumis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Masithi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Masithi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 siakudumis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ing amen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we praise y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me, 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Masithi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 siakudumis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Masithi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ing amen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we praise y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me, 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ing amen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78696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bawo, amen, baw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 siakudumis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Masithi.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bawo, amen, baw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we praise y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me, 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ing amen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4-03T04:54:50Z</dcterms:modified>
  <cp:revision>63</cp:revision>
  <dc:subject/>
  <dc:title>A Shield About Me</dc:title>
</cp:coreProperties>
</file>