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nry Smith (Luke 1:49-5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Integrity's Hosann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with a grateful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because he's given Jesus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with a grateful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because he's given Jesus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let the weak say,  "I am strong"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say,                  "I am r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f what the Lord has done for u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let the weak say,  "I am strong"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say,                  "I am r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f what the Lord has done for u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with a grateful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because he's given Jesus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with a grateful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because he's given Jesus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let the weak say,  "I am strong"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say,                  "I am r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f what the Lord has done for u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let the weak say,  "I am strong"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say,                  "I am r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f what the Lord has done for u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34:11Z</dcterms:modified>
  <cp:revision>8</cp:revision>
  <dc:subject/>
  <dc:title>Give Thanks</dc:title>
</cp:coreProperties>
</file>