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cott Wesley Brown &amp; Jeff Nel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promise we can mak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prayer and step of fai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difference we will mak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nly by hi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mountain we will cli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ray of hope we sh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left beh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nly by hi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 which God supp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known he will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us our Cornerst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o forth in gra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 which God supp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known he will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us our Cornerst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o forth in gra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oul we long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eart we hope to tea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we share his pe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nly by hi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loving word we s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ear we wipe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orrow turned to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nly by hi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 which God supp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known he will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us our Cornerst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o forth in gra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alone which God supp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known he will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us our Cornerst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o forth in gra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3-06-28T16:08:39Z</dcterms:modified>
  <cp:revision>17</cp:revision>
  <dc:subject/>
  <dc:title>I Am the God That Healeth Thee</dc:title>
</cp:coreProperties>
</file>