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nd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et Cent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nd the quiet cen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wded life w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 the room for hope to en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 the frame where w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free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r the chaos and the clut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r our eyes that we can s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things that really mat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at peace, and simply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ce is a friend who claims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ols the heat and slows the p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t is who speaks and names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s our being, touches ba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ing space within our thin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ing shades to show the s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ing courage when we're shrin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ing scope for faith beg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pirit let us trav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o each other's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loves and fears unrav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the space we gai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place for deepest dream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time for heart to c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pirit's lively schem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lways room to sp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2-06-19T15:05:48Z</dcterms:modified>
  <cp:revision>91</cp:revision>
  <dc:subject/>
  <dc:title>A Shield About Me</dc:title>
</cp:coreProperties>
</file>