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mily Prayer Song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8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orris Chapman (Josh. 24:1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3 Maranatha Praise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ll our homes with your presen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one are worthy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reveren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for me and my hou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serv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for me and my hou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serv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for me and my hou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serv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serv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we vow to live hol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wing our knees to you onl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for me and my hou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serv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for me and my hou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serv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for me and my hou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serv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serv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1T04:10:32Z</dcterms:modified>
  <cp:revision>45</cp:revision>
  <dc:subject/>
  <dc:title>I Am the God That Healeth Thee</dc:title>
</cp:coreProperties>
</file>