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His Holy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1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ndré Crouch (Ps. 103: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3 Bud John Song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e Lord, O my soul, and all that is within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his hol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done great th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done great th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done great things, bless his hol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e Lord, O my soul, and all that is within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his hol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15:28:15Z</dcterms:modified>
  <cp:revision>20</cp:revision>
  <dc:subject/>
  <dc:title>A Shield About Me</dc:title>
</cp:coreProperties>
</file>