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Num. 6:24-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and kee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make his face to shine on you and be gracious, gracio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and kee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lift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tenance on you and give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you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.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4T04:39:03Z</dcterms:modified>
  <cp:revision>51</cp:revision>
  <dc:subject/>
  <dc:title>Walk With Me</dc:title>
</cp:coreProperties>
</file>