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Nam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ove All Nam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7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Naida Hear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4 Scripture in So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name above all nam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utiful Savior, glorious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mmanuel, God is with 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Redeemer, living W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9T02:50:44Z</dcterms:modified>
  <cp:revision>29</cp:revision>
  <dc:subject/>
  <dc:title>A Shield About Me</dc:title>
</cp:coreProperties>
</file>