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82160" y="5429160"/>
            <a:ext cx="78552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9000"/>
          </a:bodyPr>
          <a:p>
            <a:pPr marL="2858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Look and Wonder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(¡Miren Qué Bueno!)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231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Pablo Sos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79 Concionero Abiert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8900640" y="644832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¡Miren qué bueno, qué bueno es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¡Miren qué bueno, qué bueno es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look and wonder, how good it is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iren qué bueno es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uando los hermanos están junto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ok at how good it is for us to be here all together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s como aceite bueno derramado sobre Aaró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t is like precious oil that runs from Aaron's head and bea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3352680"/>
            <a:ext cx="91440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¡Miren qué bueno, qué bueno es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look and wonder, how good it is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iren qué bueno es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uando las hermanas están junta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ok at how good it is for us to be here all together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3505320"/>
            <a:ext cx="91440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 parece al rocío sobre los montes de Sió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t is like Hebron's dew that falls upon the hills of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Zio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¡Miren qué bueno, qué bueno es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look and wonder, how good it is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iren qué bueno es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uando los reunimos todos junto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ok at how good it is for us to be here all together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look and wonder, how good it is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ok at how good it is for us to be here all together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t is like precious oil that runs from Aaron's head and bea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orque el Señor ahí manda vida eterna y bendició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t is the promise of the Lord eternally to bles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¡Miren qué bueno, qué bueno es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look and wonder, how good it is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look and wonder, how good it is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ok at how good it is for us to be here all together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t is like Hebron's dew that falls upon the hills of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Zio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look and wonder, how good it is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ok at how good it is for us to be here all together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t is the promise of the Lord eternally to bles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look and wonder, how good it is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¡Miren qué bueno, qué bueno es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iren qué bueno es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uando los hermanos están junto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s como aceite bueno derramado sobre Aaró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¡Miren qué bueno, qué bueno es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iren qué bueno es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uando las hermanas están junta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 parece al rocío sobre los montes de Sió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¡Miren qué bueno, qué bueno es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iren qué bueno es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uando los reunimos todos junto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orque el Señor ahí manda vida eterna y bendició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03T12:48:26Z</dcterms:created>
  <dc:creator>Gary Wintergerst</dc:creator>
  <dc:description/>
  <dc:language>en-US</dc:language>
  <cp:lastModifiedBy>Gary Wintergerst</cp:lastModifiedBy>
  <dcterms:modified xsi:type="dcterms:W3CDTF">2001-03-18T22:38:56Z</dcterms:modified>
  <cp:revision>24</cp:revision>
  <dc:subject/>
  <dc:title>In His Time</dc:title>
</cp:coreProperties>
</file>