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in the Morn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8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Natalie Slee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7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joy in the morning on that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joy in the morning on that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ylight will dawn when the darkness is g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joy in the morning on that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peace and contentment ever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peace and contentment ever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eart, every voice on that day will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peace and contentment ever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love and forgiveness everyw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love and forgiveness everyw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way of the Lord will that day be resto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’ll be love and forgiveness everyw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21:21:28Z</dcterms:modified>
  <cp:revision>53</cp:revision>
  <dc:subject/>
  <dc:title>Walk With Me</dc:title>
</cp:coreProperties>
</file>