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ing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inging, in the silence, in the hands expectant, op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ssing, in the breaking, in the presence at this t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wine of gr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brea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question, in the answer, in the moment of accept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eart’s cry, in the healing, in the circle of your peop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wine of gr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brea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3:40:47Z</dcterms:modified>
  <cp:revision>21</cp:revision>
  <dc:subject/>
  <dc:title>Walk With Me</dc:title>
</cp:coreProperties>
</file>