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gether We Serv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7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aniel Charles Dam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8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gether we serv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ited by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viting God's world to the glorious fe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rk and we pray through sorrow and jo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xtending your love to the last and the le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eek to becom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beacon of hop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amp for the heart and a light for the fee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earn, year by year, t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love shine throug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we see Christ in each person we mee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elcome the scarred, the wealthy, the poo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usy, the lonely,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need c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offer a home to those who will co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ands quick to help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earts ready to d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gether, by grace, we witness and work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embering Jesus, in whom we grow str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gether we serve in Spirit and tru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embering love is the strength of our s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09T05:30:52Z</dcterms:modified>
  <cp:revision>28</cp:revision>
  <dc:subject/>
  <dc:title>I Am the God That Healeth Thee</dc:title>
</cp:coreProperties>
</file>