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Has G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sake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L. Wal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William L. Wallace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y has God forsaken me?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ed out Jesus from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shared the loneli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our deepest grief and l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tomb of Lazar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ept with open grief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, God, the tears which hea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pain and unbelie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s his life expi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ce himself within God's car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our dying, Christ, may w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the love which conquers f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tery shrouds our life and dea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need not be afrai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ystery's heart i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eat love which Christ display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16:12Z</dcterms:modified>
  <cp:revision>69</cp:revision>
  <dc:subject/>
  <dc:title>A Shield About Me</dc:title>
</cp:coreProperties>
</file>