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to S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Whi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Father, strong to s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arm has bound the restless w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id the mighty ocean d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own appointed limits keep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vior, whose almighty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nd and waves submissive hea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lked upon the foaming dee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m amid its rage did sleep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who di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chaos wild and ru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its angry tumul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ave, for fierce confusion,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inity of love and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ravelers guard in danger's h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rock and tempest, fire and fo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tect them where-so-e'er they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evermore shall rise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praise from air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an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57:49Z</dcterms:modified>
  <cp:revision>48</cp:revision>
  <dc:subject/>
  <dc:title>I Am the God That Healeth Thee</dc:title>
</cp:coreProperties>
</file>