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'll B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ank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'll be ever thank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 will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to God, do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s, the Lord is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s, the Lord is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23:22Z</dcterms:modified>
  <cp:revision>52</cp:revision>
  <dc:subject/>
  <dc:title>I Am the God That Healeth Thee</dc:title>
</cp:coreProperties>
</file>