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mpt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ese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rman G. Stuempfle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mpted in the dese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ly, hungry, filled with drea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Use your power," the tempter tells hi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urn these barren rocks to brea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Not alone by bread," he answ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an the human heart be fil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by the Word that calls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ur deepest hunger stille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mpted at the temp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above its ancient wall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row yourself from lofty turre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wait to break your fall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uns such empty marvel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ts that fickle crowds reque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d, whose grace protects, preserves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ust never vainly test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mpted on the mount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lure of vast domai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all before me!  Be my servan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fame, you're sure to gain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ees the dazzling vis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s his eyes another w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d alone deserves our homag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lone will I ob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face temptation's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ly, struggling, filled with d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who knew the tempter's hou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be our living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race, protect, preserve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we fall your trust be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, above all other voic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Word we hear,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22:29:55Z</dcterms:modified>
  <cp:revision>63</cp:revision>
  <dc:subject/>
  <dc:title>A Shield About Me</dc:title>
</cp:coreProperties>
</file>