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arbara Ro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Palm Branch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reely f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them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quench the righteous th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who humbly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reely f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them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quench the righteous th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who humbly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ired, find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k, find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thirsty, come to the well and drink from waters f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hungry, come to the bread and eat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53:05Z</dcterms:modified>
  <cp:revision>94</cp:revision>
  <dc:subject/>
  <dc:title>A Shield About Me</dc:title>
</cp:coreProperties>
</file>