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, How Can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Forgiv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69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Ruth Duck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6 The Pilgrim Pres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, how can we forgi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bonds of love are torn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can we rise and start anew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trust reborn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human loving fail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every hope is go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love gives strength beyond our ow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face the daw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we have missed the mark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ears of anguish flow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can you still release our guil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debt we owe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ocean depth of grac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rpasses all our need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priest who shares our human pai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interced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dares to throw the ston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damn another's si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you, while knowing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ur pas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give us again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more we play the judg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by your grace we li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you, O God, forgiv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s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we forgi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20:00:46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3-07T05:59:53Z</dcterms:modified>
  <cp:revision>22</cp:revision>
  <dc:subject/>
  <dc:title>I Am the God That Healeth Thee</dc:title>
</cp:coreProperties>
</file>