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Dios Está Aquí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Mex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Choristers Guild (Tran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 tod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air I breath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morning sun that r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when I sing you'll hear my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stá aquí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el aire que respiri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la mañana se levant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que l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o y me puede oí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stá aquí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el aire que respiri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 tod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air I breath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la mañana se levant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que l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o y me puede oí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morning sun that r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when I sing you'll hear my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3:59:50Z</dcterms:modified>
  <cp:revision>13</cp:revision>
  <dc:subject/>
  <dc:title>A Shield About Me</dc:title>
</cp:coreProperties>
</file>