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So Goo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5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so g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so g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so go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so good to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cares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cares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cares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so good to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loves me 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loves me 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loves me 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so good to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so g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so g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so go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so good to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3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7T05:51:57Z</dcterms:modified>
  <cp:revision>19</cp:revision>
  <dc:subject/>
  <dc:title>A Shield About Me</dc:title>
</cp:coreProperties>
</file>