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 Need Is You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8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n Adl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9 Heart of the City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 need is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all I need is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source of all I n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 need is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 want is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all I want is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source of all I n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 want is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only hope is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my only hope is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source of all I n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only hope is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09T14:10:44Z</dcterms:modified>
  <cp:revision>38</cp:revision>
  <dc:subject/>
  <dc:title>A Shield About Me</dc:title>
</cp:coreProperties>
</file>