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and Fa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Us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te Carlson &amp; Kyle Matthew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New Spring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gifts that God has given by his grace to every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meant to give us each a place to ser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will come together to see his will be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hare in blessing more than we deser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differences among us God can us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apestry, his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 of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ve that unifies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faith that lea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follow with one purpose and on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ody, one peace, one spirit, one faith, one hop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each of us,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5:25:15Z</dcterms:modified>
  <cp:revision>13</cp:revision>
  <dc:subject/>
  <dc:title>A Shield About Me</dc:title>
</cp:coreProperties>
</file>