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Fie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effi Geiser Ruben (Isa. 55: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5 Lillenas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all go out with joy and be led forth with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ntains and the hills will break fo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you; there’ll be shouts of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trees of the field will cla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clap their ha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trees of the field will clap their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s of the field will clap their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s of the field will clap their h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you go out with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0:56:45Z</dcterms:modified>
  <cp:revision>48</cp:revision>
  <dc:subject/>
  <dc:title>Walk With Me</dc:title>
</cp:coreProperties>
</file>