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lly Willard (John 13:14-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Willing Heart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 humble and mee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lift up those who are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the prayer of my heart always b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35:03Z</dcterms:modified>
  <cp:revision>29</cp:revision>
  <dc:subject/>
  <dc:title>I Am the God That Healeth Thee</dc:title>
</cp:coreProperties>
</file>