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an Troub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Nada Te Turbe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t. Teresa de Jesú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an trouble, nothing can fright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seek God shall never go want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an trouble, nothing can fright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lone fills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da te turbe, nada te espan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en a Dios tiene nada le falt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da te turbe, nada te espan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o Dios bast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da te turbe, nada te espan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en a Dios tiene nada le falt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an trouble, nothing can fright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seek God shall never go want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da te turbe, nada te espan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o Dios bast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an trouble, nothing can fright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lone fills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7T05:40:23Z</dcterms:modified>
  <cp:revision>17</cp:revision>
  <dc:subject/>
  <dc:title>A Shield About Me</dc:title>
</cp:coreProperties>
</file>