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p Thy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ake up thy Cross," the Savior s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f thou wouldst my disciple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ny thyself, the world forsak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umbly follow after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p thy cross, let not its we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y weak spirit with alar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trength shall bear thy spirit u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ace thy heart and nerve thine ar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p thy cross, nor heed the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let thy foolish pride rebe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rd for thee the cross endu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ave thy soul from death and h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p thy cross and follow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ink till death to lay it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nly those who bear the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hope to wear the glorious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26:46Z</dcterms:created>
  <dc:creator>Gary Wintergerst</dc:creator>
  <dc:description/>
  <dc:language>en-US</dc:language>
  <cp:lastModifiedBy>Gary Wintergerst</cp:lastModifiedBy>
  <cp:lastPrinted>1996-01-02T16:37:14Z</cp:lastPrinted>
  <dcterms:modified xsi:type="dcterms:W3CDTF">1999-11-25T22:05:53Z</dcterms:modified>
  <cp:revision>3</cp:revision>
  <dc:subject/>
  <dc:title>No Slide Title</dc:title>
</cp:coreProperties>
</file>