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's a Widenes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God's Merc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121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's a wideness in God's merc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the wideness of the sea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's a kindness in God's justi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ch is more than libert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is welcome for the sinn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more graces for the goo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is mercy with the Savio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is healing in his blo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love of God is broad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n the measure of our mi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heart of the Eterna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most wonderfully ki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f our love were but more simpl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hould rest upon God's wor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our lives would be illumin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the presence of our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01T19:30:00Z</dcterms:created>
  <dc:creator>Gary Wintergerst</dc:creator>
  <dc:description/>
  <dc:language>en-US</dc:language>
  <cp:lastModifiedBy>Gary Wintergerst</cp:lastModifiedBy>
  <cp:lastPrinted>1995-07-01T18:39:42Z</cp:lastPrinted>
  <dcterms:modified xsi:type="dcterms:W3CDTF">1999-11-25T22:04:01Z</dcterms:modified>
  <cp:revision>3</cp:revision>
  <dc:subject/>
  <dc:title>No Slide Title</dc:title>
</cp:coreProperties>
</file>