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eople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Earth Do Dwe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eople that on earth do d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o the Lord with cheerful voi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serve with mirth, his praise forth t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ye before him and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 that the Lord is God ind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our aid he did us m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is folk, he doth us f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his sheep he doth us t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enter then his gates with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pproach with joy his courts unt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laud, and bless his name al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t is seemly so to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y! the Lord our God is g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mercy is forever 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at all times firmly st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from age to age end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6:5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26Z</dcterms:modified>
  <cp:revision>3</cp:revision>
  <dc:subject/>
  <dc:title>No Slide Title</dc:title>
</cp:coreProperties>
</file>