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Be To the Fathe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07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be to the Fath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o the S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o the Holy Ghos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it was in the beginn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now, and ever shall b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ld without en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. Am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6T21:33:02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2:48Z</dcterms:modified>
  <cp:revision>3</cp:revision>
  <dc:subject/>
  <dc:title>No Slide Title</dc:title>
</cp:coreProperties>
</file>