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h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dom,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4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hy kingdom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use of thine abo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urch our blest Redeemer sav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is own precious bl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hy church, O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walls before thee st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r as the apple of thine ey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raven on thy h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er my tears shall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er my prayers asce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er my cares and toils be gi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oils and cares shall 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yond my highest jo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prize her heavenly w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sweet communion, solemn vow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hymns of love and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e as thy truth shall l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Zion shall be gi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rightest glories earth can yie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righter bliss of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4T13:59:0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7:07Z</dcterms:modified>
  <cp:revision>3</cp:revision>
  <dc:subject/>
  <dc:title>No Slide Title</dc:title>
</cp:coreProperties>
</file>