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unt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the hills and everyw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Christ is 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shepherds kept their watch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silent flocks b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throughout the heave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shown a holy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the hills and everyw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Christ is 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epherds feared and tremb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! above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ng out the angel chor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ailed the Savior's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the hills and everyw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Christ is 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 in a lowly mang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umble Christ wa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sent us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lessed Christmas m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the hills and everyw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Christ is 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25:0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1Z</dcterms:modified>
  <cp:revision>2</cp:revision>
  <dc:subject/>
  <dc:title>No Slide Title</dc:title>
</cp:coreProperties>
</file>