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No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entered in those Wise Men th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reverently upon the kn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fered there, in his pres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gold and myrrh and frankincen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, Noel, Noel,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is the King of Israe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Noel the angel did s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to certain poor shepherds in fields as they l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fields where they lay keeping their sh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cold winter's night that was so deep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, Noel, Noel,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is the King of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looked up and saw a s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east, beyond them f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earth it gave great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it continued both day and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, Noel, Noel,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is the King of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y the light of that same s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ee Wise Men came from country f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k for a king was their int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follow the star wherever it wen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, Noel, Noel,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is the King of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tar drew nigh to the northw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Bethlehem it took its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re it did both stop and st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 over the place where Jesus l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, Noel, Noel,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is the King of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2:58:0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9Z</dcterms:modified>
  <cp:revision>2</cp:revision>
  <dc:subject/>
  <dc:title>No Slide Title</dc:title>
</cp:coreProperties>
</file>