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Prom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Ronald S. Cole-Tur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blessing, child of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with the Spirit's s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is water God has sealed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love and grace   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love, our love's exp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creation, loved inde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 from God, refresh our spiri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joy and laughter l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joy, our dearest tr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you are, from God you c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God we humbly giv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as one who bears Christ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God your loving Par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to know whose child you 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 to laugh and sing and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love God more tha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6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1Z</dcterms:modified>
  <cp:revision>4</cp:revision>
  <dc:subject/>
  <dc:title>No Slide Title</dc:title>
</cp:coreProperties>
</file>