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Th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t Sai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3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thou hast said:  "Do this for my sake,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ystical bread we gladly partak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thirst for the Spirit that flows from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ong to inherit thy fullness of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here we look up and grasp at thy mi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here that we hope thine image to fi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eans of bestowing thy gifts we emb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all things are owing to Jesus'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2:58:02Z</dcterms:created>
  <dc:creator>Gary Wintergerst</dc:creator>
  <dc:description/>
  <dc:language>en-US</dc:language>
  <cp:lastModifiedBy>Gary Wintergerst</cp:lastModifiedBy>
  <cp:lastPrinted>1995-12-25T20:39:16Z</cp:lastPrinted>
  <dcterms:modified xsi:type="dcterms:W3CDTF">1999-11-25T22:12:32Z</dcterms:modified>
  <cp:revision>4</cp:revision>
  <dc:subject/>
  <dc:title>No Slide Title</dc:title>
</cp:coreProperties>
</file>