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Within M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t a Melod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8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he's coming back to welcome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r beyond the starry sk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wing my flight to worlds unkn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reign with him on hi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est name I k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s my every lo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s me singing as I 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within my heart a melod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whispers sweet and low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r not, I am with thee, peace, be st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ll of life's ebb and fl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est name I k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s my every lo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s me singing as I 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y life was wrecked by sin and str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scord filled my heart with p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swept across the broken str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rred the slumbering chords ag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est name I k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s my every lo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s me singing as I 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sometimes he leads through waters dee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als fall across the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sometimes the path seems rough and stee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his footprints all the w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est name I k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s my every lo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s me singing as I 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sting on the riches of hi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ing neath his sheltering w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ways looking on his smiling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s why I shout and s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est name I k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s my every lo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s me singing as I 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3:59:42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41Z</dcterms:modified>
  <cp:revision>3</cp:revision>
  <dc:subject/>
  <dc:title>No Slide Title</dc:title>
</cp:coreProperties>
</file>