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ymn Of Prom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0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6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ulb there is a flow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seed, an apple t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ocoons, a hidden promis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terflies will soon be fr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cold and snow of wint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pring that waits to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revealed until its sea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hing God alone can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in every sile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ing word and melod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dawn in every dark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ing hope to you and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past will come the futu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it holds, a myste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revealed until its sea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hing God alone can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end is our begin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time, infinit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doubt there is believ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life, eternit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death, a resurrec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last, a vic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revealed until its sea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hing God alone can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1:49:3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59Z</dcterms:modified>
  <cp:revision>4</cp:revision>
  <dc:subject/>
  <dc:title>No Slide Title</dc:title>
</cp:coreProperties>
</file>