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adeth M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ed Thou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2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adeth me: O blessed thou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rds with heavenly comfort frau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'er I do, where'er I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' tis God's hand that leade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adeth me, he leade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own hand he leadeth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aithful follower I would b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y his hand he leade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mid scenes of deepest glo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where Eden's bowers blo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aters still, o'er troubled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' tis his hand that leade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adeth me, he leade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own hand he leadeth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aithful follower I would b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y his hand he leade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ould place my hand in t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ever murmur nor rep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tent, whatever lot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' tis my God that leade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adeth me, he leade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own hand he leadeth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aithful follower I would b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y his hand he leade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my task on earth is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by thy grace the victory's w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n death's cold wave I will not f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God through Jordan leade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adeth me, he leade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own hand he leadeth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aithful follower I would b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y his hand he leade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2T17:54:04Z</dcterms:created>
  <dc:creator>Gary Wintergerst</dc:creator>
  <dc:description/>
  <dc:language>en-US</dc:language>
  <cp:lastModifiedBy>Gary Wintergerst</cp:lastModifiedBy>
  <cp:lastPrinted>1995-07-02T18:08:16Z</cp:lastPrinted>
  <dcterms:modified xsi:type="dcterms:W3CDTF">1999-11-25T22:04:03Z</dcterms:modified>
  <cp:revision>5</cp:revision>
  <dc:subject/>
  <dc:title>No Slide Title</dc:title>
</cp:coreProperties>
</file>