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81880" y="5495760"/>
            <a:ext cx="685800" cy="98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Pass It On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UMH 572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Communiqu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only takes a spark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et a fire go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on all those ar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warm up in its g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’s how it is with God’s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you’ve experienced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pread his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ant to pass it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wonderous time is sp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ll the trees are budd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rds begin to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lowers start their bloo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’s how it with God’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you’ve experienced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ant to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’s fresh like sp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ant to pass it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sh for you my fri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happiness that I’ve f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an depend on hi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matters not where you’re b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shout it from the mountain to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my world to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of Love has come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pass it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1:32:30Z</dcterms:created>
  <dc:creator>Gary Wintergerst</dc:creator>
  <dc:description/>
  <dc:language>en-US</dc:language>
  <cp:lastModifiedBy>Gary Wintergerst</cp:lastModifiedBy>
  <dcterms:modified xsi:type="dcterms:W3CDTF">1999-11-25T22:07:20Z</dcterms:modified>
  <cp:revision>3</cp:revision>
  <dc:subject/>
  <dc:title>No Slide Title</dc:title>
</cp:coreProperties>
</file>