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Holy Gho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earts Inspi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0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Holy Ghost, our hearts inspi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thine influence pr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urce of the old prophetic fi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untain of life and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Holy Ghost (for moved by th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rophets wrote and spoke)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lock the truth, thyself the ke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seal the sacred boo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xpand thy wings, celestial D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od o'er our nature's n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our disordered spirits m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t there now be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, through the Spirit we shall kn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thou within us sh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ound, with all thy saints be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epths of love div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07:43:48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12:18Z</dcterms:modified>
  <cp:revision>4</cp:revision>
  <dc:subject/>
  <dc:title>No Slide Title</dc:title>
</cp:coreProperties>
</file>