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We Tha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3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we that love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t our joys be kn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in in a song with sweet acc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us surround the thr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ose refuse to s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never knew our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children of the heavenly K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speak their joys abro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ill of Zion yield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thousand sacred swee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fore we reach the heavenly fiel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walk the golden street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let our songs ab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very tear be dr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re marching through Emmanuel's gr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fairer worlds on hi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22:15:50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13:10Z</dcterms:modified>
  <cp:revision>3</cp:revision>
  <dc:subject/>
  <dc:title>No Slide Title</dc:title>
</cp:coreProperties>
</file>