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do, Lord, do, Lord, remembe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do, Lord, do, Lord, remembe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do, Lord, do, Lord, remembe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ook Jesus as my Savior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ook Jesus as my Savior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ook Jesus as my Savior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in trouble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in trouble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in trouble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dying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dying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dying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t a home in gloryland that outshines the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t a home in gloryland that outshines the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t a home in gloryland that outshines the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8:33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2Z</dcterms:modified>
  <cp:revision>3</cp:revision>
  <dc:subject/>
  <dc:title>No Slide Title</dc:title>
</cp:coreProperties>
</file>