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Jesus Lay 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's Strong Band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1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Jesus lay in death's strong b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offenses g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now at God's right hand he st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rings us life from hea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fore let us joyfu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ng to God right thankful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ud songs of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a strange and dreadful str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ife and death contend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ctory remained with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ign of death was end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ipped of power, no more it reig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empty form alone remai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's sting is lost forever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let us keep the festiv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to the Lord invites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himself the joy of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un that warms and lights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grace he doth imp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sunshine to the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ight of sin is ended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let us feast this Easter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true bread of hea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d of grace hath purged a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old and wicked lea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alone our souls will fe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our meat and drink inde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lives upon no other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3T08:43:5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18Z</dcterms:modified>
  <cp:revision>3</cp:revision>
  <dc:subject/>
  <dc:title>No Slide Title</dc:title>
</cp:coreProperties>
</file>