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What Their Joy an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ir Glory Must B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727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what their joy and their glory must b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se endless sabbaths the blessed ones se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rown for the valiant, to weary ones rest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shall be all, and in all ever bles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ruly, "Jerusalem" name we that shor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ity of peace that brings joy evermor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sh and fulfillment are not severed ther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r do things prayed for come short of the praye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, where no troubles distraction can br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the sweet anthems of Zion shall sing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ile for thy grace, Lord, their voices of prais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y blessed people eternally rais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w, in the meanwhile, with hearts raised on high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for that country must yearn and must sigh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eking Jerusalem, dear native lan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rough our long exile on Babylon's stran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w before him with our praises we fal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whom, and in whom, and through whom are all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whom, the Father; and in whom, the So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rough whom, the Spirit, with them ever On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1-02T13:27:58Z</dcterms:created>
  <dc:creator>Gary Wintergerst</dc:creator>
  <dc:description/>
  <dc:language>en-US</dc:language>
  <cp:lastModifiedBy>Gary Wintergerst</cp:lastModifiedBy>
  <cp:lastPrinted>1996-01-02T15:11:38Z</cp:lastPrinted>
  <dcterms:modified xsi:type="dcterms:W3CDTF">1999-11-25T22:13:08Z</dcterms:modified>
  <cp:revision>4</cp:revision>
  <dc:subject/>
  <dc:title>No Slide Title</dc:title>
</cp:coreProperties>
</file>