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O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1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22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The Church Pension Fund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22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Key of David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 wide our heavenl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ptives from their prison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quer death's deep mise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Dayspring, come and che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by thy justice 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rse the gloomy cloud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ath's dark shadows put to f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Desire of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all peoples in one heart and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ust thou brought us forth to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iver us from earthly str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O come,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ansom captive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ourns in lonely exile 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the Son of God app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Wisdom from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rder all things far and n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the path of knowledge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use us in her ways to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O come, great Lord of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 thy tribes on Sinai's he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ncient times once gave the l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loud and majesty and a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Root of Jesse's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nsign of thy people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e rulers silent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s on thy mercy c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17:24:36Z</dcterms:created>
  <dc:creator>Gary Wintergerst</dc:creator>
  <dc:description/>
  <dc:language>en-US</dc:language>
  <cp:lastModifiedBy>Gary Wintergerst</cp:lastModifiedBy>
  <cp:lastPrinted>1995-07-27T17:18:18Z</cp:lastPrinted>
  <dcterms:modified xsi:type="dcterms:W3CDTF">1999-11-25T22:04:35Z</dcterms:modified>
  <cp:revision>3</cp:revision>
  <dc:subject/>
  <dc:title>No Slide Title</dc:title>
</cp:coreProperties>
</file>