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st From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camest fro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ure celestial fire to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a flame of sacred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mean altar of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let it for thy glory b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nextinguishable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embling to its source ret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umble prayer and fervent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confirm my heart's des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k and speak and think for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let me guard the holy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stir up thy gift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 for all thy perfect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acts of faith and love rep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death thy endless mercies s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y sacrifice comple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45:0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4Z</dcterms:modified>
  <cp:revision>3</cp:revision>
  <dc:subject/>
  <dc:title>No Slide Title</dc:title>
</cp:coreProperties>
</file>