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lmigh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39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s. 2 &amp; 4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! O let all that is in me adore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hath life and breath, come now with praises before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am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nd from his people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forever adore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the Almighty, the King of creat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, praise him, for he is thy health and salvat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e wh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o his temple draw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me in glad ado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who o'er all things so wondrously reig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s thee on eagle's wings, e'er in his keeping maintai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care enfol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, whose true good he uphol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 thou not known his sustain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who doth prosper thy work and defen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his goodness and mercy here daily attend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nder ane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 Almighty can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th his love doth befriend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who doth nourish thy life and rest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tting thee well for the tasks that are ever before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o thy n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s a mother doth sp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ing the wings of grace o'e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3T22:00:50Z</dcterms:created>
  <dc:creator>Gary Wintergerst</dc:creator>
  <dc:description/>
  <dc:language>en-US</dc:language>
  <cp:lastModifiedBy>Gary Wintergerst</cp:lastModifiedBy>
  <cp:lastPrinted>1995-07-03T22:00:36Z</cp:lastPrinted>
  <dcterms:modified xsi:type="dcterms:W3CDTF">1999-11-25T22:04:07Z</dcterms:modified>
  <cp:revision>8</cp:revision>
  <dc:subject/>
  <dc:title>No Slide Title</dc:title>
</cp:coreProperties>
</file>