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sanna, Lou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sanna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7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sanna, loud hosann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ittle children sa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pillared court and templ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vely anthem ra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Jesus, who had blessed them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lose folded to his brea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children sang their prais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implest and the be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Olivet they follow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d an exultant crow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victor palm branch wav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hanting clear and lou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rd of earth and heav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ode on in lowly stat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r scorned that little childr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ould on his bidding wai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Hosanna in the highest!"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ancient song we 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Christ is our Redeem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rd of heaven our K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may we ever praise him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heart and life and voi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n his blissful presen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ternally rejoic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6T15:00:12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25T22:05:01Z</dcterms:modified>
  <cp:revision>3</cp:revision>
  <dc:subject/>
  <dc:title>No Slide Title</dc:title>
</cp:coreProperties>
</file>