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's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4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my listening 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nature sings, and round me ri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usic of the spher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st me in the thou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rocks and tre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skies and sea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and the wonders wrou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irds their carols 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rning light, the lily whi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clare their maker's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hines in all that's f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rustling grass I hear him pa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peaks to me ever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ne'er forg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ugh the wrong seems of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the ruler y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hould my heart be sa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s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heavens r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reigns; let the earth 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5T21:48:28Z</dcterms:created>
  <dc:creator>Gary Wintergerst</dc:creator>
  <dc:description/>
  <dc:language>en-US</dc:language>
  <cp:lastModifiedBy>Gary Wintergerst</cp:lastModifiedBy>
  <cp:lastPrinted>1995-07-05T21:38:58Z</cp:lastPrinted>
  <dcterms:modified xsi:type="dcterms:W3CDTF">1999-11-25T22:04:09Z</dcterms:modified>
  <cp:revision>3</cp:revision>
  <dc:subject/>
  <dc:title>No Slide Title</dc:title>
</cp:coreProperties>
</file>