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Blo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6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can wash away my sin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blood of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can make me whole again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ecious is the fl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akes me bright as s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other fount I k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y pardon this I se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y cleansing this my plea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ecious is the fl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akes me bright as s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other fount I k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can for sin aton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ught of good that I have don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ecious is the fl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akes me bright as s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other fount I k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all my hope and pea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all my righteousnes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ecious is the fl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akes me bright as s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other fount I k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2:27:3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33Z</dcterms:modified>
  <cp:revision>3</cp:revision>
  <dc:subject/>
  <dc:title>No Slide Title</dc:title>
</cp:coreProperties>
</file>