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Tierra Lejana Venimo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(From a Distant Home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4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(Sp:2; Eng:11; Sp/Eng: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0 W. Ehret &amp; G. K. Eva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a distant home the Savior we come see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ing as our guide the star so brightly beam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ly eastern star that tells us of God's mo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's wondrous light, O never cease thy shin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in the highest to the Son of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upon the earth be peace and love to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wing gold I bring the newborn babe so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ken of his power to reign above in glor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ly eastern star that tells us of God's mo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's wondrous light, O never cease thy shin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in the highest to the Son of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upon the earth be peace and love to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ankincense I bring the child of God's own choo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ken of our prayers to heaven ever ris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ly eastern star that tells us of God's mo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's wondrous light, O never cease thy shin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in the highest to the Son of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upon the earth be peace and love to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tter myrrh have I to give the infant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ken of the pain that he will bear to save 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ly eastern star that tells us of God's mo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's wondrous light, O never cease thy shin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in the highest to the Son of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upon the earth be peace and love to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tierra lejana venimos a ver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s sirve de guía la estrella de Orient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tierra lejana venimos a ver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s sirve de guía la estrella de Orient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a distant home the Savior we come see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ing as our guide the star so brightly beam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5080" y="335268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 brillante estrella que anuncias la auror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nos falte nunca tu luz beinhechor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ly eastern star that tells us of God's mo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's wondrous light, O never cease thy shin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5080" y="335268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al Hij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y en al tierra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in the highest to the Son of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upon the earth be peace and love to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recién nacido que es Rey de los rey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o le regalo para ornar sus sien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wing gold I bring the newborn babe so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ken of his power to reign above in glo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 brillante estrella que anuncias la auror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nos falte nunca tu luz beinhechor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ly eastern star that tells us of God's mo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's wondrous light, O never cease thy shin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5080" y="335268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al Hij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y en al tierra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in the highest to the Son of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upon the earth be peace and love to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o es Dios el Niño le regalo inciens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fume con alma que sube hasta el ciel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279f"/>
                </a:solidFill>
                <a:latin typeface="Arial"/>
              </a:rPr>
              <a:t>Frankincense I bring the child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God's own choo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ken of our prayers to heaven ever rising.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 brillante estrella que anuncias la auror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nos falte nunca tu luz beinhechor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ly eastern star that tells us of God's mo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's wondrous light, O never cease thy shin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080" y="335268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al Hij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y en al tierra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in the highest to the Son of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upon the earth be peace and love to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Niño del cielo que bajó a la tierr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 regalo mirra que inspira tristez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tter myrrh have I to give the infant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ken of the pain that he will bear to save 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 brillante estrella que anuncias la auror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nos falte nunca tu luz beinhechor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al Hij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y en al tierra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 brillante estrella que anuncias la auror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nos falte nunca tu luz beinhechor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ly eastern star that tells us of God's mo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's wondrous light, O never cease thy shin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5080" y="335268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al Hij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y en al tierra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in the highest to the Son of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upon the earth be peace and love to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recién nacido que es Rey de los rey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o le regalo para ornar sus sien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 brillante estrella que anuncias la auror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nos falte nunca tu luz beinhechor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al Hij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y en al tierra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o es Dios el Niño le regalo inciens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fume con alma que sube hasta el ciel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 brillante estrella que anuncias la auror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nos falte nunca tu luz beinhechor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al Hij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y en al tierra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Niño del cielo que bajó a la tierr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 regalo mirra que inspira tristez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 brillante estrella que anuncias la auror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nos falte nunca tu luz beinhechor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al Hij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y en al tierra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2:33:2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48Z</dcterms:modified>
  <cp:revision>8</cp:revision>
  <dc:subject/>
  <dc:title>No Slide Title</dc:title>
</cp:coreProperties>
</file>