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na Nobis Pace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7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na nobis pacem, pace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na nobis pace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na nobis pace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na nobis pace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na nobis pace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na nobis pace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09T13:22:40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5:39Z</dcterms:modified>
  <cp:revision>2</cp:revision>
  <dc:subject/>
  <dc:title>No Slide Title</dc:title>
</cp:coreProperties>
</file>