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Palabra D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 Es Rect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Righteous and Just Is th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Word of Our Lord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p: 2, Eng: 13, Sp/Eng: 2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0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palabra del Señor es rect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us obras son maravillosa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justicia y el derec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enen tronos a su diest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eous and just is the word of ou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 and marvelous are the Lord's work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ice and right are what God lo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it on thrones at God's right h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divine word from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were the heavens creat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from God's mouth came great breat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ming the stars of the morn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gathered up, as in wineskins, all of the waters of the ocea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put the deeps in their chambers and made valleys from the rive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eous and just is the word of ou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 and marvelous are the Lord's work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ice and right are what God lo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it on thrones at God's right h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 God, all earth and all peopl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w down to God, all you nation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piece works, grand and wondrous, 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command sprang to be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palabra del Señor es rect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us obras son maravillosa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justicia y el derec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enen tronos a su diest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ose addicted to evil find their plans by God frustrat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God's judgments and God's plans are confirmed, proclaimed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eous and just is the word of ou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 and marvelous are the Lord's work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ice and right are what God lo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it on thrones at God's right h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palabra del Señor es rect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us obras son maravillos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eous and just is the word of ou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 and marvelous are the Lord's work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justicia y el derec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enen tronos a su diestr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ice and right are what God lo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it on thrones at God's right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1040" y="350532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su divina palab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eron creados los ciel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divine word from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were the heavens creat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 aliento de su boc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 formaron los lucer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from God's mouth came great breat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ming the stars of the morn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Él como en odre recoge del inquieto mar las agu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gathered up, as in wineskins, all of the waters of the ocean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 abismo hace un estanque; de los rios las cañad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put the deeps in their chambers and made valleys from the rive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palabra del Señor es rect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us obras son maravillos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eous and just is the word of ou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 and marvelous are the Lord's work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justicia y el derec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enen tronos a su diestr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ice and right are what God lo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it on thrones at God's right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1040" y="350532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émale toda la tier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óstrense todos los pueblo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 God, all earth and all peopl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w down to God, all you nation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5080" y="350532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bras tan grandes y excels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u mandato surgier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piece works, grand and wondrous, 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command sprang to be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104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ustra el Señor los designios de los que en el mal se embriaga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ose addicted to evil find their plans by God frustrat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104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ólo sus planes y juicios se confirman y proclaman.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God's judgments and God's plans are confirmed, proclaimed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su divina palab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eron creados los ciel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 aliento de su boc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 formaron los lucer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Él como en odre recoge del inquieto mar las agua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palabra del Señor es rect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us obras son maravillos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eous and just is the word of ou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 and marvelous are the Lord's work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justicia y el derec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enen tronos a su diestr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ice and right are what God lo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it on thrones at God's right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1040" y="350532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 abismo hace un estanque; de los rios las cañad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palabra del Señor es rect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us obras son maravillosa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justicia y el derec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enen tronos a su diest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émale toda la tier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óstrense todos los pueblo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bras tan grandes y excels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u mandato surgier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ustra el Señor los designios de los que en el mal se embriaga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ólo sus planes y juicios se confirman y proclam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1:07:36Z</dcterms:created>
  <dc:creator>Gary Wintergerst</dc:creator>
  <dc:description/>
  <dc:language>en-US</dc:language>
  <cp:lastModifiedBy>Gary Wintergerst</cp:lastModifiedBy>
  <cp:lastPrinted>1995-08-29T11:20:42Z</cp:lastPrinted>
  <dcterms:modified xsi:type="dcterms:W3CDTF">1999-11-25T22:03:55Z</dcterms:modified>
  <cp:revision>8</cp:revision>
  <dc:subject/>
  <dc:title>No Slide Title</dc:title>
</cp:coreProperties>
</file>