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 Day T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s Him R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 day that sees him rise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s throne above the skies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awhile to mortals given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scends his native heaven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the glorious triumph waits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your heads, eternal gates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th conquered death and sin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he King of glory in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! the heaven its Lord receives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he loves the earth he leaves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returning to his throne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he calls the world his own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! he lifts his hands above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! he shows the prints of love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his gracious lips bestow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ings on his church below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3T07:52:2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14Z</dcterms:modified>
  <cp:revision>3</cp:revision>
  <dc:subject/>
  <dc:title>No Slide Title</dc:title>
</cp:coreProperties>
</file>