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Up, Y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ints of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7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up, Ye saints of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done with lesser thing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heart and mind and soul and streng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rve the King of k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up, Ye saints of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dom tarries lo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in the day of brotherho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nd the night of wr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up, Ye saints of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urch for you doth wa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strength unequal to her task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up, and make her grea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high the cross of Chris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ead where his feet have tr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brothers of the Son of M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up, Ye saints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16:39:3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7:21Z</dcterms:modified>
  <cp:revision>3</cp:revision>
  <dc:subject/>
  <dc:title>No Slide Title</dc:title>
</cp:coreProperties>
</file>