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thou Christ of great com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our fearful hearts by conflict re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, thy people, from consuming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y our own false hopes and aims are sp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God's gift from highest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to hungry souls the brea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thy spirit unto us be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earth's wounds and end all bitter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afoot on dusty high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to wandering souls the path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thou beside us lest the tempting by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re us away from thee to endles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who by thy cross didst sav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and dark despair, from sin and gui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nder back the love thy mercy g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ou our lives, and use them as thou wil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O Christ o'er death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y this sign didst conquer grief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be faithful to thy gospel gl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our Lord! Thou dost forever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23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3Z</dcterms:modified>
  <cp:revision>4</cp:revision>
  <dc:subject/>
  <dc:title>No Slide Title</dc:title>
</cp:coreProperties>
</file>