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Speak to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6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speak to me, that I may spea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iving echoes of thy t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has sought, so let me see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erring children lost and 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trengthen me, that while I st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m on the rock, and strong in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ay stretch out a loving h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restlers with the troubled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each me, Lord, that I may tea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ecious things thou dost imp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ng my words, that they may rea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idden depths of many a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ill me with thy fullness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my very heart o'erf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kindling thought and glowing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love to tell, thy praise to sh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use me, Lord, use even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s thou wilt, and when, and w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thy blessed fac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rest, thy joy, thy glory sh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28:5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11Z</dcterms:modified>
  <cp:revision>3</cp:revision>
  <dc:subject/>
  <dc:title>No Slide Title</dc:title>
</cp:coreProperties>
</file>