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pirit of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3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pirit of the living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light and fire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cend upon thy church once m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it truly th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it with love and joy and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righteousness and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Christ shall dwell in human hea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 and sorrow c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, wind of God! With wisdom b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our minds are fr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mists of error, clouds of doub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blind our eyes to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rn, winged fire! Inspire our lip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flaming love and ze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reach to all thy great good ne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glorious common-we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us to utter living wor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ruth which all may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nguage all may underst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ove speaks loud and cl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every age and race and cli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blend their creeds in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arth shall form one fami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hom thy will is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shall we know the power of Chri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came this world to sa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shall we rise with him to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soars beyond the gra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arth shall win true holi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makes thy children whol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, perfected by thee, we rea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ion's glorious goa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15:18:42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07Z</dcterms:modified>
  <cp:revision>4</cp:revision>
  <dc:subject/>
  <dc:title>No Slide Title</dc:title>
</cp:coreProperties>
</file>