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Now in Pe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6 Hinshaw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now in peace, go now in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love of God surround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where, everywhere you may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59:4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44Z</dcterms:modified>
  <cp:revision>4</cp:revision>
  <dc:subject/>
  <dc:title>No Slide Title</dc:title>
</cp:coreProperties>
</file>