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, O God, Ou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s and Daughte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,O God, our sons and daught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your cleansing waters f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mber them among your peop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as Christ blessed long a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ve them garments bright and spark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pass them with love and light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, anoint them; send your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dove and heart’s de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ho bring them long for nurtu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milk may we be f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join your feast, parta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p of blessing, living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renew us, guide our footstep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from sin and all its snar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Christ in living, dy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pirit, children, hei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deep your holy wisdo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magined, all your 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r name be glory, hon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ur lives we worship,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 stand befo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 washed and Spirit 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grace, our lives we off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reate us; God, transfor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0:32:32Z</dcterms:created>
  <dc:creator>Gary Wintergerst</dc:creator>
  <dc:description/>
  <dc:language>en-US</dc:language>
  <cp:lastModifiedBy>Gary Wintergerst</cp:lastModifiedBy>
  <cp:lastPrinted>1995-12-25T20:14:02Z</cp:lastPrinted>
  <dcterms:modified xsi:type="dcterms:W3CDTF">1999-11-25T22:12:19Z</dcterms:modified>
  <cp:revision>7</cp:revision>
  <dc:subject/>
  <dc:title>No Slide Title</dc:title>
</cp:coreProperties>
</file>