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from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lms of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from the realms of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g your flight o'er all the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sang creation's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roclaim Messiah's bi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Christ, the newborn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s, in the field abi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o'er your flocks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th us is now resi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nder shines the infant l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ges, leave your contempl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er visions beam af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great Desire of nat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ave seen his natal sta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, before the altar b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long in hope and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ddenly the Lord,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temple shall appea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22:0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9Z</dcterms:modified>
  <cp:revision>2</cp:revision>
  <dc:subject/>
  <dc:title>No Slide Title</dc:title>
</cp:coreProperties>
</file>