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3 The Rodeheaver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rve a risen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in the world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at he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foes may s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his hand of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his voice of che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ust the time I nee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always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the world around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his loving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gh my heart grows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ver will desp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at he is lea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stormy bl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his appe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ome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O Christ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 an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halleluja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Christ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 of all who seek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lp of all who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is so lo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od and 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1:06:34Z</dcterms:created>
  <dc:creator>Gary Wintergerst</dc:creator>
  <dc:description/>
  <dc:language>en-US</dc:language>
  <cp:lastModifiedBy>Gary Wintergerst</cp:lastModifiedBy>
  <cp:lastPrinted>1995-07-30T22:04:06Z</cp:lastPrinted>
  <dcterms:modified xsi:type="dcterms:W3CDTF">1999-11-25T22:05:13Z</dcterms:modified>
  <cp:revision>4</cp:revision>
  <dc:subject/>
  <dc:title>No Slide Title</dc:title>
</cp:coreProperties>
</file>