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the Fa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Can Rem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5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the faith which can rem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k the mountain to a pl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the childlike praying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longs to build thy house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love, let it my heart o'er-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my simple soul dev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ould the precious time rede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nger live for this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pend and to be spent for the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have not yet my Savior kn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y on these my mission pr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ly breathe, to breathe thy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talents, gifts, and graces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thy blessed hands rece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me live to preach thy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me to thy glory l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every sacred moment spe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ublishing the sinner's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large, inflame, and fill m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boundless charity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hall I all my strength exe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ve them with a zeal like t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ad them to thy open 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heep for whom the Shepherd d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07:24Z</dcterms:created>
  <dc:creator>Gary Wintergerst</dc:creator>
  <dc:description/>
  <dc:language>en-US</dc:language>
  <cp:lastModifiedBy>Gary Wintergerst</cp:lastModifiedBy>
  <cp:lastPrinted>1995-12-27T02:01:34Z</cp:lastPrinted>
  <dcterms:modified xsi:type="dcterms:W3CDTF">1999-11-25T22:12:38Z</dcterms:modified>
  <cp:revision>4</cp:revision>
  <dc:subject/>
  <dc:title>No Slide Title</dc:title>
</cp:coreProperties>
</file>