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place of quiet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lace where sin cannot mo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blest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from the heart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us who wait before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place of comfort sw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lace where we our Savior m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blest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from the heart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us who wait before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place a place of full re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lace where all is joy and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blest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from the heart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us who wait before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40:4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14Z</dcterms:modified>
  <cp:revision>3</cp:revision>
  <dc:subject/>
  <dc:title>No Slide Title</dc:title>
</cp:coreProperties>
</file>