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ail the Po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'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55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ye martyrs of your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from his altar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from his altar c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xtol the Stem of Jesse's R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with yonder sacred thr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t his feet may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t this feet may fal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join the everlasting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ail the power of Jesus' n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ngels prostrate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ngels prostrate f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royal diad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chosen seed of Israel's 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ransomed from the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ransomed from the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him who saves you by hi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ners, whose love can ne'er forg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mwood and the g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mwood and the g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spread your trophies at his f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very kindred, every tri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errestrial b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errestrial b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im all majesty ascri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0T20:07:20Z</dcterms:created>
  <dc:creator>Gary Wintergerst</dc:creator>
  <dc:description/>
  <dc:language>en-US</dc:language>
  <cp:lastModifiedBy>Gary Wintergerst</cp:lastModifiedBy>
  <cp:lastPrinted>1995-07-10T20:06:04Z</cp:lastPrinted>
  <dcterms:modified xsi:type="dcterms:W3CDTF">1999-11-25T22:04:14Z</dcterms:modified>
  <cp:revision>3</cp:revision>
  <dc:subject/>
  <dc:title>No Slide Title</dc:title>
</cp:coreProperties>
</file>