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Many Nam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6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sh, hush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, shout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sing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od is love, God is l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many names, gathered into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glory come and mee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, endlessly becom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hovering w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b and birth of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we sing your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 of life in every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sh, hush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, shout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sing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od is love, God is l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Jewish faith, exodus and l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glory come and mee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of Miriam and Mos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Jesus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bbi of the po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we sing your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ucified, alive for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sh, hush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, shout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sing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od is love, God is l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wounded hands, web and loom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glory come and mee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penter of new cre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many na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ed into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we sing your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, endlessly becom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1:01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55Z</dcterms:modified>
  <cp:revision>4</cp:revision>
  <dc:subject/>
  <dc:title>No Slide Title</dc:title>
</cp:coreProperties>
</file>