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8 Hill &amp; Range Song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take m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on, let me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ired, I am weak, I am w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torm, through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on to the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way grows dr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linger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life is almost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cry, hear my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lest I f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darkness app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night draws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y is past and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river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, hold my ha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5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5Z</dcterms:modified>
  <cp:revision>4</cp:revision>
  <dc:subject/>
  <dc:title>No Slide Title</dc:title>
</cp:coreProperties>
</file>