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On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on me, Breath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 with life ane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 may love what thou dost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o what thou wouldst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on me, Breath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my heart is p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with thee I will one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o and to end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on me, Breath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 am wholly t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is earthly part of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ws with thy fire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on me, Breath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hall I never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live with thee the perfect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ine eter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1:54:0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55Z</dcterms:modified>
  <cp:revision>4</cp:revision>
  <dc:subject/>
  <dc:title>No Slide Title</dc:title>
</cp:coreProperties>
</file>