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, the Lord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arth receive he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him r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 and n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 and n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, and heaven, and natur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, the Savior reig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ir songs empl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fields and floo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s, hills, and pl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 the sounding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 the sounding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, repeat the sounding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let sins and sorrows g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orns infest the g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essings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 the curs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 the curs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, far as the curse i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the world with truth and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s the nations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e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ighteou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 of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 of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, wonders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01:0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9Z</dcterms:modified>
  <cp:revision>2</cp:revision>
  <dc:subject/>
  <dc:title>No Slide Title</dc:title>
</cp:coreProperties>
</file>