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Giv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Commis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Jeffery Rawthorn, 1978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(Lk. 9:2; Mt. 28:19-20; Lk. 23:3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1978 Hope Publishing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bless with words assur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am with you to the end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nd hope and love rest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erve as you int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amid the cares that claim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in mind etern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give the great commissio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eal the sick and preach the word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the church neglect its mi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ospel go unhe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witness to your purp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renewed integr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call us to your serv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n my name baptize and teach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world may trust your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abundant meant for ea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all new fervor, draw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r in commun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make the common ho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is my body, this my blood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ll, for earth's tru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lift life heaven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ing that the world aroun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your children's liber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show us love's true measu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ather, what they do, forgiv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e hoard as private treas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you so freely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care and mercy lea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just socie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07:4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3-06-28T16:28:28Z</dcterms:modified>
  <cp:revision>6</cp:revision>
  <dc:subject/>
  <dc:title>No Slide Title</dc:title>
</cp:coreProperties>
</file>