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 Is Daw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morn is daw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sh that I could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by the manger-crad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n, newborn,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by the manger-crad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n, newborn, 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kind of you, ou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to come to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not by s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pise your lowly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not by s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pise your lowly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you, O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our dearest fri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will guard and guid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us to life's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will guard and guid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us to life's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21:45:3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3Z</dcterms:modified>
  <cp:revision>3</cp:revision>
  <dc:subject/>
  <dc:title>No Slide Title</dc:title>
</cp:coreProperties>
</file>