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rui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s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0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ruits of this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od gifts to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plowing, sowing, rea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growth while we are sl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ture needs in earth's safek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just reward of labor, God's will i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elp we give our neighbor, God's will i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world-wide task of c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ungry and despai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arvests we are sh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will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arvests of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ood we all inh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nders that ast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truths that still conf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of all, that love has f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7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2Z</dcterms:modified>
  <cp:revision>3</cp:revision>
  <dc:subject/>
  <dc:title>No Slide Title</dc:title>
</cp:coreProperties>
</file>