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 There I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East or We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4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. 3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 there is no east or w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im no south or nor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one great fellowship of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out the whole wid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 shall true hearts everywhe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high communion fi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service is the golden c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se binding humanki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 is neither Jew nor Gree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either slave nor fr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th male and female heirs are ma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are kin to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 now meet both east and w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im meet south and nor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hristly souls are one in h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out the whole wid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4T14:08:5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7:11Z</dcterms:modified>
  <cp:revision>4</cp:revision>
  <dc:subject/>
  <dc:title>No Slide Title</dc:title>
</cp:coreProperties>
</file>