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Touched M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67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63 William J. Gaith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ackled by a heavy burd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ath a load of guilt and sha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the hand of Jesus touched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now I am no longer the sa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touched me, O he touched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O the joy that floods my soul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mething happened, and now I kn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touched me and made me whol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ce I met this blessed Savi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ce he cleansed and made me whol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never cease to praise him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ll shout it while eternity roll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touched me, O he touched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O the joy that floods my soul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mething happened, and now I kn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touched me and made me whol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03T18:16:14Z</dcterms:created>
  <dc:creator>Gary Wintergerst</dc:creator>
  <dc:description/>
  <dc:language>en-US</dc:language>
  <cp:lastModifiedBy>Gary Wintergerst</cp:lastModifiedBy>
  <cp:lastPrinted>1995-08-03T18:16:44Z</cp:lastPrinted>
  <dcterms:modified xsi:type="dcterms:W3CDTF">1999-11-25T22:05:35Z</dcterms:modified>
  <cp:revision>6</cp:revision>
  <dc:subject/>
  <dc:title>No Slide Title</dc:title>
</cp:coreProperties>
</file>