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ng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ingers T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ng God, your fingers t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ld designs of farthest sp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un and moon and stars and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at lies hidden praise your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taining God, your hands upho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's mysteries known or yet unt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water's fragile blend with 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abling life, proclaim y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God, your arms emb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now despised for creed or 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peace, descending like a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known on earth your healing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dwelling God, your gospel clai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amily with a billion nam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life be touched by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we praise you face to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38:5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6Z</dcterms:modified>
  <cp:revision>4</cp:revision>
  <dc:subject/>
  <dc:title>No Slide Title</dc:title>
</cp:coreProperties>
</file>