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Gr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de Rise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green blade ris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buried g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at that in the dark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days has 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lives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ith the dead has bee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ave they lai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ho had been s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ing that he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awak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id in the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grain that sleeps unse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he came at E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risen g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ho for three d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ave had 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 from the d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isen Lord is se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hearts are wint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ving, or in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touch can call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lif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ds of our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ead and bare have be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7:49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4Z</dcterms:modified>
  <cp:revision>3</cp:revision>
  <dc:subject/>
  <dc:title>No Slide Title</dc:title>
</cp:coreProperties>
</file>