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ory in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7 Mrs. Eugene M. Bartle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ought me and bough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redeeming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oved me ere I knew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love is du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plunged me to vic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e cleansing f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d an old, old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a Savior came from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e gave his life on Calv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ave a wretch lik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d about his gro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s precious blood's ato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I repented of my sins and won the victo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victory in Jesus, my Savior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ought me and bough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redeeming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oved me ere I knew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love is du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plunged me to vic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e cleansing f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d about his hea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s cleansing power revea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e made the lame to walk a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used the blind to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I cried, "Dea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heal my broken spirit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mehow Jesus came and brought to me the victo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victory in Jesus, my Savior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ought me and bough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redeeming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oved me ere I knew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love is du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plunged me to vic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e cleansing f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d about a man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built for m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heard about the streets of go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the crystal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ut the angels sing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old redemption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me sweet day I'll sing up there the song of victo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victory in Jesus, my Savior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22:10:26Z</dcterms:created>
  <dc:creator>Gary Wintergerst</dc:creator>
  <dc:description/>
  <dc:language>en-US</dc:language>
  <cp:lastModifiedBy>Gary Wintergerst</cp:lastModifiedBy>
  <cp:lastPrinted>1995-08-03T22:16:40Z</cp:lastPrinted>
  <dcterms:modified xsi:type="dcterms:W3CDTF">1999-11-25T22:05:36Z</dcterms:modified>
  <cp:revision>5</cp:revision>
  <dc:subject/>
  <dc:title>No Slide Title</dc:title>
</cp:coreProperties>
</file>