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Eterna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King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of march has c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nceforth in fields of conqu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tents shall be our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days of prepar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race has made us st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, O King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our battle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King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sin's fierce war shall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liness shall whisp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weet amen of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not with swords loud clas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roll of stirring dru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deeds of love and merc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venly kingdom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King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llow, not with f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ladness breaks like mo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'er thy face appea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ross is lifted o'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journey in its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wn awaits the conqu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God of m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20:08:0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23Z</dcterms:modified>
  <cp:revision>3</cp:revision>
  <dc:subject/>
  <dc:title>No Slide Title</dc:title>
</cp:coreProperties>
</file>