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Day of Resurrectio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03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day of resurrection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arth, tell it out abroa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passover of gladne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passover of Go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death to life eterna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earth unto the sk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Christ hath brought us ov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hymns of victor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hearts be pure from evi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we may see arigh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ord in rays eternal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resurrection ligh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listening to his accent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hear, so calm and pl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own "All hail!" and, hear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raise the victor strai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let the heavens be joyful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earth the song begin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the round world keep triump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all that is therein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all things seen and unsee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ir notes in gladness ble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Christ the Lord hath ris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joy that hath no e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9-21T15:09:04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05:10Z</dcterms:modified>
  <cp:revision>3</cp:revision>
  <dc:subject/>
  <dc:title>No Slide Title</dc:title>
</cp:coreProperties>
</file>