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, Shine, You Peop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4 Augsburg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9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, shine, you people! Christ the Lord has ent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9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uman story; God in him is cente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9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comes to us, by death and sin surr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9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unbound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he sends the powers of evil ree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s us freedom, light and life and hea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en and women, who by guilt are dr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re for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elebrate, your banners high unfur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ongs and prayers against the darkness hur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the world go out and tell the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the Father sent his Son to s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f the Son, who life and freedom g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the Spirit calls from every n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new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6:0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3-06-13T03:25:05Z</dcterms:modified>
  <cp:revision>5</cp:revision>
  <dc:subject/>
  <dc:title>No Slide Title</dc:title>
</cp:coreProperties>
</file>