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:2; Ch/Eng: 4 (v 1); Eng: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ípau Chú Lí ui goán lâi pe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ûtôchiú ui goán lâi thî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i Lí só kóng oáhmia ê 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ú goán kámsia, sim lâi gî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73520" y="60948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5440" y="20574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5040" y="274320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97960" y="2895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26360" y="2895480"/>
            <a:ext cx="17748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59320" y="36576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ípau Chú Lí ui goán lâi pe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ûtôchiú ui goán lâi thî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pledge that you do l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ift of peace resto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3520" y="60948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5440" y="20574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i Lí só kóng oáhmia ê 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ú goán kámsia, sim lâi gî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call to heaven ab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all our live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45720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26360" y="609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97960" y="609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59320" y="13716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you hav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ine which you have 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ds which you hav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give you thank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sainted ones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e heavenly bo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that's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tie unbroken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service, Lord,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keep watch and w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where you have sen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kingdom come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26:36Z</dcterms:created>
  <dc:creator>Gary Wintergerst</dc:creator>
  <dc:description/>
  <dc:language>en-US</dc:language>
  <cp:lastModifiedBy>Gary Wintergerst</cp:lastModifiedBy>
  <cp:lastPrinted>1995-12-25T20:21:24Z</cp:lastPrinted>
  <dcterms:modified xsi:type="dcterms:W3CDTF">1999-11-25T22:12:23Z</dcterms:modified>
  <cp:revision>10</cp:revision>
  <dc:subject/>
  <dc:title>No Slide Title</dc:title>
</cp:coreProperties>
</file>