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fu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s of Lif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0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them over again to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ful words of lif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e more of their beauty s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ful words of lif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s of life and beaut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me faith and dut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utiful words, wonderful wor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ful words of life. Beautiful words, wonderful wor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ful words of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the blessed one, gives to a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ful words of lif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ner, list to the loving c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ful words of lif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so freely gi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oing us to heav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utiful words, wonderful wor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ful words of life. Beautiful words, wonderful wor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ful words of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ly echo the gospel c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ful words of lif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fer pardon and peace to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ful words of lif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only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ctify forev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utiful words, wonderful wor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ful words of life. Beautiful words, wonderful wor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ful words of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07:40:1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12:18Z</dcterms:modified>
  <cp:revision>3</cp:revision>
  <dc:subject/>
  <dc:title>No Slide Title</dc:title>
</cp:coreProperties>
</file>