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, Awake, f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ght is Fly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re is ou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rejoice and sing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ymn of joy eterna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, awake, for night is fl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tchmen on the heights are cry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Jerusalem, at la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night hears the welcome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t the thrilling cry rej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orth, ye virgins, night is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idegroom comes, aw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amps with gladness tak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his marriage feast prep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e must go and meet him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 hears the watchmen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her heart with joy is spring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akes, she rises from her g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r Lord comes down all-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ong in grace, in truth victorio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tar is risen; her Light is c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 come, thou blesse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beloved S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till the halls we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ou hast bid us sup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all the heavens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ints and angels sing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arp and cymbal's clearest 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ne pearl each shining p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e are with the choir im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ngels round thy dazzling thr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eye hath seen, nor 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yet attained to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12:14Z</dcterms:created>
  <dc:creator>Gary Wintergerst</dc:creator>
  <dc:description/>
  <dc:language>en-US</dc:language>
  <cp:lastModifiedBy>Gary Wintergerst</cp:lastModifiedBy>
  <cp:lastPrinted>1996-01-02T15:07:26Z</cp:lastPrinted>
  <dcterms:modified xsi:type="dcterms:W3CDTF">1999-11-25T22:13:05Z</dcterms:modified>
  <cp:revision>4</cp:revision>
  <dc:subject/>
  <dc:title>No Slide Title</dc:title>
</cp:coreProperties>
</file>