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Firm 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und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firm a foundation, ye saints of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laid for your faith in his excellent w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more can he say than to you he hath s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 who for refuge to Jesus have fle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ear not, I am with thee, O be not dismay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am thy God and will still give thee ai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trengthen and help thee, and cause thee to st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held by my righteous, omnipotent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When through deep waters I call thee to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ivers of woe shall not thee overf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will be with thee, thy troubles to bl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nctify to thee thy deepest distr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When through fiery trials thy pathways shall li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race, all-sufficient, shall be thy suppl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lame shall not hurt thee; I only desig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dross to consume, and thy gold to ref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he soul that on Jesus still leans for repo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not, I will not desert to its fo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oul, though all hell should endeavor to shak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never, no, never, no, never forsak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44:50Z</dcterms:created>
  <dc:creator>Gary Wintergerst</dc:creator>
  <dc:description/>
  <cp:keywords/>
  <dc:language>en-US</dc:language>
  <cp:lastModifiedBy>Gary Wintergerst</cp:lastModifiedBy>
  <cp:lastPrinted>1995-08-11T16:01:02Z</cp:lastPrinted>
  <dcterms:modified xsi:type="dcterms:W3CDTF">2004-06-13T14:35:39Z</dcterms:modified>
  <cp:revision>4</cp:revision>
  <dc:subject/>
  <dc:title>No Slide Title</dc:title>
</cp:coreProperties>
</file>