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ce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su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celess tr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of purest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st frien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my heart hath pa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t well-nigh fa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rsting after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I am, O spotless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uffer naught to hid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for naught beside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ne arms I rest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es who would moles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not reach me 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 earth be sh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eart be qu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ms our f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and hell in conflict f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ir heaviest storms assail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ill not fail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nce, all thoughts of sad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of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enters 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love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storms may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ave peac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whate'er we here must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in thee lies purest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celess treasu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05:1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4Z</dcterms:modified>
  <cp:revision>3</cp:revision>
  <dc:subject/>
  <dc:title>No Slide Title</dc:title>
</cp:coreProperties>
</file>