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5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O God my Fa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shadow of turning with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hangest not, thy compassions, they fail no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t been, thou forever wil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by morning new mercie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ve needed thy hand hath pro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unto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er and winter and springtime and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, moon, and stars in their courses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with all nature in manifold wi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great faithfulness, mercy, and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by morning new mercie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ve needed thy hand hath pro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unto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sin and a peace that endur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own dear presence to cheer and to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today and bright hope for tom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all mine, with ten thousand besid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by morning new mercie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ve needed thy hand hath pro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unto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21:29:48Z</dcterms:created>
  <dc:creator>Gary Wintergerst</dc:creator>
  <dc:description/>
  <dc:language>en-US</dc:language>
  <cp:lastModifiedBy>Gary Wintergerst</cp:lastModifiedBy>
  <cp:lastPrinted>1995-07-05T21:38:58Z</cp:lastPrinted>
  <dcterms:modified xsi:type="dcterms:W3CDTF">1999-11-25T22:04:08Z</dcterms:modified>
  <cp:revision>5</cp:revision>
  <dc:subject/>
  <dc:title>No Slide Title</dc:title>
</cp:coreProperties>
</file>