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Shall 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earth shall 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ong children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, Christ our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n earth to s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the Father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he doom, ours the m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came down to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thlehem saw hi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 and ass besid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ld would hid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right star, o'er his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Men three to him 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 they low by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their gifts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nd ador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song earth shall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Christ, heaven'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n earth to s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and love he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11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0Z</dcterms:modified>
  <cp:revision>2</cp:revision>
  <dc:subject/>
  <dc:title>No Slide Title</dc:title>
</cp:coreProperties>
</file>