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k Thyself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l, with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k thyself, my soul, with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he gloomy haunts of sad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the daylight's splend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ith joy thy praises r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Christ, whose grace unb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this wondrous banquet foun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'er all the heavens he reign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to dwell with thee he deign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who all my life dost bright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, who dost my soul enlight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, the best that any kn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, whence all my being fl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feet I cry, my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be a fit partak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s blessed food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od, thy glory,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read of life, I pr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gladly here obey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my hurt invi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y love with love requi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is banquet let me m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vast and deep its tr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gifts thou here dost gi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y guest in heaven receive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9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2Z</dcterms:modified>
  <cp:revision>3</cp:revision>
  <dc:subject/>
  <dc:title>No Slide Title</dc:title>
</cp:coreProperties>
</file>