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Thou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mighty K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thou almighty 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us thy name to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us to prais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 all glorio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'er all victorio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reign over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cient of Day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thou incarnate 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rd on thy mighty s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prayer atten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nd thy people bl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ive thy word succe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holi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us descen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holy Comfor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sacred witness b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is glad hou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who almighty 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rule in every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e'er from us dep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powe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e, great One in Th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ternal praises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nce, evermo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sovereign majest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we in glory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eternit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and ado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4T19:16:00Z</dcterms:created>
  <dc:creator>Gary Wintergerst</dc:creator>
  <dc:description/>
  <dc:language>en-US</dc:language>
  <cp:lastModifiedBy>Gary Wintergerst</cp:lastModifiedBy>
  <dcterms:modified xsi:type="dcterms:W3CDTF">1999-11-25T22:02:46Z</dcterms:modified>
  <cp:revision>4</cp:revision>
  <dc:subject/>
  <dc:title>No Slide Title</dc:title>
</cp:coreProperties>
</file>