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 Am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9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1, 1983, 1989 Daniel L. Shutte an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AL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ll rights reserved. Used w/ permi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 am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it I, Lor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heard you calling in the n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go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lead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hold your people in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, the Lord of sea and sk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heard my people c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dwell in dark and s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and will sa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ho made the stars of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make their darkness br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bear my light to them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all I sen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 am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it I, Lor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heard you calling in the n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go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lead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hold your people in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, the Lord of snow and 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borne my people's p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wept for love of t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turn a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break their hearts of st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em hearts for love al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peak my word to t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all I sen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 am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it I, Lor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heard you calling in the n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go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lead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hold your people in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, the Lord of wind and fl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end the poor and l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et a feast for t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and will sa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est bread I will provid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ir hearts be satisf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give my life to t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all I sen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33:5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2002-06-23T02:21:54Z</dcterms:modified>
  <cp:revision>7</cp:revision>
  <dc:subject/>
  <dc:title>No Slide Title</dc:title>
</cp:coreProperties>
</file>