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Lov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My Sou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7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lover of my so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e to thy bosom f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the nearer waters ro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the tempest still is hig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de me, O my Savior, h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the storm of life is pa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fe into the haven gui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receive my soul at la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ther refuge have I n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ngs my helpless soul on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ve, ah! leave me not al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support and comfort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my trust on thee is stay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my help from thee I br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ver my defenseless hea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shadow of thy w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, O Christ, art all I wa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than all in thee I fi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aise the fallen, cheer the fai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 the sick, and lead the bli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and holy is thy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all unrighteousnes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lse and full of sin I a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art full of truth and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enteous grace with thee is f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 to cover all my s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healing streams ab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and keep me pure with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of life the fountain 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eely let me take of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ring thou up within my hear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 to all eterni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16:30:44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6:17Z</dcterms:modified>
  <cp:revision>3</cp:revision>
  <dc:subject/>
  <dc:title>No Slide Title</dc:title>
</cp:coreProperties>
</file>