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oubl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'm up, sometimes I'm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'm almost to the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you see me going long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my troubles here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akes old Satan hate me so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use he got me once and let m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38:4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59Z</dcterms:modified>
  <cp:revision>3</cp:revision>
  <dc:subject/>
  <dc:title>No Slide Title</dc:title>
</cp:coreProperties>
</file>