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of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A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of Christ, in every a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set by change but Spirit-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claim and test its herita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 on rising from the d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ross the world, across the str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ctims of injustice c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helter and for bread to e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ever live until they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the servant church a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aring church that longs to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artner in Christ's sacrif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othed in Christ's huma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 alone, whose blood was sh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cure the fever in our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ach us how to share our br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eed the starving multitu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no mission but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full obedience to our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are for all, without reser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pread his liberating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22:0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27Z</dcterms:modified>
  <cp:revision>5</cp:revision>
  <dc:subject/>
  <dc:title>No Slide Title</dc:title>
</cp:coreProperties>
</file>