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Whose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Reigning O'er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0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0 William Boyd Gro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we then our human voic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ongs that faith would br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we then in human choic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s that, like our music, s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joined in love our praises r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whose love is reigning o'er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rce of all, the ending tru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the universal chor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d in joyful praise to you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worship ancient, worship 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of God from nature bring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ingtime green and autumn go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untain streams like children sing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cean waves like thunder bol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as creation's tale is to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God of ancient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oosing man and woman, to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r'am's faith and Sarah's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med a people bound to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to your covenant keep us tru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venant, new again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child born to set us f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to heal us, sent to teach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love's children we might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risen Christ, our Savior h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0:15:0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2003-05-26T21:30:40Z</dcterms:modified>
  <cp:revision>6</cp:revision>
  <dc:subject/>
  <dc:title>No Slide Title</dc:title>
</cp:coreProperties>
</file>