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's Pray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dapt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1 Abingdon P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ther, which art in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e thy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kingdom come, thy will be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e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e on earth as it is in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y thy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this day our daily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y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rgive all our deb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e thy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forgive our debto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y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us not into tempt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e thy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deliver us from ev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y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is the kingdom, power, and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y thy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ever and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e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e thy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 am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e thy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45:5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8Z</dcterms:modified>
  <cp:revision>4</cp:revision>
  <dc:subject/>
  <dc:title>No Slide Title</dc:title>
</cp:coreProperties>
</file>