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rm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Faber Music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confirm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truth that Christ makes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faith and understa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your helping gift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consol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s advocate to pl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pirit from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in Christ the help we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renew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yourself to make us l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through your loving pres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through the gifts you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posses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the love of Three in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 of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 of the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20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1Z</dcterms:modified>
  <cp:revision>4</cp:revision>
  <dc:subject/>
  <dc:title>No Slide Title</dc:title>
</cp:coreProperties>
</file>