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he on earth hath un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the Thre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stic sweet commun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whose rest is w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ones and ho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grace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m, the meek and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gh may dwell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one found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Jesus Christ he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is his new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he came and sought 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is holy br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own blood he bought 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er life he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ect from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ne o'er all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charter of salv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ame she bl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akes one holy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one hope she pr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grace endu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ith a scornful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her sore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chisms rent asu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eresies dist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aints their watch are keep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y goes up, "How long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the night of w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morn of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oil and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umult of her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its the consumm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for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with the vision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longing eyes are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reat church victori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church a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4:03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9Z</dcterms:modified>
  <cp:revision>3</cp:revision>
  <dc:subject/>
  <dc:title>No Slide Title</dc:title>
</cp:coreProperties>
</file>