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That Made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and Heav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that madest earth and heaven, darkness and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e day for toil hast given, for rest the n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ine angel guards defe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umber sweet thy mercy send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dreams and hopes atte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livelong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constant sun returning unseals our 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, born anew like morning, to labor r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rd us for the task that calls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not ease and self enthrall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through thee whate'er befall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most w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20:00:56Z</dcterms:created>
  <dc:creator>Gary Wintergerst</dc:creator>
  <dc:description/>
  <dc:language>en-US</dc:language>
  <cp:lastModifiedBy>Gary Wintergerst</cp:lastModifiedBy>
  <cp:lastPrinted>1995-12-28T04:35:12Z</cp:lastPrinted>
  <dcterms:modified xsi:type="dcterms:W3CDTF">1999-11-25T22:12:52Z</dcterms:modified>
  <cp:revision>4</cp:revision>
  <dc:subject/>
  <dc:title>No Slide Title</dc:title>
</cp:coreProperties>
</file>