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my soul, the King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hrone thy tribute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nsomed, healed, restored, for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God's praises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everlasting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for grace and fav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people in distr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still the same as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ow to chide, and quick to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now God's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like, God tends and spares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our feeble frame God know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like, God gently bear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s us from all our fo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ly yet God's mercy flow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in the heights, ad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ehold God face to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triumphant, now ad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ed in from every 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ith us the God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26:5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7Z</dcterms:modified>
  <cp:revision>3</cp:revision>
  <dc:subject/>
  <dc:title>No Slide Title</dc:title>
</cp:coreProperties>
</file>