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 up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night Cl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 upon the midnight cl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lorious song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ngels bending near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ir harps of go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Peace on the earth, good will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's all-gracious King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n solemn stillness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e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rough the cloven skies they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eaceful wings unf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their heavenly music floa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weary wor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its sad and lowly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end on hovering 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o'er its Babel sou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, beneath life's crushing l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forms are bend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il along the climbing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ainful steps and s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now! for glad and golden h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swiftly on the w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st beside the weary 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angels s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! the days are hasten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prophet seen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th the ever-circling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he time foret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ace shall over all the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ancient splendors f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hole world send back the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now the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8:3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8Z</dcterms:modified>
  <cp:revision>2</cp:revision>
  <dc:subject/>
  <dc:title>No Slide Title</dc:title>
</cp:coreProperties>
</file>