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 Lord who now is pres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to One who is at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icked cease from s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ildoers change their m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inful God has pity; those returning God forg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at the Lord is sa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world that disbelie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Judge me not by human standard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vault of heaven so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above the earth, so hig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my thoughts and ways than you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rain and snow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earth blossom and bear fru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you, before retu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d for sowing, bread to ea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o my word returns not fruitl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es not from its labors c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t has achieved my purp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world of joy and peac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ve! How close the proph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at vital gospel w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saiah's inspir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Jesus we have hea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6:35:3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2Z</dcterms:modified>
  <cp:revision>7</cp:revision>
  <dc:subject/>
  <dc:title>No Slide Title</dc:title>
</cp:coreProperties>
</file>