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ove, all human thought tran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ly we kneel in prayer before thy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irs may be the love which knows no 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thou forevermore dost join in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ife, be thou their full assur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ender charity and steadfast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atient hope and quiet, brave endur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hildlike trust that fears nor pain nor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the joy which brightens earthly s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the peace which calms all earthly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life's day the glorious unknown mo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awns upon eternal love and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0:14Z</dcterms:created>
  <dc:creator>Gary Wintergerst</dc:creator>
  <dc:description/>
  <dc:language>en-US</dc:language>
  <cp:lastModifiedBy>Gary Wintergerst</cp:lastModifiedBy>
  <cp:lastPrinted>1995-12-25T21:11:28Z</cp:lastPrinted>
  <dcterms:modified xsi:type="dcterms:W3CDTF">1999-11-25T22:12:36Z</dcterms:modified>
  <cp:revision>4</cp:revision>
  <dc:subject/>
  <dc:title>No Slide Title</dc:title>
</cp:coreProperties>
</file>