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ine All-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orious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ine all-victoriou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d in my heart abro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hall my feet no longer r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oted and fixed in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in me the sacred f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ght now begin to g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n up the dross of base des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the mountains flow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it now from heaven might f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sins consu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, for thee I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burning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fining fire, go through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lluminate my sou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atter thy life through every 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nctify th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26:36Z</dcterms:created>
  <dc:creator>Gary Wintergerst</dc:creator>
  <dc:description/>
  <dc:language>en-US</dc:language>
  <cp:lastModifiedBy>Gary Wintergerst</cp:lastModifiedBy>
  <cp:lastPrinted>1996-01-03T12:35:02Z</cp:lastPrinted>
  <dcterms:modified xsi:type="dcterms:W3CDTF">1999-11-25T22:05:56Z</dcterms:modified>
  <cp:revision>4</cp:revision>
  <dc:subject/>
  <dc:title>No Slide Title</dc:title>
</cp:coreProperties>
</file>