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, my joy, my 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my strength from day to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him I would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sad, to him I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one can cheer me s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sad, he makes me gl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riend in trials s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 to him for bless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gives them o'er and o'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nds the sunshine and the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nds the harvest's golden g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shine and rain, harvest of g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e to him I'll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could I this friend de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's so true to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him I know I'm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tches o'er me day and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him by day and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no better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rust him now, I'll trust him wh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fleeting days shall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life with such a fri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life that has no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ife, eternal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37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13Z</dcterms:modified>
  <cp:revision>3</cp:revision>
  <dc:subject/>
  <dc:title>No Slide Title</dc:title>
</cp:coreProperties>
</file>