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Ye Fir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Maranatha!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ye first the kingdom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righteous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se things shall be added un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and it shall be given un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and ye shall fi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ck, and the door shall be opened un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35:5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0Z</dcterms:modified>
  <cp:revision>6</cp:revision>
  <dc:subject/>
  <dc:title>No Slide Title</dc:title>
</cp:coreProperties>
</file>