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Sp/Eng: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 ti se post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ñada de tu lu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 ti que has si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eres y será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 and serap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down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wert and art,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more shal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más que estés ve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 impossible se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gloria contempl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Though the darkness hide thee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though the eye of sinful ma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lory may not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tú eres sól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nada hay a tu la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poder perfec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za y car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hou art hol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ne besid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in power,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pu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1040" y="35053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gloria de tu nomb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mos en tus obr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ielo, tierra y m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Almighty!    All th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s shall praise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rth and sky and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ará todo ho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n tres person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a Tri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ful and 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three pers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Tri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5080" y="35053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omnipot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empre el labio mi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res te dará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o rever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n tres person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a Tri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inmensa muchedumb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ángeles que cumpl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santa volun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 ti se post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ñada de tu lu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 ti que has si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eres y será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más que estés ve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 impossible se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gloria contempl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tú eres sól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nada hay a tu la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poder perfec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za y car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gloria de tu nomb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mos en tus obr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ielo, tierra y m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ará todo ho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n tres person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a Tri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36440" rIns="13644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omnipot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empre el labio mi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res te dará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Almigh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in the mo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ngs shall ris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36440" rIns="13644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o rever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n tres person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a Tri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ful and migh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three pers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Trini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inmensa muchedumb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ángeles que cumpl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santa volun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saints ador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Casting down their golden crown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ound the glassy sea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23:5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2:47Z</dcterms:modified>
  <cp:revision>4</cp:revision>
  <dc:subject/>
  <dc:title>No Slide Title</dc:title>
</cp:coreProperties>
</file>