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O King Divin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6</a:t>
            </a:r>
            <a:br>
              <a:rPr sz="4800"/>
            </a:br>
            <a:br>
              <a:rPr sz="4800"/>
            </a:br>
            <a:br>
              <a:rPr sz="800"/>
            </a:b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for thou, O King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st yield the glory that of right was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our darkened hearts thy grace might sh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m'st to us, in lowliness of th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e the outcast and the poor were s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y death was God's salvation wrou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mind be in us which was i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t a servant, that we might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ing thyself to death on Calva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, by God's eternal purpose,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t high exalted o'er all creatures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the name to which all knees shall b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tongue confess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 and earth that Jesus Christ is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the Father be by all ador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29:30Z</dcterms:created>
  <dc:creator>Gary Wintergerst</dc:creator>
  <dc:description/>
  <dc:language>en-US</dc:language>
  <cp:lastModifiedBy>Gary Wintergerst</cp:lastModifiedBy>
  <dcterms:modified xsi:type="dcterms:W3CDTF">1999-11-25T22:04:18Z</dcterms:modified>
  <cp:revision>5</cp:revision>
  <dc:subject/>
  <dc:title>All Praise to Thee, for Thou, O King Divine   UMH 166</dc:title>
</cp:coreProperties>
</file>