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, Look Ea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0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, look east. The time is n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crowning of the y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your house fair as you are 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m the hearth and set the ta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, look east and sing to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, the Guest, is on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rrows, be glad. Though earth is b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more seed is planted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p your strength the seed to nouris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n course the flower may flouris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, look east and sing to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, the Rose, is on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s, keep the watch. When night is d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more light the bowl shall br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beyond the frosty we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 as sun and moon togeth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, look east and sing to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, the Star, is on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announce with shouts of mi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m who brings new life to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every peak and valley humm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word, the Lord is com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, look east and sing to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, the Lord, is on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8:23:5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32Z</dcterms:modified>
  <cp:revision>2</cp:revision>
  <dc:subject/>
  <dc:title>No Slide Title</dc:title>
</cp:coreProperties>
</file>