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Asce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morning sun a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diant in the eastern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e angel voices bl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ir praise to God on hig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we, in lowly st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the choristers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with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thee for thy great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ab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ving-kindness 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upon our earthly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y mercy, ceasing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blessing day by d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al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isdom, honor, power, and blessing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angelic host w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und thy throne, thy name conf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would to thee draw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18:22Z</dcterms:created>
  <dc:creator>Gary Wintergerst</dc:creator>
  <dc:description/>
  <dc:language>en-US</dc:language>
  <cp:lastModifiedBy>Gary Wintergerst</cp:lastModifiedBy>
  <cp:lastPrinted>1995-12-28T04:24:58Z</cp:lastPrinted>
  <dcterms:modified xsi:type="dcterms:W3CDTF">1999-11-25T22:12:47Z</dcterms:modified>
  <cp:revision>3</cp:revision>
  <dc:subject/>
  <dc:title>No Slide Title</dc:title>
</cp:coreProperties>
</file>