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Hallelujah!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What a Savi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 of Sorrows! what a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Son of God, who c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ined sinners to recla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shame and scoffing ru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place condemned he st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ed my pardon with his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lty, vile, and helpless w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otless Lamb of God was h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atonement can it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ed up was he to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t is finished!" was his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n heaven exalted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comes, our gloriou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is ransomed home to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anew this song we'll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14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8Z</dcterms:modified>
  <cp:revision>3</cp:revision>
  <dc:subject/>
  <dc:title>No Slide Title</dc:title>
</cp:coreProperties>
</file>