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the gospel f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soul be Jesus' gu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need not one be left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th bid all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by my Lord, on you I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nvitation is to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the world! Come, sinner, thou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in Christ are ready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e souls by sin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estless wanderers after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oor, and maimed, and halt, and bl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a hearty welcome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essage as from God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all may come to Christ and l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his love your hearts const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uffer him to die in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time, no more del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Lord's accepted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hou, this moment, at hi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for him who die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51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4Z</dcterms:modified>
  <cp:revision>5</cp:revision>
  <dc:subject/>
  <dc:title>No Slide Title</dc:title>
</cp:coreProperties>
</file>