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Joy of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Desir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4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joy of our desi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wisdom, love most br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awn by thee, our souls aspir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ar to uncreated ligh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 of God, our flesh that fashion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fire of life impassion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iving still to truth unkn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aring, dying round thy thr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the way where hope is guid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rk, what peaceful music ring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e flock, in thee confi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ink of joy from deathless spring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s is beauty's fairest pleasu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s is wisdom's holiest treasu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dost ever lead thine ow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love of joys unkn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5T19:56:46Z</dcterms:created>
  <dc:creator>Gary Wintergerst</dc:creator>
  <dc:description/>
  <dc:language>en-US</dc:language>
  <cp:lastModifiedBy>Gary Wintergerst</cp:lastModifiedBy>
  <cp:lastPrinted>1995-12-25T21:11:00Z</cp:lastPrinted>
  <dcterms:modified xsi:type="dcterms:W3CDTF">1999-11-25T22:12:36Z</dcterms:modified>
  <cp:revision>4</cp:revision>
  <dc:subject/>
  <dc:title>No Slide Title</dc:title>
</cp:coreProperties>
</file>