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 of the Depth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ry to Yo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1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78 Lutheran Book of Worsh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 of the depths I cry to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now hear me call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cline your ear to my distr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spite of my rebell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not regard my sinful deed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me the grace my spirit need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it I am noth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you send are full of g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crown our lives with fav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good works are done in va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our Lord and Savi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praise the God who gives us fai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aves us from the grip of dea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lives are in God's keep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in God that we shall hop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t in our own meri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rest our fears in God's good W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rust the Holy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promise keeps us strong and su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trust the holy signatu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scribed upon our templ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oul is waiting for the L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one who longs for morn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watcher waits with greater hop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 I for Christ's return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ope as Israel i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sends redemption through the W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for endless merc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7T21:59:08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33Z</dcterms:modified>
  <cp:revision>4</cp:revision>
  <dc:subject/>
  <dc:title>No Slide Title</dc:title>
</cp:coreProperties>
</file>