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y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y hear the word of God unless the truth is tol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 sinful be set free, the sorrowful consol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who speak the truth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part your Spirit, Lord,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y call to God for help unless they have believ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 poor be given hope, the prisoner repriev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ose who help the blind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light and love and cla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 gospel be proclaimed that sinners may repen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 world find peace at last if heralds are not sen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end us, Lord, for we rej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eak of Christ with life and v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20:06:08Z</dcterms:created>
  <dc:creator>Gary Wintergerst</dc:creator>
  <dc:description/>
  <dc:language>en-US</dc:language>
  <cp:lastModifiedBy>Gary Wintergerst</cp:lastModifiedBy>
  <cp:lastPrinted>1995-12-25T21:13:24Z</cp:lastPrinted>
  <dcterms:modified xsi:type="dcterms:W3CDTF">1999-11-25T22:12:38Z</dcterms:modified>
  <cp:revision>5</cp:revision>
  <dc:subject/>
  <dc:title>No Slide Title</dc:title>
</cp:coreProperties>
</file>