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 feel the sacred fl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joy of full salv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 to his name!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him I freely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love and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esence daily l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at his feet I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ly pleasures all forsa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e, Jesus, take me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, Savior, wholly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feel the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ly know that thou art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thy love and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blessing fall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04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0Z</dcterms:modified>
  <cp:revision>3</cp:revision>
  <dc:subject/>
  <dc:title>No Slide Title</dc:title>
</cp:coreProperties>
</file>