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Let Us fro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Table R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3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8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let us from this table r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newed in body, mind, and sou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Christ we die and live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selfless love has made us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minds alert, upheld by g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pread the word in speech and d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ollow in the steps of Chri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one with all in hope and n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ill each human house with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sacrament of c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k that Christ began to d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umbly pledge ourselves to sh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grant us courage, Father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hoose again the pilgrim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lp us to accept with j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allenge of tomorrow's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3:03:26Z</dcterms:created>
  <dc:creator>Gary Wintergerst</dc:creator>
  <dc:description/>
  <dc:language>en-US</dc:language>
  <cp:lastModifiedBy>Gary Wintergerst</cp:lastModifiedBy>
  <cp:lastPrinted>1995-12-25T20:38:52Z</cp:lastPrinted>
  <dcterms:modified xsi:type="dcterms:W3CDTF">1999-11-25T22:12:32Z</dcterms:modified>
  <cp:revision>5</cp:revision>
  <dc:subject/>
  <dc:title>No Slide Title</dc:title>
</cp:coreProperties>
</file>