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rophe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by the proph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ken the unchanging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from age to age proclai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One, the righteous Lord!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he world's despair and turm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irm anchor holdeth f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eternal reign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, and God the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by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everlast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ness of the Father's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Father ever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ken by the Word incarn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od, ere time, was b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Light, to earth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s God in human f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yet speaketh 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eth to our hearts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ge-long Word exp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message, now as th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the rise and fall of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ure faith yet standing f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bides, the Word uncha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, and God the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5:40:38Z</dcterms:created>
  <dc:creator>Gary Wintergerst</dc:creator>
  <dc:description/>
  <dc:language>en-US</dc:language>
  <cp:lastModifiedBy>Gary Wintergerst</cp:lastModifiedBy>
  <cp:lastPrinted>1995-07-01T15:49:38Z</cp:lastPrinted>
  <dcterms:modified xsi:type="dcterms:W3CDTF">1999-11-25T22:03:56Z</dcterms:modified>
  <cp:revision>5</cp:revision>
  <dc:subject/>
  <dc:title>No Slide Title</dc:title>
</cp:coreProperties>
</file>