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ross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ded Ways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ross the crowded ways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sound the cries of race and cl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noise of selfish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your voice, O Son of m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unts of wretchedness and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shadowed thresholds dark with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paths where hide the lures of gr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tch the vision of your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ender childhood's helpless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oman's grief, man's burdened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famished souls, from sorrow's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eart has never known reco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up of water given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olds the freshness of your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long these multitudes to vi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weet compassion of your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ster, from the mountains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haste to heal these hearts of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these restless throngs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read the city's streets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shall learn your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llow where your feet have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glorious from your heaven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he city of 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02:5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8Z</dcterms:modified>
  <cp:revision>4</cp:revision>
  <dc:subject/>
  <dc:title>No Slide Title</dc:title>
</cp:coreProperties>
</file>