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, Lau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n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80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, laud, and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Redeemer,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the lips of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sweet hosannas 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accept their prais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ept the prayers we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n all good delight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good and gracious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, laud, and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Redeemer,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the lips of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sweet hosannas 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, laud, and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Redeemer,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the lips of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sweet hosannas 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the King of Isra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avid's royal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n the Lord's name com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and Blessed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, laud, and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Redeemer,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the lips of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sweet hosannas 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ompany of angel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praising thee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with all cre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orus make rep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, laud, and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Redeemer,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the lips of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sweet hosannas 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eople of the Hebre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palms before thee wen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rayer and praise and anthem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thee we presen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, laud, and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Redeemer, K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the lips of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sweet hosannas 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before thy pa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ang their hymns of p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now high exal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melody we 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21:18:36Z</dcterms:created>
  <dc:creator>Gary Wintergerst</dc:creator>
  <dc:description/>
  <dc:language>en-US</dc:language>
  <cp:lastModifiedBy>Gary Wintergerst</cp:lastModifiedBy>
  <cp:lastPrinted>1995-08-10T22:15:38Z</cp:lastPrinted>
  <dcterms:modified xsi:type="dcterms:W3CDTF">1999-11-25T22:05:02Z</dcterms:modified>
  <cp:revision>6</cp:revision>
  <dc:subject/>
  <dc:title>No Slide Title</dc:title>
</cp:coreProperties>
</file>