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consol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disconsolate, where'er ye langu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mercy seat, fervently kne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bring your wounded hearts, here tell your anguis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has not sorrow that heaven cannot h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of the desolate, light of the st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penitent, fadeless and pu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speaks the Comforter, tenderly s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Earth has not sorrow that heaven cannot cur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see the bread of life; see waters flowing fo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throne of God, pure from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feast of love; come, ever knowing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no sorrow but heaven can rem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8:21:1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30Z</dcterms:modified>
  <cp:revision>3</cp:revision>
  <dc:subject/>
  <dc:title>No Slide Title</dc:title>
</cp:coreProperties>
</file>