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natch them in pity from sin and the g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 o'er the erring one, lift up the fall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m of Jesus, the mighty to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y are slighting him, still he is wai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ing the penitent child to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d with them earnestly, plead with them gent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forgive if they only belie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in the human heart, crushed by the temp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ings lie buried that grace can rest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a loving heart, wakened by kin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rds that were broken will vibrate once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duty demands 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thy labor the Lord will prov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the narrow way patiently win the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poor wanderer a Savior has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19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28Z</dcterms:modified>
  <cp:revision>3</cp:revision>
  <dc:subject/>
  <dc:title>No Slide Title</dc:title>
</cp:coreProperties>
</file>