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ck of Ag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eft for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6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ck of Ages, cleft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hide myself in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water and the bl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y wounded side which flow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of sin the double cu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from wrath and make me p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the labors of my han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fulfill thy law's demand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uld my zeal no respite k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uld my tears forever f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for sin could not at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must save, and thou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in my hand I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mply to the cross I cl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ked, come to thee for dr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less, look to thee for g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ul, I to the fountain fl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h me, Savior, or I di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I draw this fleeting br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mine eyes shall close in d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soar to worlds un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ee on thy judgment thr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ck of Ages, cleft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hide myself in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16:57:48Z</dcterms:created>
  <dc:creator>Gary Wintergerst</dc:creator>
  <dc:description/>
  <dc:language>en-US</dc:language>
  <cp:lastModifiedBy>Gary Wintergerst</cp:lastModifiedBy>
  <cp:lastPrinted>1995-08-02T14:38:38Z</cp:lastPrinted>
  <dcterms:modified xsi:type="dcterms:W3CDTF">1999-11-25T22:05:33Z</dcterms:modified>
  <cp:revision>3</cp:revision>
  <dc:subject/>
  <dc:title>No Slide Title</dc:title>
</cp:coreProperties>
</file>