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58120" y="5429160"/>
            <a:ext cx="709560" cy="1017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joice, Y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ure in Hear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160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82432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God who reigns on hig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ord whom we ado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Father, Son, and Holy Gho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God forevermo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joice, rejoi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joice, give thanks and s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joice, ye pure in hear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joice, give thanks, and s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glorious banner wave on hig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cross of Christ your K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joice, rejoi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joice, give thanks and s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clear hosannas rai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lleluias lou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st answering echoes upward floa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wreaths of incense clou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joice, rejoi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joice, give thanks and s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, on through life's long pa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ill chanting as ye go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youth to age, by night and d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gladness and in wo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joice, rejoi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joice, give thanks and s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last the march shall e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wearied ones shall res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pilgrims find their heavenly ho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rusalem the bles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joice, rejoi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joice, give thanks and s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13T19:31:46Z</dcterms:created>
  <dc:creator>Gary Wintergerst</dc:creator>
  <dc:description/>
  <dc:language>en-US</dc:language>
  <cp:lastModifiedBy>Gary Wintergerst</cp:lastModifiedBy>
  <cp:lastPrinted>1995-07-10T21:17:46Z</cp:lastPrinted>
  <dcterms:modified xsi:type="dcterms:W3CDTF">1999-11-25T22:04:16Z</dcterms:modified>
  <cp:revision>3</cp:revision>
  <dc:subject/>
  <dc:title>No Slide Title</dc:title>
</cp:coreProperties>
</file>