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6577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i Vivem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When We Are Living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35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Eng:8; Sp/Eng:1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5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imes of sorrow and in times of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sensing beauty or in love's emb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ther we suffer, or sing rejoi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ross this wide world, we shall always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are crying with no peace of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en we help them, or when we feed t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i vivimos, para Él vivim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i morimos para Él morim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living, it is in Chris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we're dying, it is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vivamos o que mura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in our living and in our dy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sta vida, frutos hemos de d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obras buenas son para ofrend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living, we our fruits must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works of service are for offe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sea que demos o que recibam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giving, or when receiv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tristeza y en el dol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belleza y en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‘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imes of sorrow and in times of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sensing beauty or in love's emb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suframos o que gocem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ther we suffer, or sing rejoic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i vivimos, para Él vivim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i morimos para Él morim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vivamos o que mura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ste mundo, hemos de encont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e que llora y sin consol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ross this wide world, we shall always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are crying with no peace of m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ayudemos o que alimentem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en we help them, or when we feed the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sta vida, frutos hemos de d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obras buenas son para ofrend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sea que demos o que reciba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tristeza y en el dol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belleza y en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suframos o que goce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ste mundo, hemos de encont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e que llora y sin consol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ayudemos o que alimente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living, it is in Chris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we're dying, it is in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in our living and in our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living, we our fruits must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works of service are for offe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giving, or when rece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19:14:50Z</dcterms:created>
  <dc:creator>Gary Wintergerst</dc:creator>
  <dc:description/>
  <dc:language>en-US</dc:language>
  <cp:lastModifiedBy>Gary Wintergerst</cp:lastModifiedBy>
  <dcterms:modified xsi:type="dcterms:W3CDTF">1999-11-25T22:05:31Z</dcterms:modified>
  <cp:revision>6</cp:revision>
  <dc:subject/>
  <dc:title> </dc:title>
</cp:coreProperties>
</file>