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(Child So Lovely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2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(Sp:2; Eng:10; Sp/Eng:18 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my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heaven's beau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d's pur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ing my devo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ing my affec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ing all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my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y life, my dar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soul, as we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what I off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fer joyous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lling at your fe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my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os, tender bab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os, child, adio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os, sweet belov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os, sweet belov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os, child, adio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my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my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8760" y="327672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a tu hermosur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e tu cand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alma me rob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alma me rob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heaven's beau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d's pur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ing my devo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ing my affec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 roba el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ing all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5080" y="3352680"/>
            <a:ext cx="85215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my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8760" y="327672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vida, bien mí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el alma tambié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zco, gusto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zco, gusto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y life, my dar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soul, as we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what I off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fer joyousl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ndido a tus pi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lling at your fe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5080" y="335268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my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760" y="327672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ós, tierno infan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ós, niño, adió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ós, dulce aman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ós, dulce, amant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os, tender bab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os, child, adio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os, sweet belov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os, sweet belov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5080" y="350532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ós, niño, adió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os, child, adio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a tu hermosur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e tu cand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alma me rob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alma me rob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 roba el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my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8760" y="327672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vida, bien mí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el alma tambié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zco, gusto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zco, gusto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ndido a tus pi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ós, tierno infan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ós, niño, adió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ós, dulce aman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ós, dulce, aman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ós, niño, adió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6:57:1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40Z</dcterms:modified>
  <cp:revision>3</cp:revision>
  <dc:subject/>
  <dc:title>No Slide Title</dc:title>
</cp:coreProperties>
</file>