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ou the bread of life, dear Lord,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didst break the loaves beside the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the sacred page I seek thee,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pirit pants for thee, O Living W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u the truth, dear Lord, to me,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didst bless the bread by Galil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all bondage cease, all fetters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shall find my peace, my all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44:4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30Z</dcterms:modified>
  <cp:revision>3</cp:revision>
  <dc:subject/>
  <dc:title>No Slide Title</dc:title>
</cp:coreProperties>
</file>