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All of You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5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75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all of you, 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n and women, come forwa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ink of the water provided for you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f you who are thirst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to me to drink from the water of lif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vided by Jesus your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all of you, 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rers of burden, come forwa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give you rest; don't wait for lo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f you who are wea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to me, the Christ Jesus the Lord of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avior, King of humanki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all of you, 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ouble-minded, come forwa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give you peace, the peaceful mi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f you who are hung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to me, receive bread and water of lif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vided by Jesus your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all of you, 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ungry and poor, come forwa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y your milk and wine without mone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for free, bring no penn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to me, receive the bread and water of lif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vided by Jesus your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9T21:39:04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5:29Z</dcterms:modified>
  <cp:revision>4</cp:revision>
  <dc:subject/>
  <dc:title>No Slide Title</dc:title>
</cp:coreProperties>
</file>