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Breath of Lif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4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Breath of Life, come sweeping through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vive your church with life and powe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Breath of Life, come, cleanse, renew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it your church to meet this hou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Wind of God, come, bend us, break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humbly we confess our ne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in your tenderness remake 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vive, restore, for this we ple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Breath of Love, come, breathe within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newing thought and will and hear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love of Christ, afresh to win 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vive your church in every p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7T15:52:54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7:09Z</dcterms:modified>
  <cp:revision>3</cp:revision>
  <dc:subject/>
  <dc:title>No Slide Title</dc:title>
</cp:coreProperties>
</file>