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der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on Calva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Tell me, how did you feel when you come out,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Tell me, how did you feel when you come out,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Lor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on Calva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Did you love everybody when you come out,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Did you love everybody when you come out,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Lor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on Calva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Did your soul feel happy when you come out,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Did your soul feel happy when you come out,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Lor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on Calva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30:30Z</dcterms:created>
  <dc:creator>Gary Wintergerst</dc:creator>
  <dc:description/>
  <dc:language>en-US</dc:language>
  <cp:lastModifiedBy>Gary Wintergerst</cp:lastModifiedBy>
  <cp:lastPrinted>1996-01-02T16:39:40Z</cp:lastPrinted>
  <dcterms:modified xsi:type="dcterms:W3CDTF">1999-11-25T22:05:54Z</dcterms:modified>
  <cp:revision>5</cp:revision>
  <dc:subject/>
  <dc:title>No Slide Title</dc:title>
</cp:coreProperties>
</file>