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ne Pl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without one pl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at thy blood was shed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thou bidst me com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and waiting n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id my soul of one dark bl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whose blood can cleanse each sp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ough tossed abo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ny a conflict, many a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ings and fears within, wit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poor, wretched, bl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ght, riches, healing of the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all I need in thee to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ou wilt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t welcome, pardon, cleanse, r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y promise I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y love unkn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roken every barrier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to be thine, yea, thine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3:16:36Z</dcterms:created>
  <dc:creator>Gary Wintergerst</dc:creator>
  <dc:description/>
  <dc:language>en-US</dc:language>
  <cp:lastModifiedBy>Gary Wintergerst</cp:lastModifiedBy>
  <cp:lastPrinted>1995-08-02T14:38:38Z</cp:lastPrinted>
  <dcterms:modified xsi:type="dcterms:W3CDTF">1999-11-25T22:05:31Z</dcterms:modified>
  <cp:revision>3</cp:revision>
  <dc:subject/>
  <dc:title>No Slide Title</dc:title>
</cp:coreProperties>
</file>