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th Daily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doth daily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ning all the morning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o thee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we up our heart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 provide us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rom thee come all things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to our souls aff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living bread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uard in sin and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leader of our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from thee we stray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our wayward feet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ened by the Spirit'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holy will to t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daily search thy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dom true impart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e, with the heavenly 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, and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ould we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magnify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1:30Z</dcterms:created>
  <dc:creator>Gary Wintergerst</dc:creator>
  <dc:description/>
  <dc:language>en-US</dc:language>
  <cp:lastModifiedBy>Gary Wintergerst</cp:lastModifiedBy>
  <cp:lastPrinted>1995-12-28T04:25:36Z</cp:lastPrinted>
  <dcterms:modified xsi:type="dcterms:W3CDTF">1999-11-25T22:12:48Z</dcterms:modified>
  <cp:revision>4</cp:revision>
  <dc:subject/>
  <dc:title>No Slide Title</dc:title>
</cp:coreProperties>
</file>