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lea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dwint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2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leak midwinter, frosty wind made mo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 stood hard as iron, water like a st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now had fallen, snow on snow, snow on s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leak mid-winter, long a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God, heaven cannot hold him, nor earth sust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shall flee away when he comes to reig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leak midwinter a stable place suffic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God Almighty, Jesus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and archangels may have gathered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erubim and seraphim thronged the ai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his mother only, in her maiden bli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ed the beloved with a ki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can I give him, poor as I am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I were a shepherd, I would bring a lamb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I were a Wise Man, I would do my p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what I can I give him: give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6:26:2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39Z</dcterms:modified>
  <cp:revision>2</cp:revision>
  <dc:subject/>
  <dc:title>No Slide Title</dc:title>
</cp:coreProperties>
</file>