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 I a Soldi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 I a soldier of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ollower of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I fear to own his ca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blush to speak his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I be carried to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flowery beds of 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fought to win the pri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led through bloody sea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here no foes for me to f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I not stem the flo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is vile world a friend to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me on to Go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I must fight, if I would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rease my courage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ar the toil, endure the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ed by th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ints in all this glorious w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nquer, though they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ee the triumph from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aith they bring it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at illustrious day shall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y armies sh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obes of victory through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 shall b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27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31Z</dcterms:modified>
  <cp:revision>3</cp:revision>
  <dc:subject/>
  <dc:title>No Slide Title</dc:title>
</cp:coreProperties>
</file>