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 Liv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6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William J. Gai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sent his Son, they called him Jes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to love, heal, and forg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d and died to buy my pard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empty grave is there to prove my Savior liv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 lives, I can face tomorr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 lives, all fear is g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I know he holds the fut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fe is worth the living just because he li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weet to hold a newborn bab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eel the pride and joy he giv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greater still the calm assura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child can face uncertain days because he liv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 lives, I can face tomorr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 lives, all fear is g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I know he holds the fut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fe is worth the living just because he li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n one day I'll cross the ri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fight life's final war with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n as death gives way to vic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see the lights of glory and I'll know he reign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 lives, I can face tomorr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 lives, all fear is g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I know he holds the fut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fe is worth the living just because he li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18:03:44Z</dcterms:created>
  <dc:creator>Gary Wintergerst</dc:creator>
  <dc:description/>
  <dc:language>en-US</dc:language>
  <cp:lastModifiedBy>Gary Wintergerst</cp:lastModifiedBy>
  <cp:lastPrinted>1995-08-03T17:59:38Z</cp:lastPrinted>
  <dcterms:modified xsi:type="dcterms:W3CDTF">1999-11-25T22:05:34Z</dcterms:modified>
  <cp:revision>4</cp:revision>
  <dc:subject/>
  <dc:title>No Slide Title</dc:title>
</cp:coreProperties>
</file>