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e Dep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Love Divi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2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e depth of love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unfathomable grac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shall say how bread and wi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nto us convey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the bread his flesh impar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the wine transmits his bl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s his faithful people's hear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ll the life of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wisest mortals sh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we the grace recei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eble elements best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power not theirs to gi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explains the wondrous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through these the virtue cam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se the virtue did conve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still remain the s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spirits heavenward r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earthly matter f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ink herewith divine suppli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k the Father's wisdom how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who did the means ord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gels round our altars b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arch it out, in v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re and real is the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anner be unkn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meet us in thy way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erfect us in o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taste the heavenly pow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we ask for nothing mo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e to bless, 'tis only ou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onder and ad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2:30:34Z</dcterms:created>
  <dc:creator>Gary Wintergerst</dc:creator>
  <dc:description/>
  <dc:language>en-US</dc:language>
  <cp:lastModifiedBy>Gary Wintergerst</cp:lastModifiedBy>
  <cp:lastPrinted>1995-12-25T20:33:58Z</cp:lastPrinted>
  <dcterms:modified xsi:type="dcterms:W3CDTF">1999-11-25T22:12:28Z</dcterms:modified>
  <cp:revision>4</cp:revision>
  <dc:subject/>
  <dc:title>No Slide Title</dc:title>
</cp:coreProperties>
</file>