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arge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I H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arge to keep I h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od to glorif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ver-dying soul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it for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 present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alling to fulf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it all my powers eng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my Master's wi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m me with jealous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y sight to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h, thy servant, Lord, pre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rict account to g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hyself r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ured, if I my trust bet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for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16:00Z</dcterms:created>
  <dc:creator>Gary Wintergerst</dc:creator>
  <dc:description/>
  <dc:language>en-US</dc:language>
  <cp:lastModifiedBy>Gary Wintergerst</cp:lastModifiedBy>
  <cp:lastPrinted>1996-01-02T16:36:04Z</cp:lastPrinted>
  <dcterms:modified xsi:type="dcterms:W3CDTF">1999-11-25T22:05:52Z</dcterms:modified>
  <cp:revision>3</cp:revision>
  <dc:subject/>
  <dc:title>No Slide Title</dc:title>
</cp:coreProperties>
</file>