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God is like a grain of mustard s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 is sown in the earth, it is the smallest s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en it is sown, it grows into the largest pl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r than all of the herbs, and grows into a t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grows so birds can rest inside its crown of lea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in its shadows, away from any evil pr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we can liken it to seeds which make a t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rger than all of the trees from just the smallest s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4:3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0Z</dcterms:modified>
  <cp:revision>3</cp:revision>
  <dc:subject/>
  <dc:title>No Slide Title</dc:title>
</cp:coreProperties>
</file>