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Heal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Nation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2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8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healing of the natio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e pray with one acc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 just and equal sha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things that earth afford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 life of love in ac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us rise and pledge our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us rise and pledge our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us forward into freedo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espair your world rel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, redeemed from war and hat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ay come and go in pe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 us how through care and good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r will die and hope incr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r will die and hope increa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t kills abundant l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t from the earth be bann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ide of status, race, or schoo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gmas that obscure your pla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common quest for justi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hallow life's brief sp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hallow life's brief spa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, Creator God, have writt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great name on humanki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growing in your like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the life of Christ to m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y our response and servi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th its destiny may f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th its destiny may f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8T22:07:12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58Z</dcterms:modified>
  <cp:revision>5</cp:revision>
  <dc:subject/>
  <dc:title>No Slide Title</dc:title>
</cp:coreProperties>
</file>