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 then, ye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our happy th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nd with ours your v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triumph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laud, and hon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Christ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through countless ag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 and angels 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royal M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s against the fo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into battle see his banners g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sign of triump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's host doth fl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n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o victor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l's foundations qu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shout of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s, lift your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 your anthems 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ighty ar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s the church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s, we are trea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saints have tr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ot divi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body w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hope and doctr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char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s and thrones may per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doms rise and wa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church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tant will rem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es of hell can n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inst that church prev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hrist's own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cannot fai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44:1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21Z</dcterms:modified>
  <cp:revision>4</cp:revision>
  <dc:subject/>
  <dc:title>No Slide Title</dc:title>
</cp:coreProperties>
</file>