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walk with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ght of his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glory he sheds on our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do his good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bides with us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all who will trust and ob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no othe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appy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 trust 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burden we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sorrow we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our toil he doth richly rep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grief or a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frown or a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s blest if we trust and ob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no othe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appy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 trust 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never can pr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lights of hi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all on the altar we l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avor he sh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joy he best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for them who will trust and ob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no othe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appy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 trust 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n fellowship sw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it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e'll walk by his side in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e says we will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sends we will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ear, only trust and ob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no othe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appy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 trust 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31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12Z</dcterms:modified>
  <cp:revision>3</cp:revision>
  <dc:subject/>
  <dc:title>No Slide Title</dc:title>
</cp:coreProperties>
</file>