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Christma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3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w of Christma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el, sing we her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our grateful prais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babe so de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is born, Noe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w of Christma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w Noe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called to shepher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Leave your flocks at r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urney forth to Bethleh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nd the child so blest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is born, Noe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w of Christma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w Noe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Bethlehem they found hi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seph and Mary mi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ted by the mang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ching the holy chi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is born, Noe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w of Christma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w Noe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eastern count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e the kings af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ring gifts to Bethleh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d by a st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is born, Noe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w of Christma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w Noe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ld and myrrh they took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fts of greatest pri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was never a stab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like parad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is born, Noe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w of Christma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w Noe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10T21:57:4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45Z</dcterms:modified>
  <cp:revision>2</cp:revision>
  <dc:subject/>
  <dc:title>No Slide Title</dc:title>
</cp:coreProperties>
</file>