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a Princi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a principle with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atchful, godly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ensibility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in to feel it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he first approach to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ride or wrong des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tch the wandering of m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quench the kindling f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e that I no more may st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thy goodness gr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me the filial awe, I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nder conscience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 as the apple of an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my conscience m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 my soul when sin is n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it still aw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God of truth and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thy power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ntain from my soul re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rdness from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e least omission p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eawakened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rive me to that blood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makes the wounded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07:24Z</dcterms:created>
  <dc:creator>Gary Wintergerst</dc:creator>
  <dc:description/>
  <dc:language>en-US</dc:language>
  <cp:lastModifiedBy>Gary Wintergerst</cp:lastModifiedBy>
  <cp:lastPrinted>1996-01-02T16:38:34Z</cp:lastPrinted>
  <dcterms:modified xsi:type="dcterms:W3CDTF">1999-11-25T22:05:51Z</dcterms:modified>
  <cp:revision>3</cp:revision>
  <dc:subject/>
  <dc:title>No Slide Title</dc:title>
</cp:coreProperties>
</file>