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ot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pilo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life's tempestuous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known waves before me ro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ing rock and treacherous shoa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rt and compass came from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pilot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mother stills her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canst hush the ocean wi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isterous waves obey th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u sayest to them, "Be still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sovereign of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pilot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t last I near the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fearful breakers ro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xt me and the peaceful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while leaning on thy br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 hear thee say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, I will pilot the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6:19:1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30Z</dcterms:modified>
  <cp:revision>3</cp:revision>
  <dc:subject/>
  <dc:title>No Slide Title</dc:title>
</cp:coreProperties>
</file>