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 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well in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8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 and dwell in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power with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ring the glorious libert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sorrow, fear, and s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ten the joyful 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shall my sins consu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old things shall be done a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things new be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he witness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all I do is r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ccording to thy mind and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ll-pleasing in thy s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sk no higher stat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dulge me but in thi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oon or later then translat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ine eternal bli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9T14:14:0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5:44Z</dcterms:modified>
  <cp:revision>3</cp:revision>
  <dc:subject/>
  <dc:title>No Slide Title</dc:title>
</cp:coreProperties>
</file>