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ons and Daught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blest are they who have not se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et whose faith hath constant be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y eternal life shall w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ons and daughters, let us s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heaven, the glorious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death and hell rose triumph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Easter morn at break of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ithful women went their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k the tomb where Jesus l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angel clad in white they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at and spake unto the th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Your Lord doth go to Galile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night the apostles met in f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dst them came their Lord most d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id, "My peace be on all her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most holy day of d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and voices, Lord,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in jubilee and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omas first the tidings he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hey had seen the risen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doubted the disciples'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My pierced side, O Thomas,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ands, my feet, I show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faithless but believing b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longer Thomas then deni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aw the feet, the hands, the s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ou art my Lord and God," he cr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8:37:1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7Z</dcterms:modified>
  <cp:revision>3</cp:revision>
  <dc:subject/>
  <dc:title>No Slide Title</dc:title>
</cp:coreProperties>
</file>