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 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e, O Chri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5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 to thee, O Chri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 to th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thou the pray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make on bended kn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earnest plea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, O Christ,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 to th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earthly joy I crav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ught peace and r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e alone I see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what is b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all my prayer shall b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, O Christ,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 to th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sorrow do its wor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grief and p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are thy messeng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their refr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y can sing with m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, O Christ,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 to th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hall my latest br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sper thy pra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be the parting c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shall ra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still its prayer shall b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, O Christ,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 to th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12:16:18Z</dcterms:created>
  <dc:creator>Gary Wintergerst</dc:creator>
  <dc:description/>
  <dc:language>en-US</dc:language>
  <cp:lastModifiedBy>Gary Wintergerst</cp:lastModifiedBy>
  <cp:lastPrinted>1996-01-03T12:49:56Z</cp:lastPrinted>
  <dcterms:modified xsi:type="dcterms:W3CDTF">1999-11-25T22:06:08Z</dcterms:modified>
  <cp:revision>5</cp:revision>
  <dc:subject/>
  <dc:title>No Slide Title</dc:title>
</cp:coreProperties>
</file>