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4838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944640" indent="-9446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1416960" indent="-1416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4838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944640" indent="-9446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1416960" indent="-1416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646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, All Ye Faithful</a:t>
            </a:r>
            <a:br>
              <a:rPr sz="6800"/>
            </a:br>
            <a:br>
              <a:rPr sz="6800"/>
            </a:b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rom “Carols for Choirs” (Oxford)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, all ye faithful, Joyful and triumphan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ye, O come ye to Bethlehem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ome and behold him Born the King of Angels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hrist the Lord!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God of God, Light of Light,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Lo! He abhors not the Virgin’s womb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Very God, Begotten not created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hrist the Lord!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ng, choirs of angels, Sing in exultation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ng, all ye citizens of heav’n above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Glory to God In the highest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hrist the Lord!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Yea, Lord we greet thee, Born this happy morning,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Jesu, to thee be glory giv’n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Word of the Father, now in flesh appearing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O come let us adore him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hrist the Lord!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