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aster,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ime Has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aster, see, the time has come to give your servant le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 in peace, long waited for, your promise now fulfil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have seen salvation, Lord. Now may the whole world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light which is your Israel's boast enlightening every l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05:5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1Z</dcterms:modified>
  <cp:revision>2</cp:revision>
  <dc:subject/>
  <dc:title>No Slide Title</dc:title>
</cp:coreProperties>
</file>