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ve Thine Ow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y,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8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ve thine own way, Lord! Have thine own w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art the potter;               I am the cl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ld me and make me   after thy wi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I am waiting,     yielded and sti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ve thine own way, Lord! Have thine own w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arch me and try me, Savior tod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h me just now, Lord, wash me just n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in thy presence     humbly I b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ve thine own way, Lord! Have thine own w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unded and weary,      help me I pr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wer, all power,         surely is thin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uch me and heal me, Savior divin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ve thine own way, Lord! Have thine own w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d o'er my being  absolute sw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with thy Spirit               till all shall s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only, always,      living in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6T20:48:56Z</dcterms:created>
  <dc:creator>Gary Wintergerst</dc:creator>
  <dc:description/>
  <dc:language>en-US</dc:language>
  <cp:lastModifiedBy>Gary Wintergerst</cp:lastModifiedBy>
  <cp:lastPrinted>1995-08-06T20:46:04Z</cp:lastPrinted>
  <dcterms:modified xsi:type="dcterms:W3CDTF">1999-11-25T22:05:42Z</dcterms:modified>
  <cp:revision>3</cp:revision>
  <dc:subject/>
  <dc:title>No Slide Title</dc:title>
</cp:coreProperties>
</file>