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Te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o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56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, in scenes of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the new, new so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ill be the old, old s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 have loved so 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tell the st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ill be my theme in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ell the old, old s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 and h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tell the s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unseen thing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 and his glory,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and his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tell the s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I know' tis tru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satisfies my longing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nothing else can d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tell the st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ill be my theme in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ell the old, old s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 and h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tell the sto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wonderful it seem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 all the golden fanci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all our golden dream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tell the s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did so much for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at is just the reas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tell it now to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tell the st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ill be my theme in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ell the old, old s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 and h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tell the stor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pleasant to repe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seems, each time I tell 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wonderfully swee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tell the s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ome have never hea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essage of salv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God's own holy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tell the st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ill be my theme in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ell the old, old s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 and h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tell the s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se who know it be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m hungering and thirst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ar it like the r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0T20:36:14Z</dcterms:created>
  <dc:creator>Gary Wintergerst</dc:creator>
  <dc:description/>
  <dc:language>en-US</dc:language>
  <cp:lastModifiedBy>Gary Wintergerst</cp:lastModifiedBy>
  <cp:lastPrinted>1995-07-10T20:22:26Z</cp:lastPrinted>
  <dcterms:modified xsi:type="dcterms:W3CDTF">2000-06-17T20:56:12Z</dcterms:modified>
  <cp:revision>6</cp:revision>
  <dc:subject/>
  <dc:title>No Slide Title</dc:title>
</cp:coreProperties>
</file>