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Fount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Blo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in a nobler, sweeter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ing thy power to s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is poor lisping, stammering tongu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es silent in the gr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es silent in the gr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es silent in the gr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is poor lisping, stammering tongu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es silent in the gr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fountain filled with b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n from Emmanuel's vei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ners plunged beneath that f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e all their guilty stai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e all their guilty st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e all their guilty stai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ners plunged beneath that f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e all their guilty stai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ying thief rejoiced to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fountain in his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re may I, though vile as h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all my sins a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all my sins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all my sins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re may I, though vile as h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all my sins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dying Lamb, thy precious b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never lose its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ransomed church of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aved, to sin no 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aved, to sin no m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aved, to sin no m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ransomed church of God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d, to sin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'er since, by faith, I saw the strea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flowing wounds supp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ing love has been my the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be till I di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be till I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be till I di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ing love has been my the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be till I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09:02Z</dcterms:created>
  <dc:creator>Gary Wintergerst</dc:creator>
  <dc:description/>
  <dc:language>en-US</dc:language>
  <cp:lastModifiedBy>Gary Wintergerst</cp:lastModifiedBy>
  <cp:lastPrinted>1995-12-25T20:31:04Z</cp:lastPrinted>
  <dcterms:modified xsi:type="dcterms:W3CDTF">1999-11-25T22:12:26Z</dcterms:modified>
  <cp:revision>6</cp:revision>
  <dc:subject/>
  <dc:title>No Slide Title</dc:title>
</cp:coreProperties>
</file>