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counsels guide, up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sheep securely fol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his wings securely hid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manna still provid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fe's perils thick confoun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his arms unfailing roun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banner floating o'er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mite death's threatening wave befor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07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47Z</dcterms:modified>
  <cp:revision>3</cp:revision>
  <dc:subject/>
  <dc:title>No Slide Title</dc:title>
</cp:coreProperties>
</file>