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a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shall we call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the manger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name is given in Bethlehem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ever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iven for us in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he sa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he help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here among us in Bethlehem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 of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uman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s him our brother of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ou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-sent helper of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we prais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ourselves to him of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27:2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7Z</dcterms:modified>
  <cp:revision>4</cp:revision>
  <dc:subject/>
  <dc:title>No Slide Title</dc:title>
</cp:coreProperties>
</file>