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n It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Should G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condemnation now I dr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and all in him, is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ive in him, my living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thed in righteousness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ld I approach th'eternal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aim the crown, through Christ my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ld I approach th'eternal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aim the crown, through Christ my 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n it be that I should 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interest in the Savior's bl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ed he for me? who caused his pai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e? who him to death pursu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love! How can it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u, my God, shouldst die for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love! How can it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u, my God, shouldst die for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ystery all: th'Immortal die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an explore his strange desig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vain the firstborn seraph tr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ound the depths of love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ercy all! Let earth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ngel minds inquire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ercy all! Let earth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ngel minds inquire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ft his Father's throne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o free, so infinite his grace!)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ptied himself of all but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d for Adam's helples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ercy all, immense and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 my God, it found out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ercy all, immense and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 my God, it found out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my imprisoned spirit 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st bound in sin and nature's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eye diffused a quickening r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oke, the dungeon flamed with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hains fell off, my heart was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ose, went forth, and followed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hains fell off, my heart was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ose, went forth, and followed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7:15:12Z</dcterms:created>
  <dc:creator>Gary Wintergerst</dc:creator>
  <dc:description/>
  <dc:language>en-US</dc:language>
  <cp:lastModifiedBy>Gary Wintergerst</cp:lastModifiedBy>
  <cp:lastPrinted>1995-08-03T17:54:10Z</cp:lastPrinted>
  <dcterms:modified xsi:type="dcterms:W3CDTF">1999-11-25T22:05:34Z</dcterms:modified>
  <cp:revision>6</cp:revision>
  <dc:subject/>
  <dc:title>No Slide Title</dc:title>
</cp:coreProperties>
</file>