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Dismiss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y Bless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7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dismiss us with thy bless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our hearts with joy and pe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each, thy love posses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iumph in redeeming gr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refresh us, O refresh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aveling through this wilderne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s we give and ador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y gospel's joyful sou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the fruits of thy salv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ur hearts and lives abou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 faithful, ever faithfu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truth may we be fou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20:55:30Z</dcterms:created>
  <dc:creator>Gary Wintergerst</dc:creator>
  <dc:description/>
  <dc:language>en-US</dc:language>
  <cp:lastModifiedBy>Gary Wintergerst</cp:lastModifiedBy>
  <cp:lastPrinted>1995-12-28T04:18:08Z</cp:lastPrinted>
  <dcterms:modified xsi:type="dcterms:W3CDTF">1999-11-25T22:12:46Z</dcterms:modified>
  <cp:revision>4</cp:revision>
  <dc:subject/>
  <dc:title>No Slide Title</dc:title>
</cp:coreProperties>
</file>