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n Land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De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n land and sea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the night its peace pro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vesper hymn be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calm a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vesper hymn be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calm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s dies the sunset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of heaven shine out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still the ancient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eator's changeles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still the ancient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eator's changeles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ur wants and burdens lea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's care who cares fo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 we fearing, cease we gr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God our burdens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 we fearing, cease we gr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God our burdens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arkness deepens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eternal stars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faith and love rise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Spirit's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faith and love rise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Spirit's sk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1:04Z</dcterms:created>
  <dc:creator>Gary Wintergerst</dc:creator>
  <dc:description/>
  <dc:language>en-US</dc:language>
  <cp:lastModifiedBy>Gary Wintergerst</cp:lastModifiedBy>
  <cp:lastPrinted>1995-12-28T04:38:12Z</cp:lastPrinted>
  <dcterms:modified xsi:type="dcterms:W3CDTF">1999-11-25T22:12:51Z</dcterms:modified>
  <cp:revision>4</cp:revision>
  <dc:subject/>
  <dc:title>No Slide Title</dc:title>
</cp:coreProperties>
</file>