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r, In Wh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88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r, in whom we l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hom we are and 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lory, power, and praise rece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 creating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angel thr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God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earth repeats the joyful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choes to the sk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carnate De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ransomed 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der in thanks their lives to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 redeeming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ace to sinners show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heavenly choirs pro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y, "Salvation to ou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lvation to the Lamb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Holi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y saints ad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acred energy, and bl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heart-renewing pow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ngel tongues can te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love's ecstatic he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lorious joy unspeak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tific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, Triune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host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on earth below rec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well upon thy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aven and earth are fl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thy glorious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 the saints thy love hath mad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everlasting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30T21:24:56Z</dcterms:created>
  <dc:creator>Gary Wintergerst</dc:creator>
  <dc:description/>
  <dc:language>en-US</dc:language>
  <cp:lastModifiedBy>Gary Wintergerst</cp:lastModifiedBy>
  <dcterms:modified xsi:type="dcterms:W3CDTF">1999-11-25T22:03:48Z</dcterms:modified>
  <cp:revision>5</cp:revision>
  <dc:subject/>
  <dc:title>No Slide Title</dc:title>
</cp:coreProperties>
</file>