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, M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, to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2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, my God,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 to the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'en though it be a cro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raiseth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all my song shall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, my God,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, my God,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 to th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like the wander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un gone d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rkness be ove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rest a st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in my dreams I'd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, my God,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, my God,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 to th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let the way app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ps unto hea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at thou sendest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ercy gi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to beckon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, my God,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, my God,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 to th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, with my waking though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ght with thy pra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 of my stony grief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thel I'll rai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by my woes to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, my God,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, my God,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 to th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if, on joyful w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eaving the sk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n, moon, and stars forg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ward I f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all my song shall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, my God,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, my God,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 to th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6T18:38:0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03Z</dcterms:modified>
  <cp:revision>3</cp:revision>
  <dc:subject/>
  <dc:title>No Slide Title</dc:title>
</cp:coreProperties>
</file>