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Gives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y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Medical Mission Sis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gives glory to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pours out its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ifted up my lowli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any marvelous w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has done great things for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holy is t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 will declare me bl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ings they shall 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, to all who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mercy love imp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nsing justice far and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missing selfish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sts the mighty from their thron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otes the in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s hungry spirits satis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ch seem suddenly p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whose loving coven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ports those in di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 past prom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resent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7:10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31Z</dcterms:modified>
  <cp:revision>3</cp:revision>
  <dc:subject/>
  <dc:title>No Slide Title</dc:title>
</cp:coreProperties>
</file>