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auti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little flower that ope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little bird that s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their glowing colo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de their tiny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urple-headed moun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ver running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set and the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rightens up the sk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ld wind in the win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leasant summer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pe fruits in the gard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them every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ave us eyes to see t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ps that we might t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is God Al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s made all things w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6:37:36Z</dcterms:created>
  <dc:creator>Gary Wintergerst</dc:creator>
  <dc:description/>
  <dc:language>en-US</dc:language>
  <cp:lastModifiedBy>Gary Wintergerst</cp:lastModifiedBy>
  <cp:lastPrinted>1995-08-10T21:43:06Z</cp:lastPrinted>
  <dcterms:modified xsi:type="dcterms:W3CDTF">1999-11-25T22:04:10Z</dcterms:modified>
  <cp:revision>5</cp:revision>
  <dc:subject/>
  <dc:title>No Slide Title</dc:title>
</cp:coreProperties>
</file>