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Crow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with many crow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upon his thr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how the heavenly anthem drow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usic but it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my soul, and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died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il him as thy matchless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the Lord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iumphed o'er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se victorious in the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he came to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glories now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, and ros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, eternal life to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s that death may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the Lord of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power a scepter s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pole to pole, that wars may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be prayer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ign shall know no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und his pierced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flowers of paradise ext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fragrance ever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the Lor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his hands and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ounds, yet visible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auty glorif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, Redeemer, hai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hast died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aise and glory shall not fa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3:57:36Z</dcterms:created>
  <dc:creator>Gary Wintergerst</dc:creator>
  <dc:description/>
  <dc:language>en-US</dc:language>
  <cp:lastModifiedBy>Gary Wintergerst</cp:lastModifiedBy>
  <cp:lastPrinted>1995-08-02T12:33:10Z</cp:lastPrinted>
  <dcterms:modified xsi:type="dcterms:W3CDTF">1999-11-25T22:05:20Z</dcterms:modified>
  <cp:revision>3</cp:revision>
  <dc:subject/>
  <dc:title>No Slide Title</dc:title>
</cp:coreProperties>
</file>