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Walk 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hild of th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5 Celeb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walk as a child of the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follow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et the stars to give light to the wor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 of my life is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there is no darkness at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and the day are both ali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is the light of the city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in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see the brightness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look at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r Sun of Righteousness, shine on my p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me the way to the Fa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there is no darkness at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and the day are both ali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is the light of the city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in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looking for the coming of Chri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with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have run with patience the 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know the joy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there is no darkness at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and the day are both ali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is the light of the city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in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30:5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3Z</dcterms:modified>
  <cp:revision>3</cp:revision>
  <dc:subject/>
  <dc:title>No Slide Title</dc:title>
</cp:coreProperties>
</file>