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Does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Requi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4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49 Albert F. Bay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does the Lord requi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praise and offering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sacrifice, des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tribute bid you bring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justly; love merc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humbly with your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ulers of earth, give ea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ld you not justice know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God your pleading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crime and cruelty grow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justly; love merc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humbly with your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gain wealth by tra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hom the worker toi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k not to win God's 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greed your commerce soil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justly; love merc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humbly with your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hall our life fulfi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law so hard and high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Christ endue our wi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race to fortif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justly; in merc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humbly with your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09:07:32Z</dcterms:created>
  <dc:creator>Gary Wintergerst</dc:creator>
  <dc:description/>
  <dc:language>en-US</dc:language>
  <cp:lastModifiedBy>Gary Wintergerst</cp:lastModifiedBy>
  <cp:lastPrinted>1996-01-03T12:42:12Z</cp:lastPrinted>
  <dcterms:modified xsi:type="dcterms:W3CDTF">1999-11-25T22:06:04Z</dcterms:modified>
  <cp:revision>5</cp:revision>
  <dc:subject/>
  <dc:title>No Slide Title</dc:title>
</cp:coreProperties>
</file>