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Vict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Victorious, give to your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with your saints in the regions of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f and pain ended, and sighing no lo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ay they find everlasting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Immortal One, mighty Creato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 creatures and children of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 you formed us, both glorious and 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earth shall we all retu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-spoken prophecy, word at creati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 came from dust and to dust shall return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at the grave shall we raise up our glad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, alleluia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Victorious, give to your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with your saints in the regions of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f and pain ended, and sighing no lo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ay they find everlasting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17:10Z</dcterms:created>
  <dc:creator>Gary Wintergerst</dc:creator>
  <dc:description/>
  <dc:language>en-US</dc:language>
  <cp:lastModifiedBy>Gary Wintergerst</cp:lastModifiedBy>
  <cp:lastPrinted>1995-12-27T02:06:00Z</cp:lastPrinted>
  <dcterms:modified xsi:type="dcterms:W3CDTF">1999-11-25T22:12:39Z</dcterms:modified>
  <cp:revision>5</cp:revision>
  <dc:subject/>
  <dc:title>No Slide Title</dc:title>
</cp:coreProperties>
</file>