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eel th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mountain, my Lord spo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his mouth came fire and smo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me looks so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my Lord if all was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rdan river runs right c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ls the body, not the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but one train on this trac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ns to heaven and right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08:42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9Z</dcterms:modified>
  <cp:revision>3</cp:revision>
  <dc:subject/>
  <dc:title>No Slide Title</dc:title>
</cp:coreProperties>
</file>