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ith, While Tree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re Still In Blossom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08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Ansgar Film &amp; Bokproduk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rans. 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1976 Hope Publ.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ith, while trees are still in blosso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lans the picking of the frui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ith can feel the thrill of harves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the buds begin to sprou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ng before the dawn is break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ith anticipates the su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ith is eager for the dayl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work that must be d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ng before the rains were com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ah went and built an ark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braham, the lonely migran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w the light beyond the dark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ith, uplifted, tamed the wat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the undivided se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 people of the Hebrew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und the path that made them fr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ith believes that God is faithful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will be what God will b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ith accepts the call, respond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I am willing, Lord, send me.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5T16:15:58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25T22:06:29Z</dcterms:modified>
  <cp:revision>5</cp:revision>
  <dc:subject/>
  <dc:title>No Slide Title</dc:title>
</cp:coreProperties>
</file>