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a Christia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a Christian in my heart, in my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a Christian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heart, in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a Christian 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more loving in my heart, in my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more loving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heart, in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more loving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more holy in my heart, in my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more holy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heart, in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more holy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like Jesus in my heart, in my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like Jesus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heart, in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like Jesus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0:54:54Z</dcterms:created>
  <dc:creator>Gary Wintergerst</dc:creator>
  <dc:description/>
  <dc:language>en-US</dc:language>
  <cp:lastModifiedBy>Gary Wintergerst</cp:lastModifiedBy>
  <cp:lastPrinted>1996-01-02T16:33:14Z</cp:lastPrinted>
  <dcterms:modified xsi:type="dcterms:W3CDTF">1999-11-25T22:05:49Z</dcterms:modified>
  <cp:revision>4</cp:revision>
  <dc:subject/>
  <dc:title>No Slide Title</dc:title>
</cp:coreProperties>
</file>