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ake Our Brea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640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66 Joe Wi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ake our brea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sk you; take our heart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love you. Take our live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Father, we are your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re your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rs as we stand at the table you set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rs as we eat the bread our hearts can't forget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re the sign of your life with us ye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5000"/>
          </a:bodyPr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re your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re your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ake our brea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sk you; take our heart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love you. Take our live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Father, we are your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re your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r holy people standing washed in your bloo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pirit-filled yet hungry we await your foo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re poor, but we've brought ourselves the best we coul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5000"/>
          </a:bodyPr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re your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re your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ake our brea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sk you; take our heart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love you. Take our live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Father, we are your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re your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23T20:42:32Z</dcterms:created>
  <dc:creator>Gary Wintergerst</dc:creator>
  <dc:description/>
  <dc:language>en-US</dc:language>
  <cp:lastModifiedBy>Gary Wintergerst</cp:lastModifiedBy>
  <cp:lastPrinted>1995-08-11T16:01:02Z</cp:lastPrinted>
  <dcterms:modified xsi:type="dcterms:W3CDTF">1999-11-25T22:12:34Z</dcterms:modified>
  <cp:revision>4</cp:revision>
  <dc:subject/>
  <dc:title>No Slide Title</dc:title>
</cp:coreProperties>
</file>