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limb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cob's Ladd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1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limbing Jacob's ladd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limbing Jacob's ladd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limbing Jacob's ladd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ldiers of the cro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round goes higher, high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round goes higher, hig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round goes higher, high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ldiers of the cro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ner, do you love my Jesus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ner, do you love my Jesus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ner, do you love my Jesus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ldiers of the cro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love him, why not serve him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love him, why not serve him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love him, why not serve him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ldiers of the cro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limbing higher, high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limbing higher, hig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limbing higher, high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ldiers of the cro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8T21:45:36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5:55Z</dcterms:modified>
  <cp:revision>3</cp:revision>
  <dc:subject/>
  <dc:title>No Slide Title</dc:title>
</cp:coreProperties>
</file>