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a la tierr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(All Earth Is Waiting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Arial"/>
              </a:rPr>
              <a:t>(Sp:2; Eng:7; Sp/Eng:15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2 Alberto Taul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m hope will blossom once more within our hear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untains and valleys will have to be made pl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new highways, new highways for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now coming closer, so come all and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pen the doorways as wide as wide can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owly stable the Promised One appea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, feel his presence throughout the earth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e lives in all Christians and is with us 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gain, with his coming he brings us liber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a la tierra espera al Salvad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el surco abierto, la obra del Señ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earth is waiting to see the Promised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open furrows, the sowing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76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el mundo que lucha por la libert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lama justica y busca la verd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All the world, bound and strug-gling, seeks true liberty;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it cries out for justice and searches for the truth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ce el profeta al pueblo de Israe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De madre virgen ya viene Emmanuel"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says the prophet to those of Isra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A virgin mother will bear Emmanuel,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á "Dios con nosotros", hermano será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él la esperanza al mundo volverá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for his name is "God with us," our brother shall be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with him hope will blossom once more within our hearts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ntes y valles habrá que prepar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os caminos tenemos que traz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untains and valleys will have to be made pl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new highways, new highways for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a la tierra espera al Salvad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el surco abierto, la obra del Señ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el mundo que lucha por la libert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lama justica y busca la ver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Él está ya muy cerca, venidlo a encontr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todas las puertas abrid de par en p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now coming closer, so come all and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pen the doorways as wide as wide can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una cueva Jesús apareció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o en el mundo está presente ho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In lowly stable the Promised One appeared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yet, feel his presence through-out the earth today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ve en nuestros hermanos, con ellos está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vuelve de nuevo a darnos libert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e lives in all Christians and is with us 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gain, with his coming he brings us liber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76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ce el profeta al pueblo de Israe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De madre virgen ya viene Emmanuel"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á "Dios con nosotros", hermano será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él la esperanza al mundo volverá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ntes y valles habrá que prepar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os caminos tenemos que traz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Él está ya muy cerca, venidlo a encontr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todas las puertas abrid de par en p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una cueva Jesús apareció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o en el mundo está presente ho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ve en nuestros hermanos, con ellos está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vuelve de nuevo a darnos libert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earth is waiting to see the Promised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open furrows, the sowing of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world, bound and struggling, seeks true libert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cries out for justice and searches for the tru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says the prophet to those of Isra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A virgin mother will bear Emmanuel,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is name is "God with us," our brother sha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8T08:41:4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35Z</dcterms:modified>
  <cp:revision>5</cp:revision>
  <dc:subject/>
  <dc:title>No Slide Title</dc:title>
</cp:coreProperties>
</file>