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Scripture in So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at the Lord hath m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Lord hath ma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rejoice and be glad in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glad in 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at the Lord hath ma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rejoice and be glad in 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at the Lord hath ma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52:5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40Z</dcterms:modified>
  <cp:revision>4</cp:revision>
  <dc:subject/>
  <dc:title>No Slide Title</dc:title>
</cp:coreProperties>
</file>