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A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t to Heav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0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the wondrous love of Jes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his mercy and his gr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mansions bright and bless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ll prepare for us a pl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all get to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day of rejoicing that will b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all see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sing and shout the victor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we walk the pilgrim path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ouds will overspread the sk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when traveling days are o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a shadow, not a sig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all get to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day of rejoicing that will b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all see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sing and shout the victor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then be true and faithf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sting, serving every d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one glimpse of him in gl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the toils of life rep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all get to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day of rejoicing that will b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all see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sing and shout the victor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ward to the prize before u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on his beauty we'll behol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on the pearly gates will op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ll tread the streets of gol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all get to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day of rejoicing that will b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all see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sing and shout the victor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05:06Z</dcterms:created>
  <dc:creator>Gary Wintergerst</dc:creator>
  <dc:description/>
  <dc:language>en-US</dc:language>
  <cp:lastModifiedBy>Gary Wintergerst</cp:lastModifiedBy>
  <cp:lastPrinted>1996-01-02T13:58:08Z</cp:lastPrinted>
  <dcterms:modified xsi:type="dcterms:W3CDTF">1999-11-25T22:12:57Z</dcterms:modified>
  <cp:revision>4</cp:revision>
  <dc:subject/>
  <dc:title>No Slide Title</dc:title>
</cp:coreProperties>
</file>