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, How Deep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6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, how deep, how broad, how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fills the heart with ecstas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God, the Son of God, should t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mortal form for mortals' sak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baptized, for us he b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holy fast and hungered s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temptation sharp he kne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the tempter over thr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he prayed; for us he tau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his daily works he wrou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ords and signs and actions th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seeking not himself, but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to evil power betra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ourged, mocked, in purple robe arra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bore the shameful cross and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gave up his dying br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he rose from death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he went on high to reig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he sent his Spirit 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uide, to strengthen, and to che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 to our Lord and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love so deep, so high, so broa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inity whom we ad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ever and forever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04:4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7Z</dcterms:modified>
  <cp:revision>2</cp:revision>
  <dc:subject/>
  <dc:title>No Slide Title</dc:title>
</cp:coreProperties>
</file>