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Called 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Russell Schulz-Widm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has called us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love finds its source in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rfect love that casts out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that Christ makes ever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acious God, you consecr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ovely, good, and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se who in your presence wa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day their love re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love, inspire our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your will in all we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every husband, every w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utual love and lov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3:56Z</dcterms:created>
  <dc:creator>Gary Wintergerst</dc:creator>
  <dc:description/>
  <dc:language>en-US</dc:language>
  <cp:lastModifiedBy>Gary Wintergerst</cp:lastModifiedBy>
  <cp:lastPrinted>1995-12-25T21:12:26Z</cp:lastPrinted>
  <dcterms:modified xsi:type="dcterms:W3CDTF">1999-11-25T22:12:37Z</dcterms:modified>
  <cp:revision>5</cp:revision>
  <dc:subject/>
  <dc:title>No Slide Title</dc:title>
</cp:coreProperties>
</file>