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Is He 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nder Stal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9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is he that from yon thron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ules the world of light alon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Lord, O wondrous stor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Lord, the King of glor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his feet we humbly f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n him, crown him Lord of all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is he in yonder sta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whose feet the shepherds fall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Lord, O wondrous stor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Lord, the King of glor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his feet we humbly f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n him, crown him Lord of all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, at midnight who is 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ys in dark Gethseman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Lord, O wondrous stor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Lord, the King of glor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his feet we humbly f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n him, crown him Lord of all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is he in Calvary's thro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ks for blessings on his foes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Lord, O wondrous stor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Lord, the King of glor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his feet we humbly f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n him, crown him Lord of all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is he that from the gra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s to heal and help and sav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Lord, O wondrous stor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Lord, the King of glor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his feet we humbly f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n him, crown him Lord of all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08:31:10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4:28Z</dcterms:modified>
  <cp:revision>3</cp:revision>
  <dc:subject/>
  <dc:title>No Slide Title</dc:title>
</cp:coreProperties>
</file>