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353200"/>
            <a:ext cx="730440" cy="10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ship the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7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ship the King, all gloriou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atefully sing God's power and God'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hield and Defender, the Ancient of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vilioned in splendor, and girded with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ell of God's might, O sing of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robe is the light, whose canopy sp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chariots of wrath the deep thunderclouds fo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rk is God's path on the wings of the st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arth with its store of wonders unt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, thy power hath founded of 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stablished it fast by a changeless dec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und it hath cast, like a mantle,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ountiful care, what tongue can reci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breathes in the air, it shines in the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treams from the hills, it descends to the p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weetly distills in the dew and the r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il children of dust, and feeble as fr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do we trust, nor find thee to f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ercies how tender, how firm to the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aker, Defender, Redeemer, and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9:48:58Z</dcterms:created>
  <dc:creator>Gary Wintergerst</dc:creator>
  <dc:description/>
  <dc:language>en-US</dc:language>
  <cp:lastModifiedBy>Gary Wintergerst</cp:lastModifiedBy>
  <dcterms:modified xsi:type="dcterms:W3CDTF">1999-11-25T22:02:49Z</dcterms:modified>
  <cp:revision>3</cp:revision>
  <dc:subject/>
  <dc:title>No Slide Title</dc:title>
</cp:coreProperties>
</file>