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s 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3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can hear my Savior cal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can hear my Savior cal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can hear my Savior cal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Take thy cross and follow, follow me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he leads me I will fol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he leads me I will fol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he leads me I will foll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go with him, with him all the 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go with him through the gard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go with him through the gard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go with him through the gard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go with him, with him all the w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he leads me I will fol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he leads me I will fol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he leads me I will foll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go with him, with him all the 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go with him through the judgme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go with him through the judgme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go with him through the judgme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go with him, with him all the w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he leads me I will fol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he leads me I will fol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he leads me I will foll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go with him, with him all the 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give me grace and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give me grace and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give me grace and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o with me, with me all the w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he leads me I will fol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he leads me I will fol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he leads me I will foll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go with him, with him all the 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2T14:25:12Z</dcterms:created>
  <dc:creator>Gary Wintergerst</dc:creator>
  <dc:description/>
  <dc:language>en-US</dc:language>
  <cp:lastModifiedBy>Gary Wintergerst</cp:lastModifiedBy>
  <cp:lastPrinted>1995-08-02T14:20:50Z</cp:lastPrinted>
  <dcterms:modified xsi:type="dcterms:W3CDTF">1999-11-25T22:05:24Z</dcterms:modified>
  <cp:revision>4</cp:revision>
  <dc:subject/>
  <dc:title>No Slide Title</dc:title>
</cp:coreProperties>
</file>