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l Est Né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 est né, le divin Enf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ez hautbois rèsonnez musett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 est né, le divin Enf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tons tous son avènemen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long ages of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have foretold his co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long ages of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time has come at l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lovely, O how p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is perfect child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lovely, O how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gift to humanki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 of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as a child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 of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o us thy heavenly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11:1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2Z</dcterms:modified>
  <cp:revision>2</cp:revision>
  <dc:subject/>
  <dc:title>No Slide Title</dc:title>
</cp:coreProperties>
</file>