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Us in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's Te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us in the Spirit's te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hen humbly in th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wo or three are met toge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in the midst of t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 we now thy garment's 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disciples used to g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name of Christ to su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ith thanks to God the F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 the bread and bless the cup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now bind our friendship u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meals and all our l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as sacraments of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y caring, helping, g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ay true disciples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e faithful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41:20Z</dcterms:created>
  <dc:creator>Gary Wintergerst</dc:creator>
  <dc:description/>
  <dc:language>en-US</dc:language>
  <cp:lastModifiedBy>Gary Wintergerst</cp:lastModifiedBy>
  <cp:lastPrinted>1995-12-25T20:37:12Z</cp:lastPrinted>
  <dcterms:modified xsi:type="dcterms:W3CDTF">1999-11-25T22:12:31Z</dcterms:modified>
  <cp:revision>4</cp:revision>
  <dc:subject/>
  <dc:title>No Slide Title</dc:title>
</cp:coreProperties>
</file>