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urce and Sovereig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ock and Clou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1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7 Oxford Univ. Pr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urce and Sovereign, Rock and Clou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tress, Fountain, Shelter,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dge, Defender, Mercy, M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whose life all life endowe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e church at prayer recall that no single holy na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e truth behind them all is the God whom we proclai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 and Wisdom, Root and 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pherd, Savior, Servant, Lamb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ll and Water, Bread and W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y who leads us to I AM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e church at prayer recall that no single holy na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e truth behind them all is the God whom we proclai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orm and Stillness, Breath and D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under, Tempest, Whirlwind, Fi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fort, Counselor, Presence,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ergies that never tir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e church at prayer recall that no single holy na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e truth behind them all is the God whom we proclai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9T15:45:4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3:57Z</dcterms:modified>
  <cp:revision>4</cp:revision>
  <dc:subject/>
  <dc:title>No Slide Title</dc:title>
</cp:coreProperties>
</file>