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Sha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ig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57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15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shall reign where'er the su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5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es its successive journeys ru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5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kingdom spread from shore to sh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5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moons shall wax and wane no 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Jesus endless prayer be ma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ndless praises crown his hea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 like sweet perfume shall r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every morning sacrifi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ople and realms of every tongu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well on his love with sweetest s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fant voices shall procla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early blessings on his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ings abound where'er he reign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risoners leap and loose their chain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eary find eternal r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who suffer want are bl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every creature rise and b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nors peculiar to our K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s descend with songs a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arth repeat the loud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0T20:55:50Z</dcterms:created>
  <dc:creator>Gary Wintergerst</dc:creator>
  <dc:description/>
  <dc:language>en-US</dc:language>
  <cp:lastModifiedBy>Gary Wintergerst</cp:lastModifiedBy>
  <cp:lastPrinted>1995-07-10T20:47:30Z</cp:lastPrinted>
  <dcterms:modified xsi:type="dcterms:W3CDTF">1999-11-25T22:04:14Z</dcterms:modified>
  <cp:revision>3</cp:revision>
  <dc:subject/>
  <dc:title>No Slide Title</dc:title>
</cp:coreProperties>
</file>