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' Han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Kind Hand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7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' hands were kind hands, doing good to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ing pain and sickness, blessing children sm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hing tired feet, and saving those who f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' hands were kind hands, doing good to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hands, Lord Jesus, let them work for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them strong and gentle, kind in all I d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e watch you, Jesus, till I'm gentle to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my hands are kind hands, quick to work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4:50:30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59Z</dcterms:modified>
  <cp:revision>2</cp:revision>
  <dc:subject/>
  <dc:title>No Slide Title</dc:title>
</cp:coreProperties>
</file>