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y W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9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Jesus, at thy w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athered all to hear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our hearts and souls be stirr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o seek and love and fear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y teachings sweet and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n from earth to love thee sole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knowledge, sense, and s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e in deepest darkness shrou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y spirit breaks our n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eams of truth uncloud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lone to God canst win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must work all good within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ous Lord, thyself impar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of light, from God procee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thou our ears and he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by thy spirit's plead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the cry thy people rais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, and bless our prayers and prais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9:37:3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29Z</dcterms:modified>
  <cp:revision>3</cp:revision>
  <dc:subject/>
  <dc:title>No Slide Title</dc:title>
</cp:coreProperties>
</file>