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Mercy Publish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the Son of God enfold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Spirit and h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him fill your heart and satisfy your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him have the things that hol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Spirit like a d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descend upon your life and make you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your lamb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your lamb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and sing this song with gla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your hearts are filled with j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your hands in sw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render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ive him all your tears and sa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him all your years of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'll enter into life in Jesus'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your lamb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your lamb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4T13:45:44Z</dcterms:created>
  <dc:creator>Gary Wintergerst</dc:creator>
  <dc:description/>
  <dc:language>en-US</dc:language>
  <cp:lastModifiedBy>Gary Wintergerst</cp:lastModifiedBy>
  <dcterms:modified xsi:type="dcterms:W3CDTF">1999-11-25T22:05:27Z</dcterms:modified>
  <cp:revision>5</cp:revision>
  <dc:subject/>
  <dc:title>No Slide Title</dc:title>
</cp:coreProperties>
</file>