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ners K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sinners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ins on earth forgiven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my gracious Savior sh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name inscribed in heave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e have felt and se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onfidence we t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ublish to the ends of ea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gns infallib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ho in Christ belie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e for us hath d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his unknown peace rece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eel his blood appl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y his Spirit pr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now the things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hings which freely of his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th on us bestow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eek and lowl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 our Savior w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us that Spirit doth im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gns us with his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nature's turned, our m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nsformed in all its pow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oth the witnesses are joi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of God with ou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3:13:0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37Z</dcterms:modified>
  <cp:revision>3</cp:revision>
  <dc:subject/>
  <dc:title>No Slide Title</dc:title>
</cp:coreProperties>
</file>