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3ECC-2622-4AA5-BCFA-2CAA52B5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D575-3AF1-4246-922F-4F44CE75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CABC-CA29-46D1-A811-3A66440C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7D10-61DA-4B95-9A7E-E2FD72C6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3511-746A-47DD-A9E9-BDD8FE5B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7184-7CD2-41A5-95AF-75FBDBEF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4364-91E5-452B-B092-8CA6FF03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5B89-9287-4395-B967-3137DE53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7B29-0010-496E-A9D4-E382045E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72AA-AFF2-424F-BC33-33CACE28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95B-7461-4EE0-B093-B6725494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B7E6-8AB4-4B34-A8D1-D06AEDB1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507C-C9B6-4CE2-AF87-BA1F34140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7T04:18:26Z</dcterms:created>
  <dc:creator>Gary Wintergerst</dc:creator>
  <dc:description/>
  <dc:language>en-US</dc:language>
  <cp:lastModifiedBy>Gary Wintergerst</cp:lastModifiedBy>
  <dcterms:modified xsi:type="dcterms:W3CDTF">1999-11-25T22:13:35Z</dcterms:modified>
  <cp:revision>6</cp:revision>
  <dc:subject/>
  <dc:title>No Slide Title</dc:title>
</cp:coreProperties>
</file>