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ith All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ints In Glo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0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ith all the saints in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the resurrection so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 and sorrow, earth's dark s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former days bel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round the clouds are brea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the storms of time shall cea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od's likeness we, awa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 the everlasting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hat glory, far exceed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eye has yet perceive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iest hearts, for ages plea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that full joy conceiv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as promised, Christ prepares 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on high our welcome wait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umble spirit shares i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passed th'eternal gat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eternal! heaven rejoic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ives, who once was de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we now the deathless voic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of God, lift up your hea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triarchs from the distant ag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ints all longing for their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phets, psalmists, seers, and sag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wait the glory gi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eternal! O what wonde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d on faith; what joy un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, amidst earth's closing thund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ints shall stand before the thro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o enter that bright port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at glowing firmamen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, with thee, O God Immort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Jesus Christ whom thou has sent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8:38Z</dcterms:created>
  <dc:creator>Gary Wintergerst</dc:creator>
  <dc:description/>
  <dc:language>en-US</dc:language>
  <cp:lastModifiedBy>Gary Wintergerst</cp:lastModifiedBy>
  <cp:lastPrinted>1996-01-02T13:58:50Z</cp:lastPrinted>
  <dcterms:modified xsi:type="dcterms:W3CDTF">1999-11-25T22:12:57Z</dcterms:modified>
  <cp:revision>4</cp:revision>
  <dc:subject/>
  <dc:title>No Slide Title</dc:title>
</cp:coreProperties>
</file>