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d Me, L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73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d me,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d me in thy righteousnes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ke thy way plain before my fac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it is thou, Lord, thou, Lor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ly, that makest me dwell in safet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2T16:10:06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25T22:06:14Z</dcterms:modified>
  <cp:revision>2</cp:revision>
  <dc:subject/>
  <dc:title>No Slide Title</dc:title>
</cp:coreProperties>
</file>