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9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 of Christ I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ering o'er the wrecks of ti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light of sacre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s round its head subl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woes of life o'ertak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s deceive, and fears ann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shall the cross forsake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it glows with peace and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un of bliss is bea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ove upon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ross the radi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a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ds more luster to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e and blessing, pain and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cross are sanctif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there that knows no m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s that through all time ab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 of Christ I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ering o'er the wrecks of ti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light of sacre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s round its head subl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45:42Z</dcterms:created>
  <dc:creator>Gary Wintergerst</dc:creator>
  <dc:description/>
  <dc:language>en-US</dc:language>
  <cp:lastModifiedBy>Gary Wintergerst</cp:lastModifiedBy>
  <cp:lastPrinted>1995-07-27T21:44:10Z</cp:lastPrinted>
  <dcterms:modified xsi:type="dcterms:W3CDTF">1999-11-25T22:05:07Z</dcterms:modified>
  <cp:revision>3</cp:revision>
  <dc:subject/>
  <dc:title>No Slide Title</dc:title>
</cp:coreProperties>
</file>