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V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Christ Is Rise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Sp: 2; Eng: 9; Sp/Eng: 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2 Metho Press,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4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look among the dead f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ho lives forever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 world that Christ is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it known he goes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e Lord had never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d have nothing to belie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is promise can be trust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You will live, because I liv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share the death of Ad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n Christ we live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has lost its sting and terr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has come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has lost its old domin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orld rejoice and shou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firstborn of the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s us life and leads us ou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ank our God, who cau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to spring up from the gr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 Christ is g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eternal, life pro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risto vive, fuera el ll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lamentos y el pes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 Christ is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y your tears, be unafrai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 la muerte ni el sepulcr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 han podido sujet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and darkness could not hold hi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e tomb in which he 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busquéls entre los muert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que siempre ha de vivi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look among the dead f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ho lives forevermo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risto vive! estas nuev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doquier dejad o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 world that Christ is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it known he goes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risto vive, fuera el ll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lamentos y el pes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 la muerte ni el sepulcr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 han podido sujet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busquéls entre los muert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si Cristo no vivie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na fuera nuestra 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e Lord had never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d have nothing to belie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 se cumple su promesa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Porque vivo, viviréi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is promise can be trust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You will live, because I liv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Si en Adán entro la mue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Jesús la vida entró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share the death of Ad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n Christ we live ag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máis, el triunfo es vuestro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El Señor resucitó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has lost its sting and terr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has come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 es verdad que de la muer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ecado es aguij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has lost its old domin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orld rejoice and shou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040" y="342900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máis pues Jesucris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da vida y salv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firstborn of the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s us life and leads us ou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demos al Dios Pad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nos da seguri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ank our God, who cau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to spring up from the g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quien cree en Jesucris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por la eter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 Christ is g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eternal, life pro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que siempre ha de viv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risto vive! estas nuev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doquier dejad o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si Cristo no vivie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na fuera nuestra 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 se cumple su promesa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Porque vivo, viviréi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Si en Adán entro la mue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Jesús la vida entró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máis, el triunfo es vuestro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El Señor resucitó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 es verdad que de la muer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ecado es aguij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máis pues Jesucris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da vida y salv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demos al Dios Pad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nos da seguri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quien cree en Jesucris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por la eter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 Christ is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y your tears, be unafrai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and darkness could not hol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e tomb in which he 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7:57:06Z</dcterms:created>
  <dc:creator>Gary Wintergerst</dc:creator>
  <dc:description/>
  <dc:language>en-US</dc:language>
  <cp:lastModifiedBy>Gary Wintergerst</cp:lastModifiedBy>
  <cp:lastPrinted>1995-09-23T08:11:46Z</cp:lastPrinted>
  <dcterms:modified xsi:type="dcterms:W3CDTF">1999-11-25T22:05:15Z</dcterms:modified>
  <cp:revision>11</cp:revision>
  <dc:subject/>
  <dc:title>No Slide Title</dc:title>
</cp:coreProperties>
</file>