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e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Isra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0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3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e the God of Israel, who comes to set us f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visits and redeems us, and grants us libert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rophets spoke of mercy, of freedom and relea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shall fulfill the promise to bring our people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from the house of David a child of grace is giv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Savior comes among us to raise us up to heave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fore him goes the herald, forerunner in the 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rophet of salvation, the harbinger of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prisoners of darkness the sun begins to r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awning of forgiveness upon the sinner's ey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uide the feet of pilgrims along the paths of pe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less our God and Savior with songs that never ceas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8T08:35:04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34Z</dcterms:modified>
  <cp:revision>3</cp:revision>
  <dc:subject/>
  <dc:title>No Slide Title</dc:title>
</cp:coreProperties>
</file>