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e Wi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e winds thy f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be undismay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ears thy sighs and counts thy t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lift up thy h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waves and clouds and stor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ently clears thy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 thou God's time; so shall this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end in joyou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o God's sovereign s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oose and to comm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t thou, wondering, own that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ise, how strong this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in life,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teadfast truth decl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blish with our latest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 and guardian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45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4Z</dcterms:modified>
  <cp:revision>3</cp:revision>
  <dc:subject/>
  <dc:title>No Slide Title</dc:title>
</cp:coreProperties>
</file>