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64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36440" rIns="136440" tIns="457200" bIns="457200" anchor="t">
            <a:normAutofit fontScale="95000"/>
          </a:bodyPr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 Almight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ly in the morn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ongs shall rise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rciful and might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n three perso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Trinit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saints adore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sting down their golden crow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ound the glassy sea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erubim and seraph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lling down befor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wert and art, 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more shalt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the darkness hide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the eye of sinful ma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glory may not s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00640" y="65311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hou art hol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none beside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fect in power, 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and pur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00640" y="65311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 Almight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y works shall praise thy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arth and sky and se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900640" y="65311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rciful and migh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n three perso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Trin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00640" y="65311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0T17:56:42Z</dcterms:created>
  <dc:creator>Gary Wintergerst</dc:creator>
  <dc:description/>
  <dc:language>en-US</dc:language>
  <cp:lastModifiedBy>Gary Wintergerst</cp:lastModifiedBy>
  <dcterms:modified xsi:type="dcterms:W3CDTF">1999-11-25T22:02:46Z</dcterms:modified>
  <cp:revision>6</cp:revision>
  <dc:subject/>
  <dc:title>No Slide Title</dc:title>
</cp:coreProperties>
</file>