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the gospel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soul be Jesus' gu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need not one be left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th bid all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gin to make excu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! do not you his grace refu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ldly cares and pleasures le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what Jesus hat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partake the gospel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 from sin, in Jesu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the goodness of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t his flesh and drink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set forth before your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the bleeding sacrif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ffered love make haste to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eely now be saved b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believe his record tr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sup with him and he with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feast, be saved from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waits to take you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57:28Z</dcterms:created>
  <dc:creator>Gary Wintergerst</dc:creator>
  <dc:description/>
  <dc:language>en-US</dc:language>
  <cp:lastModifiedBy>Gary Wintergerst</cp:lastModifiedBy>
  <cp:lastPrinted>1995-12-25T20:22:40Z</cp:lastPrinted>
  <dcterms:modified xsi:type="dcterms:W3CDTF">1999-11-25T22:12:24Z</dcterms:modified>
  <cp:revision>4</cp:revision>
  <dc:subject/>
  <dc:title>No Slide Title</dc:title>
</cp:coreProperties>
</file>