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True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one tru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-present help i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d by all th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mighty power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made and wrought and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 and Mary'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escended from hi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us salvation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cross and death are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d from sin's mis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nfess the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both fore'er procee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upholds and comfort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trials, fears, and nee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nd Holy Tri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ever b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01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47Z</dcterms:modified>
  <cp:revision>2</cp:revision>
  <dc:subject/>
  <dc:title>No Slide Title</dc:title>
</cp:coreProperties>
</file>