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ghty Fort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ghty fortress is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ulwark never fai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lper he amid the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ortal ills prevai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ill our ancient f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th seek to work us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raft and power are gr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med with cruel h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is not his equ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we in our own strength conf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iving would be l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not the right man on 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n of God's own choo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st ask who that may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, it i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Sabaoth, hi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must win the batt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gh this world, with devils 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threaten to undo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not fear, for God hath wi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to triumph through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ince of Darkness g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remble not for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age we can end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, his doom is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ittle word shall fell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ord above all earthly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hanks to them, abid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and the gifts are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him who with us side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ods and kindred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ortal life als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they may k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truth abideth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is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5:51:12Z</dcterms:created>
  <dc:creator>Gary Wintergerst</dc:creator>
  <dc:description/>
  <dc:language>en-US</dc:language>
  <cp:lastModifiedBy>Gary Wintergerst</cp:lastModifiedBy>
  <cp:lastPrinted>1995-07-01T15:49:38Z</cp:lastPrinted>
  <dcterms:modified xsi:type="dcterms:W3CDTF">1999-11-25T22:03:57Z</dcterms:modified>
  <cp:revision>4</cp:revision>
  <dc:subject/>
  <dc:title>No Slide Title</dc:title>
</cp:coreProperties>
</file>