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Fai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Dow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3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faith, come d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veal the things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ke to us the Godhead kn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itness with the bl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ine the blood to app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ive us eyes to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did for every sinner di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th surely died fo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one can truly s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Jesus is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less thou take the veil a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reathe the living W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, only then, we fee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interest in his bl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y with joy unspeaka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Thou art my Lord, my God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at the world might k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ll-atoning Lamb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faith, descend and sh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irtue of his na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race which all may f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aving power, imp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estify to humank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peak in ever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spire the living fai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which whosoe'er recei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itness in themselves they ha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onsciously believe)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aith that conquers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oth the mountain m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aves whoe'er on Jesus c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erfects them in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8T16:23:3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5:22Z</dcterms:modified>
  <cp:revision>3</cp:revision>
  <dc:subject/>
  <dc:title>No Slide Title</dc:title>
</cp:coreProperties>
</file>