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eau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9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church, that everm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eth holy hand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ing up on every sh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pure sacrifice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hymn of grateful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self, best Gift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world so freely 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at great, great love of t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on earth, and joy in heave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hymn of grateful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[Replacement Refrain For Holy Communion]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our God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sacrifice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eauty of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glory of the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ve which from our bi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and around us li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hymn of grateful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eauty of each h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day and of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ll and vale, and tree and fl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 and moon, and stars of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hymn of grateful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joy of ear and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heart and mind's de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mystic harmon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nking sense to sound and s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hymn of grateful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joy of human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sister, parent,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iends on earth and friend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gentle thoughts and mi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hymn of grateful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30T21:41:32Z</dcterms:created>
  <dc:creator>Gary Wintergerst</dc:creator>
  <dc:description/>
  <dc:language>en-US</dc:language>
  <cp:lastModifiedBy>Gary Wintergerst</cp:lastModifiedBy>
  <dcterms:modified xsi:type="dcterms:W3CDTF">1999-11-25T22:03:50Z</dcterms:modified>
  <cp:revision>4</cp:revision>
  <dc:subject/>
  <dc:title>No Slide Title</dc:title>
</cp:coreProperties>
</file>