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, Holy Jesus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8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, holy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ast thou offe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to judge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in hate pretend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foes deri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ne own rejec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ost afflict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as the guilt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rought this upon th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s, my trea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hath undone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I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it was deni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rucified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the Good Shephe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sheep is offe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lave hath sin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Son hath suffe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atone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nothing hee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terced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e, kin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thy incar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mortal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y life's obl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death of angu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y bitter 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salv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, kin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I cannot pay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ll ever pray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on thy p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y love unswer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my deserv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18:2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5Z</dcterms:modified>
  <cp:revision>2</cp:revision>
  <dc:subject/>
  <dc:title>No Slide Title</dc:title>
</cp:coreProperties>
</file>