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7080" y="4876920"/>
            <a:ext cx="7506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d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raham Pra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1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d of Abraham praise, who reigns enthroned ab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cient of Everlasting Days, and God of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hovah, great I AM! by earth and heaven confess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bow and bless the sacred name forever bl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eat I AM has sworn; I on this oath dep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, on eagle wings up-borne, to heaven asc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behold God's face; I shall God's power ad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g the wonders of God's grace for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eavenly land I see, with peace and plenty bl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and of sacred liberty, and endless r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ilk and honey flow, and oil and wine ab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rees of life forever grow with mercy crown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d who reigns on high the great archangel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"Holy, holy, holy!" cry, "Almighty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as, and is, the same, and evermore shall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hovah, Lord, the great I AM, we worship thee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5:51:5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59Z</dcterms:modified>
  <cp:revision>3</cp:revision>
  <dc:subject/>
  <dc:title>No Slide Title</dc:title>
</cp:coreProperties>
</file>