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Th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veler Unknow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thou Traveler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till I hold, but cannot s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ompany before is g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am left alone with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 all night I mean to st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restle till the break of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 all night I mean to st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restle till the break of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not tell thee who I 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isery and sin decl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self hast called me by m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n thy hands and read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o, I ask thee, who art thou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thy name, and tell me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o, I ask thee, who art thou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thy name, and tell me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ield to me now, for I am w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onfident in self-despai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o my heart, in blessing sp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conquered by my instant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, or thou never hence shalt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ll me if thy name i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, or thou never hence shalt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ll me if thy name i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Love! 'tis Love! Thou diedst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 thy whisper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rning breaks, the shadows f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, Universal Love thou 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, to all, thy mercies 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nature and thy name i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, to all, thy mercies 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nature and thy name 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4:07:1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43Z</dcterms:modified>
  <cp:revision>3</cp:revision>
  <dc:subject/>
  <dc:title>No Slide Title</dc:title>
</cp:coreProperties>
</file>