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May S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5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eyes, that I may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impses of truth thou hast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ce in my hands the wonderful ke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hall unclasp and set me f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ly now I wait for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dy, my God, thy will t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eyes, illumin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div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ears, that I may h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oices of truth thou sendest cl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the wavenotes fall on my 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thing false will disapp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ly now I wait for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dy, my God, thy will t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ears, illumin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div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mouth, and let me b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the warm truth everyw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heart and let me prep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with thy children thus to sh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ly now I wait for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dy, my God, thy will t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heart, illumin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div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24:0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09Z</dcterms:modified>
  <cp:revision>3</cp:revision>
  <dc:subject/>
  <dc:title>No Slide Title</dc:title>
</cp:coreProperties>
</file>