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With J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with joy to meet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n, loved and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we and wonder to rec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fe laid down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fe laid down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with Christians far and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nd, as all are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 community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's communion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's communion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hrist breaks bread and bids us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proud division 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that made us that makes us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angers now are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angers now are fri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with joy we meet our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presence, always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n such friendship better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and praise him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and praise him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met, together 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go our different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his people in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live and speak his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live and speak his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54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4Z</dcterms:modified>
  <cp:revision>4</cp:revision>
  <dc:subject/>
  <dc:title>No Slide Title</dc:title>
</cp:coreProperties>
</file>