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5627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at a Friend W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ave In Jesus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526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at a friend we have in Jesu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our sins and griefs to bear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at a privilege to carry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verything to God in  prayer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what peace we often forfei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what needless pain we bea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because we do not carry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verything to God in  prayer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ave we trials and temptations?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s there trouble anywhere?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should never be discouraged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ake it to the Lord in   prayer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9000"/>
          </a:bodyPr>
          <a:p>
            <a:pPr marL="90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an we find a friend so faithful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0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o will all our sorrows share?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0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esus knows our every weakness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0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ake it to the Lord in   prayer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9000"/>
          </a:bodyPr>
          <a:p>
            <a:pPr marL="90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re we weak and heavy lade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0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umbered with a load of care?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0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ecious Savior, still our refug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0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ake it to the Lord in   prayer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o thy friends despise, forsake thee?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ake it to the Lord in prayer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his arms he'll take and shield the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ou wilt find a solace  ther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8-14T13:41:24Z</dcterms:created>
  <dc:creator>Gary Wintergerst</dc:creator>
  <dc:description/>
  <dc:language>en-US</dc:language>
  <cp:lastModifiedBy>Gary Wintergerst</cp:lastModifiedBy>
  <cp:lastPrinted>1995-08-11T16:01:02Z</cp:lastPrinted>
  <dcterms:modified xsi:type="dcterms:W3CDTF">1999-11-25T22:07:02Z</dcterms:modified>
  <cp:revision>3</cp:revision>
  <dc:subject/>
  <dc:title>No Slide Title</dc:title>
</cp:coreProperties>
</file>