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Day,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ed My Ch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rest, my long-divided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ed on this blissful center,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have I found a nobler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heavenly pleasures fill my bre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heaven, that heard the solemn v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vow renewed shall daily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life's latest hour I 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 in death a bond so d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day, that fixed my ch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e, my Savior and my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ay this glowing heart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its raptures all abro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bond, that seals my v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who merits all my lo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eerful anthems fill his ho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sacred shrine I m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done: the great transaction's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's and he is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rew me and I followed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rmed to confess the voice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57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5Z</dcterms:modified>
  <cp:revision>2</cp:revision>
  <dc:subject/>
  <dc:title>No Slide Title</dc:title>
</cp:coreProperties>
</file>