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e Heal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e healer, we hav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y for health, to plead for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fail to be resto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eached by love that never end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ailment flesh endu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dies clamor to be fr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our hearts we would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oleness is our deepest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trong, O Lord, are our des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eak our knowledge of ourselv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lease in us those healing trut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onscious pride resists or sh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nflicts that destroy our heal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cognize the world's dis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 declares our i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no cure, O Christ, for thes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e all, made one in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ommunity may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ness that, enrichi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reach the whole of humank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1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6Z</dcterms:modified>
  <cp:revision>3</cp:revision>
  <dc:subject/>
  <dc:title>No Slide Title</dc:title>
</cp:coreProperties>
</file>