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ly C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n of Joh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ready in the mind of God that city riseth fai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ow its splendor challenges the souls that greatly d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a, bids us seize the whole of life and build its glory t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ly city, seen of John, where Christ, the Lamb, doth reig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whose four-square walls shall come no night, nor need, nor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re the tears are wiped from eyes that shall not weep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, how from men whose lives are held more cheap than merchand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women struggling sore for bread, from little children's cr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swells the sobbing human plaint that bids thy walls ar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hame to us who rest content while lust and greed for g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treet and shop and tenement wring gold from human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itter lips in blind despair cry, "Christ hath died in vain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, O God, the strength to build the city that hath st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o long a dream, whose laws are love, whose crown is servanth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re the sun that shineth is God's grace for human g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3:24:16Z</dcterms:created>
  <dc:creator>Gary Wintergerst</dc:creator>
  <dc:description/>
  <dc:language>en-US</dc:language>
  <cp:lastModifiedBy>Gary Wintergerst</cp:lastModifiedBy>
  <cp:lastPrinted>1996-01-02T15:11:02Z</cp:lastPrinted>
  <dcterms:modified xsi:type="dcterms:W3CDTF">1999-11-25T22:13:07Z</dcterms:modified>
  <cp:revision>4</cp:revision>
  <dc:subject/>
  <dc:title>No Slide Title</dc:title>
</cp:coreProperties>
</file>