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t Forth b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Bles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6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4 World Library Publ.,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t forth by God's ble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true faith confe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eople of God from this dwelling take lea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ervice is e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now be extend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ruits of our worship in all who belie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eed of the teach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eptive souls reach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blossom in action for God and for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grace did invit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ove shall unite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ork for God's kingdom and answer the c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praise and thanksgiv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ever l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asks of our everyday life we will f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faith ever sha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love ever ca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mbracing God's children of each tribe and r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your grace you feed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your light now lead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ite us as one in this life that we sha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may all the liv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praise and thanksgiv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honor to Christ and that name which we b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8:53:52Z</dcterms:created>
  <dc:creator>Gary Wintergerst</dc:creator>
  <dc:description/>
  <dc:language>en-US</dc:language>
  <cp:lastModifiedBy>Gary Wintergerst</cp:lastModifiedBy>
  <cp:lastPrinted>1995-12-28T04:15:42Z</cp:lastPrinted>
  <dcterms:modified xsi:type="dcterms:W3CDTF">1999-11-25T22:12:43Z</dcterms:modified>
  <cp:revision>5</cp:revision>
  <dc:subject/>
  <dc:title>No Slide Title</dc:title>
</cp:coreProperties>
</file>