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Semill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You Are the Seed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Sp:2; Eng:12; Sp/Eng:2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Ediciones Paulin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eed that will grow a new spr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a star that will shine in the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yeast and a small grain of sal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low in the dark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dawn that will bring a new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the wheat that will bear golden gr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a sting and a soft, gentle tou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witnesses where'er you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flame that will lighten the dar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ing sparkles of hope, faith, and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hepherds to lead the whol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valleys and pastures of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friends that I chose for mysel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d that I want to procla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new kingdom built on a roc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ustice and truth always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semilla que ha de crec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estrella que ha de brill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evadura, sois grano de s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orcha que debe alumbr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life that will nurture the pla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the waves in a turbulent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terday's yeast is beginning to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oaf of bread it will yie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 place for a city to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a mountain can cover its m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good deeds show a world in despai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th that will lead all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semilla que ha de crec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estrella que ha de brill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eed that will grow a new spr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a star that will shine in the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evadura, sois grano de s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orcha que debe alumbr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yeast and a small grain of sal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low in the dar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mañana que vuelve a nac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espiga que empieza a gran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dawn that will bring a new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the wheat that will bear golden gr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aguijon y caricia a la ve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stigos que voy a envi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a sting and a soft, gentle tou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witnesses where'er you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mañana que vuelve a nac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espiga que empieza a gran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aguijon y caricia a la ve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stigos que voy a envi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5080" y="25146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una llama que ha de ence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plandores de fe y carid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flame that will lighten the dar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ing sparkles of hope, faith, and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os pastores que han de llev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undo por sendas de paz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hepherds to lead the whol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valleys and pastures of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os amigos que quise esco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palabra que intento esparc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friends that I chose for mysel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d that I want to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reino nuevo que empieza a engend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a, amor y ver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new kingdom built on a roc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ustice and truth always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5080" y="25146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fuego y sabia que vine a tra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ola que agita la m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life that will nurture the pla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the waves in a turbulent sea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levadura pequeña de 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rmenta la masa del p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terday's yeast is beginning to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oaf of bread it will yie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ciudad no se puede esco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 los montes se han de ocul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 place for a city to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a mountain can cover its m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vuestras obras que buscan el bi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mundo al Padre verá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good deeds show a world in despai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th that will lead all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25146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una llama que ha de ence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plandores de fe y carid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os pastores que han de llev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undo por sendas de paz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os amigos que quise esco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palabra que intento esparc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reino nuevo que empieza a engend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a, amor y ver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fuego y sabia que vine a tra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ola que agita la m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levadura pequeña de 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rmenta la masa del pa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ciudad no se puede esco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 los montes se han de ocul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vuestras obras que buscan el bi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mundo al Padre verá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6:12:48Z</dcterms:created>
  <dc:creator>Gary Wintergerst</dc:creator>
  <dc:description/>
  <dc:language>en-US</dc:language>
  <cp:lastModifiedBy>Gary Wintergerst</cp:lastModifiedBy>
  <cp:lastPrinted>1995-12-16T17:56:30Z</cp:lastPrinted>
  <dcterms:modified xsi:type="dcterms:W3CDTF">1999-11-25T22:07:25Z</dcterms:modified>
  <cp:revision>13</cp:revision>
  <dc:subject/>
  <dc:title>No Slide Title</dc:title>
</cp:coreProperties>
</file>