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Christ,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t your armor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in the strength which God supp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his eternal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in the Lord of Hos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mighty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the strength of Jesus trus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ore than conquer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then in his great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his strength endu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ake to arm you for the f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noply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ving all thing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your conflicts pa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ay o'ercome thru Christ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 entire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without ceasing,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your Captain gives the word)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ummons cheerfully ob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upon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your every w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nstant prayer dis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always, pray and never fai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, without ceasing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trength to strength go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estle and fight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 all the powers of darkness d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 the well-fought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the Spirit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his soldiers, "Com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the Lord descends from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s the conquerors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32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32Z</dcterms:modified>
  <cp:revision>3</cp:revision>
  <dc:subject/>
  <dc:title>No Slide Title</dc:title>
</cp:coreProperties>
</file>