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renit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9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abbath rest of Galile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alm of hills ab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Jesus knel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hare with th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ilence of eternit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terpreted by l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op thy still dews of quietn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all our strivings cea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from our soul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train and str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et our ordered lives conf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eauty of thy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3T20:56:22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6:24Z</dcterms:modified>
  <cp:revision>3</cp:revision>
  <dc:subject/>
  <dc:title>No Slide Title</dc:title>
</cp:coreProperties>
</file>