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our redeem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joins us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s us, each to each resto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seek his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ids us build each other up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gathered into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high calling's glorious hop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nd in hand go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which he on one best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delight to pr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through every vessel fl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urest streams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now we think and speak the s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rdially ag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centered all, through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rfect harmo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partake the joy of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mmon peace we fe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eace to sensual minds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joy unspeakab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our fellowship be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Jesus be so sw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eight of rapture shall we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round his throne we mee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3T21:44:1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3Z</dcterms:modified>
  <cp:revision>3</cp:revision>
  <dc:subject/>
  <dc:title>No Slide Title</dc:title>
</cp:coreProperties>
</file>