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Gift Can We Br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gift can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present, what toke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rds can convey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 of this d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rateful we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, rejoi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song can we offer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 and prais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for th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who had vi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planted and wat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dreams could come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for the 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udy, for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ission that bid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prayer into 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for tom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surpr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knowing what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morrow may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is our prom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, for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st in God's keep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in God'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274680" bIns="27468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gift we now bring, this present, this t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words can convey it, the joy of this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rateful we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, rejoi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ong we now offer in honor and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6T14:24:04Z</dcterms:created>
  <dc:creator>Gary Wintergerst</dc:creator>
  <dc:description/>
  <dc:language>en-US</dc:language>
  <cp:lastModifiedBy>Gary Wintergerst</cp:lastModifiedBy>
  <dcterms:modified xsi:type="dcterms:W3CDTF">1999-11-25T22:03:48Z</dcterms:modified>
  <cp:revision>9</cp:revision>
  <dc:subject/>
  <dc:title>No Slide Title</dc:title>
</cp:coreProperties>
</file>