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My Tong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ious Batt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God be praise and glor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ather and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'eternal Spirit hon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more be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glory in the high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unending ages ru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my tongue, the glorious batt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ending of the f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bove the cross, the troph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nd the loud triumphant l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 Christ, the world's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victim won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, when at length the full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'appointed time was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Word, was born of wom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ft for us his heavenly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ed us human life made perfec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as light amid the glo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, with thirty years accompli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nt he forth from Nazar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tined, dedicated, wi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rought his work, and met his d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lamb he humbly yiel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cross his dying br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cross, thou sign of triump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or us the noblest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in foliage, none in bloss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in fruit thy peer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ymbol of the world's redemp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eight that hung on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35:3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7Z</dcterms:modified>
  <cp:revision>2</cp:revision>
  <dc:subject/>
  <dc:title>No Slide Title</dc:title>
</cp:coreProperties>
</file>