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15640" y="506124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5820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652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71776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1564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46652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71776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5820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15640" y="506124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5820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652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776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1564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46652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71776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5820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15640" y="506124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5820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6652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71776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21564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46652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71776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5820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15640" y="506124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65820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46652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717760" y="15228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21564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46652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717760" y="5061240"/>
            <a:ext cx="40482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58200" y="506124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564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58200" y="152280"/>
            <a:ext cx="613548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5640" y="5061240"/>
            <a:ext cx="12573000" cy="448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2" algn="ctr"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3" algn="ctr"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4" algn="ctr"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5" algn="ctr"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6" algn="ctr"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1" marL="483840" indent="-48384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2" marL="944640" indent="-94464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3" marL="1416960" indent="-141696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4" marL="1889280" indent="-188928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5" marL="1889280" indent="-188928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6" marL="1889280" indent="-188928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1" marL="483840" indent="-48384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2" marL="944640" indent="-94464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3" marL="1416960" indent="-141696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4" marL="1889280" indent="-188928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5" marL="1889280" indent="-188928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6" marL="1889280" indent="-188928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2730600"/>
            <a:ext cx="10464840" cy="427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The First Nowell</a:t>
            </a:r>
            <a:br>
              <a:rPr sz="6800"/>
            </a:br>
            <a:br>
              <a:rPr sz="6800"/>
            </a:b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from “Carols for Choirs” (Oxford)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800" spc="-1" strike="noStrike">
                <a:solidFill>
                  <a:srgbClr val="ffffff"/>
                </a:solidFill>
                <a:latin typeface="Arial"/>
              </a:rPr>
              <a:t>(choir sings verse 5)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Nowell, Nowell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Nowell, Nowell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Born is the king of Isra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Then let us all with one accord Sing praises to our heav’n-ly Lord,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That hath made heav’n and earth of naught, And with his blood mankind hath bought: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Nowell, Nowell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Nowell, Nowell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Born is the king of Isra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The first Nowell the angel did say Was to certain poor shepherds in fields as they lay;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In fields where they lay, keeping their sheep, On a cold winter’s night that was so deep: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Nowell, Nowell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Nowell, Nowell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Born is the king of Isra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They look-ed up and saw a star, Shining in the east, beyond them far;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And to the earth it gave great light, And so it continued both day and night: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Nowell, Nowell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Nowell, Nowell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Born is the king of Isra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800" spc="-1" strike="noStrike">
                <a:solidFill>
                  <a:srgbClr val="ffffff"/>
                </a:solidFill>
                <a:latin typeface="Arial"/>
              </a:rPr>
              <a:t>(choir sings verse 3)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Nowell, Nowell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Nowell, Nowell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Born is the king of Isra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This star drew night to the northwest; O’er Bethlehem it took its rest,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And there it did both stop and stay Right over the place where Jesus lay: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Nowell, Nowell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Nowell, Nowell, 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Born is the king of Isra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