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ttle T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ttle town of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till we see thee l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y deep and dreamless sl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t stars go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thy dark streets shin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verlasting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s and fears of all the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met in thee to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bor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athered all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ortals sleep, the angels k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atch of wondering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s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he holy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s sing to God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all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ilently, how silent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rous gift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imparts to human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ings of his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ear may hear his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this world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eek souls will receive him, st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r Christ enters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hild of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end to us, we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 out our sin, and enter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orn in us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the Christmas ang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glad tidings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us, abide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Emmanu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4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2Z</dcterms:modified>
  <cp:revision>3</cp:revision>
  <dc:subject/>
  <dc:title>No Slide Title</dc:title>
</cp:coreProperties>
</file>