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, for you plan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name with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ledge and faith and life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Son to us imp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made all for your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food for all our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in Christ the bread etern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power, be yours th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o'er your church, O Lord, in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t from evil, guard it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t in your love, unite it, clean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ormed unto your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rain, once scattered on the hillsid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n the broken bread mad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all lands your church be gath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kingdom by your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1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7Z</dcterms:modified>
  <cp:revision>4</cp:revision>
  <dc:subject/>
  <dc:title>No Slide Title</dc:title>
</cp:coreProperties>
</file>