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nd Great,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Are Thy Th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nd great, O God, are thy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 of earth and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ands have set the heavens with st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ingers spread the mountains and pl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at thy word the waters were form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seas obey thy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nto us communion with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tar abiding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unto us and dwell with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re found the gifts of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us with life that has no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ife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06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1Z</dcterms:modified>
  <cp:revision>3</cp:revision>
  <dc:subject/>
  <dc:title>No Slide Title</dc:title>
</cp:coreProperties>
</file>