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Someth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ut That Name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1</a:t>
            </a:r>
            <a:endParaRPr b="1" lang="en-US" sz="4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80520" y="472392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0 William J. Ga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just something about that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Savior,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fragrance after the r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heaven and earth proclaim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s and kingdoms will all pas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re's something about that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26:10Z</dcterms:created>
  <dc:creator>Gary Wintergerst</dc:creator>
  <dc:description/>
  <dc:language>en-US</dc:language>
  <cp:lastModifiedBy>Gary Wintergerst</cp:lastModifiedBy>
  <cp:lastPrinted>1995-07-13T20:23:12Z</cp:lastPrinted>
  <dcterms:modified xsi:type="dcterms:W3CDTF">1999-11-25T22:04:20Z</dcterms:modified>
  <cp:revision>3</cp:revision>
  <dc:subject/>
  <dc:title>  There's Something  About That Name    UMH 171</dc:title>
</cp:coreProperties>
</file>