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are the Eagl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s Her You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1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are the eagle gives her you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fe in her lofty n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like the tender love of Go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us made manife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when the time to venture com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stirs them out to f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we are pressed to boldly t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trive for daring he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f we flutter helpless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fledgling eagles f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neath us lift God's mighty wing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ear us, one and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9T15:56:1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4:00Z</dcterms:modified>
  <cp:revision>3</cp:revision>
  <dc:subject/>
  <dc:title>No Slide Title</dc:title>
</cp:coreProperties>
</file>