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Corner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9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world in every corner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and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vens are not too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raise may thither fl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arth is not too 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raises there may gr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world in every corner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and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with psalms must s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door can keep them 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, more than all, the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bear the longest p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world in every corner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and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30T21:57:22Z</dcterms:created>
  <dc:creator>Gary Wintergerst</dc:creator>
  <dc:description/>
  <dc:language>en-US</dc:language>
  <cp:lastModifiedBy>Gary Wintergerst</cp:lastModifiedBy>
  <dcterms:modified xsi:type="dcterms:W3CDTF">1999-11-25T22:03:50Z</dcterms:modified>
  <cp:revision>3</cp:revision>
  <dc:subject/>
  <dc:title>No Slide Title</dc:title>
</cp:coreProperties>
</file>