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Murm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Dove's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murmur of the dove's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challenge of her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vigor of the wind's ru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new flame's eager m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members of Christ's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branches of the 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hurch in faith assem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r midst as gift and sig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ealing of di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easeless voice of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power to love and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peace beyond compa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56:2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9Z</dcterms:modified>
  <cp:revision>4</cp:revision>
  <dc:subject/>
  <dc:title>No Slide Title</dc:title>
</cp:coreProperties>
</file>