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Back Quick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4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back quickly to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come back to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how grave your sins may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how burdensome they se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no sin he cannot b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sinner not accep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bosom of our loving L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much greater than all the ski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back quickly to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come back to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Lord waits every 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is doors kept open wid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anxiously waiting for y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day and every n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is waiting through the n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 child who has gone ast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back quickly to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come back to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you think that you have sinn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ren't fit to be his ch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celebrate with a big fe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repentance brings you h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, come back to his open arm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back quickly unto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9T21:07:2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5:26Z</dcterms:modified>
  <cp:revision>4</cp:revision>
  <dc:subject/>
  <dc:title>No Slide Title</dc:title>
</cp:coreProperties>
</file>