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Thou Ga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s End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thou gavest, Lord, is en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rkness falls at thy beh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 our morning hymns ascen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raise shall hallow now our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ank thee that thy church, unsl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earth rolls onward into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world her watch is k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sts not now by day or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'er each continent and isl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wn leads on another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oice of prayer is never sil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die the strains of prais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be it, Lord; thy throne shall n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earth's proud empires, pass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gdom stands, and grows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y creatures own thy s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3:36Z</dcterms:created>
  <dc:creator>Gary Wintergerst</dc:creator>
  <dc:description/>
  <dc:language>en-US</dc:language>
  <cp:lastModifiedBy>Gary Wintergerst</cp:lastModifiedBy>
  <cp:lastPrinted>1995-12-28T04:42:54Z</cp:lastPrinted>
  <dcterms:modified xsi:type="dcterms:W3CDTF">1999-11-25T22:12:53Z</dcterms:modified>
  <cp:revision>4</cp:revision>
  <dc:subject/>
  <dc:title>No Slide Title</dc:title>
</cp:coreProperties>
</file>