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's Me, It's Me, O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5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's me (it's me), it's m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in the need of pray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's me (it's me), it's m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in the need of pray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my brother, not my sister, but it's m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in the need of pray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my brother, not my sister, but it's m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in the need of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the preacher, not the deacon, but it's m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in the need of pray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the preacher, not the deacon, but it's m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in the need of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's me (it's me), it's m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in the need of pray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's me (it's me), it's m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in the need of pray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my father, not my mother, but it's m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in the need of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my father, not my mother, but it's m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in the need of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's me (it's me), it's m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in the need of pray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's me (it's me), it's m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in the need of pray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9T21:46:2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29Z</dcterms:modified>
  <cp:revision>4</cp:revision>
  <dc:subject/>
  <dc:title>No Slide Title</dc:title>
</cp:coreProperties>
</file>