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the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numbered blessings give my spirit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 to me the promise of God's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 my Savior shall my heart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God's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known God's might, who wondrous deeds ha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mercy sure, from age to age the s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holy name, the Lord, the might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God's m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s and dominions lay their glory b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ud hearts and stubborn wills are put to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ngry fed, the humble lifted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lories of God's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 is the promise and God's mercy su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ildren's children and forever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20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2Z</dcterms:modified>
  <cp:revision>3</cp:revision>
  <dc:subject/>
  <dc:title>No Slide Title</dc:title>
</cp:coreProperties>
</file>