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attle Hymn Of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epublic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1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, glory,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, glory,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, glory,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truth is marching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beauty of the lili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was born across the se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a glory in his boso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transfigures you and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he died to make men ho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die to make men f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God is marching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, glory,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, glory,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, glory,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truth is marching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coming like the gl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morning on the wa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wisdom to the migh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honor to the bra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the world shall be his footstoo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soul of wrong his sla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God is marching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, glory,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, glory,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, glory,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truth is marching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ne eyes have seen the gl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coming of the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trampling out the vintag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the grapes of wrath are stor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hath loosed the fateful lightn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his terrible swift sw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truth is marching 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, glory,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, glory,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, glory,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truth is marching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ave seen him in the watchfir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a hundred circling camp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have builded him an alt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evening dews and damp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can read his righteous senten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e dim and flaring lamp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day is marching 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, glory,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, glory,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, glory,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truth is marching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has sounded forth the trumpe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shall never call retrea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sifting out the hearts of m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fore his judgment sea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be swift, my soul, to answer hi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jubilant, my fee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God is marching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22:03:2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13:04Z</dcterms:modified>
  <cp:revision>5</cp:revision>
  <dc:subject/>
  <dc:title>No Slide Title</dc:title>
</cp:coreProperties>
</file>