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stival Da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324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(Easter, slide 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(Ascension, slide 1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(Pentecost, slide 3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e, festival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day to be hallowed for 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when our Lord was rais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king the kingdom of dea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life and of pow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flow in us, fount of our be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that enlightens us a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that in all may abid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e, festival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day to be hallowed for 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when our Lord was rais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king the kingdom of dea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the giver of go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ver and author of conc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ur out your balm on our day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der our ways in your peac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e, festival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day to be hallowed for 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when our Lord was rais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king the kingdom of dea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e, festival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day to be hallowed for 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when our risen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ose in the heavens to re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ho was nailed to the cro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Ruler and Lord of all peop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ings created on eart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to the glory of Go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e, festival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day to be hallowed for 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when our risen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ose in the heavens to re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ily the loveliness grow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orned with the glory of blossom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her gates unbar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inging her increase of light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e, festival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day to be hallowed for 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when our Lord was rais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king the kingdom of dea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e, festival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day to be hallowed for 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when our risen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ose in the heavens to re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Almighty,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uler of earth and the heaven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ard us from harm withou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eanse us from evil within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e, festival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day to be hallowed for 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when our risen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ose in the heavens to re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the health of the wor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lighten our minds, great Redeem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uring on all human soul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finite riches of Go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e, festival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day to be hallowed for 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when our risen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ose in the heavens to re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life and of pow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flow in us, fount of our be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that enlightens us a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that in all may abid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e, festival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day to be hallowed for 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when our risen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ose in the heavens to re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the giver of go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ver and author of conc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ur out your balm on our day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der our ways in your peac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e, festival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day to be hallowed for 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when our risen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ose in the heavens to re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fair beauty of ear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death of the winter arisi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good gift of the yea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with its Master returns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e, festival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day to be hallowed for 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when the Holy Gho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ne in the world full of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ght and in likeness of fi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ose who await your appear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m the Lord had foretol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ddenly, swiftly descen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e, festival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day to be hallowed for 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when the Holy Gho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ne in the world full of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th from the Father you co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sevenfold mystical offer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uring on all human soul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finite riches of Go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e, festival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day to be hallowed for 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when the Holy Gho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ne in the world full of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Almighty,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uler of earth and the heaven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ard us from harm withou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eanse us from evil within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e, festival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day to be hallowed for 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when the Holy Gho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ne in the world full of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the health of the wor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lighten our minds, great Redeem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uring on all human soul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finite riches of Go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e, festival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day to be hallowed for 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when the Holy Gho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ne in the world full of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life and of pow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flow in us, fount of our be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that enlightens us a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that in all may abid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e, festival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day to be hallowed for 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when our Lord was rais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king the kingdom of dea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e, festival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day to be hallowed for 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when the Holy Gho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ne in the world full of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the giver of go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ver and author of conc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ur out your balm on our day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der our ways in your peac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e, festival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day to be hallowed for 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when the Holy Gho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ne in the world full of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 from the grave now, O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author of life and creati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eading the pathway of dea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w life you give to us all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e, festival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day to be hallowed for 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when our Lord was rais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king the kingdom of dea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Almighty,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uler of earth and the heaven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ard us from harm withou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eanse us from evil within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e, festival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day to be hallowed for 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when our Lord was rais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king the kingdom of dea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the health of the wor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lighten our minds, great Redeem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uring on all human soul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finite riches of Go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0T20:07:20Z</dcterms:created>
  <dc:creator>Gary Wintergerst</dc:creator>
  <dc:description/>
  <dc:language>en-US</dc:language>
  <cp:lastModifiedBy>Gary Wintergerst</cp:lastModifiedBy>
  <cp:lastPrinted>1995-07-10T20:06:04Z</cp:lastPrinted>
  <dcterms:modified xsi:type="dcterms:W3CDTF">1999-11-25T22:05:19Z</dcterms:modified>
  <cp:revision>9</cp:revision>
  <dc:subject/>
  <dc:title>No Slide Title</dc:title>
</cp:coreProperties>
</file>