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llsp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Wisdo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0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Medical Mission Sis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llspring of Wisdom, hear our cr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ay ahead is parched and dr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eek a source to satisf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thirst for sanctifying wat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sdom for your faithfilled sons and daughte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wn of a New Day, put to fl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errors of a nuclear n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bearers of your loving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uddle closer to your fi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the lamp of hope a little high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rden of Grace, your gifts ab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acred signs are all ar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hole of earth is holy grou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earn, from all of life expre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to grow in sowing seeds of bles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rden of Grace, your gifts ab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acred signs are all ar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hole of earth is holy grou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earn, from all of life expre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to grow in sowing seeds of bles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14:59:3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28Z</dcterms:modified>
  <cp:revision>4</cp:revision>
  <dc:subject/>
  <dc:title>No Slide Title</dc:title>
</cp:coreProperties>
</file>