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Whose Lo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Humble Servic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81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61 Oxford Univ. Pr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whose love through humble servic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ore the weight of human ne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upon the cross, forsak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fered mercy's perfect deed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, your servants, bring the worship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 of voice alone, but hear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nsecrating to your purpos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 gift that you impar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ill your children wander homeles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ill the hungry cry for brea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ill the captives long for freedom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ill in grief we mourn our dea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, O Lord, your deep compassio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led the sick and freed the sou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se the love your Spirit kindle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ill to save and make us whol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we worship, grant us vis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your love's revealing ligh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its height and depth and greatnes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wns upon our quickened s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king known the needs and burden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compassion bids us be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irring us to tireless striv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abundant life to   sha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lled by worship to your servi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th in your dear name we go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e child, the youth, the ag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 in living deeds to show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pe and health, good will and comfor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unsel, aid, and peace we gi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your servants, Lord, in freedom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your mercy know, and li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15T20:11:52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07:24Z</dcterms:modified>
  <cp:revision>4</cp:revision>
  <dc:subject/>
  <dc:title>No Slide Title</dc:title>
</cp:coreProperties>
</file>