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Sour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alm Rep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source of calm re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ll-sufficient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lp and refuge from my fo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cure I am if thou art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! from sin and grief and shame I hid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in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ighty name salvation 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s my happy soul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fort it brings, and power and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y and everlasting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with thy dear name are 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and holiness and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all in all thou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est in toil, my ease in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ling of my broken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ar my peace, in loss my 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mile beneath the tyrant's f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hame my glory and my cr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ant my plentiful supp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eakness my almighty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onds my perfect liber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ght in Satan's darkest hou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rief my joy unspeak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n death, my heaven in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04:5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3Z</dcterms:modified>
  <cp:revision>3</cp:revision>
  <dc:subject/>
  <dc:title>No Slide Title</dc:title>
</cp:coreProperties>
</file>