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Ai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in the ai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tar in the sk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mother's deep pray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 baby's low cr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star rains its fi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he beautiful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manger of Bethlehe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adles a K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tumult of j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'er the wonderful bi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virgin's sweet b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the Lord of the ea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y! the star rains its fi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he beautiful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manger of Bethlehe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adles a K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ight of that st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e the ages impearl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at song from af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swept over the wor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earth is afl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eautiful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homes of the natio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Jesus is K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rejoice in the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echo the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comes down through the n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heavenly thr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y! we shout to the love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angel they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greet in his crad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avior and K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13:3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1Z</dcterms:modified>
  <cp:revision>2</cp:revision>
  <dc:subject/>
  <dc:title>No Slide Title</dc:title>
</cp:coreProperties>
</file>