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My Lif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t It B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9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my life, and let it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secrated, Lord, to th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my moments and my day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m flow in ceaseless pra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my hands, and let them m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impulse of thy l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my feet, and let them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ift and beautiful for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my voice, and let me s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ways, only, for my K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my lips, and let them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ed with messages from th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my silver and my gol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a mite would I withhol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my intellect, and u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power as thou shalt choo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my will, and make it th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shall be no longer mi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my heart, it is thine 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shall be thy royal thro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my love, my Lord, I pou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y feet its treasure-sto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myself, and I will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, only, all for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7T15:06:34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5:48Z</dcterms:modified>
  <cp:revision>3</cp:revision>
  <dc:subject/>
  <dc:title>No Slide Title</dc:title>
</cp:coreProperties>
</file>