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ver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high ov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ll or earth or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and mortals prostrat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vils fear and f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to sinners d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to sinner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catters all their guilty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urns their hell to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the world might taste and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iches of his gr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rms of love that compass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all the world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I shall constantly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earth and hell opp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ld to confess thy glorious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a world of fo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nly righteousness I sh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aving truth proclai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all my business here be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ry, "Behold the Lamb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, if with my latest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but gasp his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 him to all and cry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hold, behold the Lamb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35:3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9Z</dcterms:modified>
  <cp:revision>3</cp:revision>
  <dc:subject/>
  <dc:title>No Slide Title</dc:title>
</cp:coreProperties>
</file>