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g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55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 the ages, in unbroken l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the faithful spirits at the call div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in differing measure, hearts of one ac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ifold the service, one the sure rewa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 the ages, in unbroken l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the faithful spirits at the call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r grows the kingdom, reign of love and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t we must labor, till our faith is s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s have proclaimed it, martyrs test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ets sung its glory, heroes for i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 the ages, in unbroken l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the faithful spirits at the call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lone we conquer, not alone we fa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ch loss or triumph lose or triumph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by God's far purpose in one living who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we on together to the shining go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 the ages, in unbroken l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the faithful spirits at the call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38:06Z</dcterms:created>
  <dc:creator>Gary Wintergerst</dc:creator>
  <dc:description/>
  <dc:language>en-US</dc:language>
  <cp:lastModifiedBy>Gary Wintergerst</cp:lastModifiedBy>
  <dcterms:modified xsi:type="dcterms:W3CDTF">1999-11-25T22:07:14Z</dcterms:modified>
  <cp:revision>2</cp:revision>
  <dc:subject/>
  <dc:title>No Slide Title</dc:title>
</cp:coreProperties>
</file>