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For a Thousan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ngues to S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57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for a thousand tongues to s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great Redeemer's  prai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lories of my God and K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riumphs of his grac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gracious Master and my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sist me to procla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pread through all the earth abroa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onors of thy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920" y="64548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! the name that charms our fea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bids our sorrows ceas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music in the sinner's ear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life, and health, and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920" y="65311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breaks the power of canceled s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sets the prisoner fre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blood can make the foulest clea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blood availed for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920" y="64548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speaks, and listening to his vo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w life the dead receiv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ournful, broken hearts rejo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umble poor belie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920" y="64548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him, ye deaf; his praise, ye dumb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oosened tongues emplo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blind, behold your Savior co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eap, ye lame, for jo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920" y="64548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hrist, your head, you then shall kn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feel your sins forgive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ticipate your heaven bel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wn that love is heav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920" y="64548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9T21:04:42Z</dcterms:created>
  <dc:creator>Gary Wintergerst</dc:creator>
  <dc:description/>
  <dc:language>en-US</dc:language>
  <cp:lastModifiedBy>Gary Wintergerst</cp:lastModifiedBy>
  <dcterms:modified xsi:type="dcterms:W3CDTF">1999-11-25T22:02:44Z</dcterms:modified>
  <cp:revision>3</cp:revision>
  <dc:subject/>
  <dc:title>No Slide Title</dc:title>
</cp:coreProperties>
</file>