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, I love thee, not because I hope for heaven there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yet because, if I love not, I must forever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, O my Jesus, thou didst me upon the cross emb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e didst bear the nails and spear and manifold dis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hy, O blessed Jesus Christ, should I not love thee well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for the sake of winning heaven, nor of escaping h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with the hope of gaining aught, not seeking a re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as thyself hast loved me, O everlasting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ould I love thee, dearest Lord, and in thy praise will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thou art my loving God and my eternal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21:52:2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13Z</dcterms:modified>
  <cp:revision>3</cp:revision>
  <dc:subject/>
  <dc:title>No Slide Title</dc:title>
</cp:coreProperties>
</file>