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ms of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 G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o not know how long' twi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hat the future hold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is I know: if Jesus leads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get home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rdens now may crush me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appointments all ar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oubles speak in mournful s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through a tear-stained ey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world where pleasure reig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urning soul shall roam its pl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at land of peace and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go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o not know how long' twi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hat the future hold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is I know: if Jesus leads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get home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ms of heaven as I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is wilderness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in peaceful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my midnights into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n the darkness I would gr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always sees a star of h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on from all life's grief and dang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be free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o not know how long' twi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hat the future hold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is I know: if Jesus leads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get home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tentimes my sky is cl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abounds without a t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a day so bright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uds may hide tomorrow's su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a day that's always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day that never yields to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its light the streets of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behold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o not know how long' twi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hat the future hold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is I know: if Jesus leads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get home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der yet may be the f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 may often yield to m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ckedness a while may reig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tan's cause may seem to 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God that rule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and of power and heart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 am right, he'll fight my batt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have peace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6T15:24:2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1Z</dcterms:modified>
  <cp:revision>3</cp:revision>
  <dc:subject/>
  <dc:title>No Slide Title</dc:title>
</cp:coreProperties>
</file>