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, Glori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07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, glori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excelsis Deo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, glor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6T21:35:26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2:48Z</dcterms:modified>
  <cp:revision>2</cp:revision>
  <dc:subject/>
  <dc:title>No Slide Title</dc:title>
</cp:coreProperties>
</file>