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O Sleep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0 Augsburg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O sleeper, rise from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give you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arn his love, its length and bread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ullness, depth, and he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on earth he came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in and fear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the Spirit's u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ry bo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body and one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 and one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and one baptis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alk in love as Christ has 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hat he might s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kind and gentle hearts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in Christ forg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Christ lived, for us he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quered in the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arise, go forth in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give you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35:3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2Z</dcterms:modified>
  <cp:revision>4</cp:revision>
  <dc:subject/>
  <dc:title>No Slide Title</dc:title>
</cp:coreProperties>
</file>