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Beginn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luding v.5 for Holy Commun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new beginn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remember and move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believe what love is br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ing to rest the pain that's g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the life and death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mighty Spirit, now as th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make for us a world of differ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aith and hope are born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, with the Spirit's d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p from the past and leave beh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isappointment, guilt, and grie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new paths, and sure to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, and goes befor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ow and share what love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new beginning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king all things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aith we'll gather around the t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ste and share what love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new beginning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king all things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0:55:56Z</dcterms:created>
  <dc:creator>Gary Wintergerst</dc:creator>
  <dc:description/>
  <dc:language>en-US</dc:language>
  <cp:lastModifiedBy>Gary Wintergerst</cp:lastModifiedBy>
  <cp:lastPrinted>1995-08-06T20:59:20Z</cp:lastPrinted>
  <dcterms:modified xsi:type="dcterms:W3CDTF">1999-11-25T22:05:42Z</dcterms:modified>
  <cp:revision>4</cp:revision>
  <dc:subject/>
  <dc:title>No Slide Title</dc:title>
</cp:coreProperties>
</file>