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Is Fou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is found and hope comes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nd be glad that two are 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explodes and fills the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and share our Maker's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has flowered in trust and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d both each day, that love may d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ach beyond home's warmth and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and strive for truth and r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is tried as loved ones chan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still to hope though all seems stran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ease returns, and love grows w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listening ears and opened ey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is torn and trust betr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strength to love till torments f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lovers keep no score of w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ear through pain love's Easter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for love, praise God for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ge or youth, in husband, w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s, let love be f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death and life in broken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19:54:58Z</dcterms:created>
  <dc:creator>Gary Wintergerst</dc:creator>
  <dc:description/>
  <dc:language>en-US</dc:language>
  <cp:lastModifiedBy>Gary Wintergerst</cp:lastModifiedBy>
  <cp:lastPrinted>1995-12-25T20:46:26Z</cp:lastPrinted>
  <dcterms:modified xsi:type="dcterms:W3CDTF">1999-11-25T22:12:35Z</dcterms:modified>
  <cp:revision>5</cp:revision>
  <dc:subject/>
  <dc:title>No Slide Title</dc:title>
</cp:coreProperties>
</file>