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of M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 and Low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of Mary, pure and low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iden mother, wise and m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of God's own Son most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ecame her little ch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est child of fairest m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Lord who came to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made flesh, our very br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s our nature by his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of Jesus, son of M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ome at Nazare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il and labor cannot we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enduring unto de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stant was the love he gave 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it drove him from her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to preach, and heal, and suff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on Calvary he d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 mother, full of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ne arms thy Lord was bor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rnful mother, full of s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y heart with pain was t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ous mother, now rewar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crown at Jesus'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e to age thy name recor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e blest in every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48:2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9Z</dcterms:modified>
  <cp:revision>3</cp:revision>
  <dc:subject/>
  <dc:title>No Slide Title</dc:title>
</cp:coreProperties>
</file>