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My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heart to praise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from sin set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that always fee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ood so freely sh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resigned, submissive, m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eat Redeemer's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only Christ is hea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ak, where Jesus reign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umble, lowly, contrite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ing, true, and cl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neither life nor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part from Christ who dwells wi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in every thought renew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ull of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and right and p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od, a copy, Lord, of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ture, gracious Lord,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quickly from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ite thy new name up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, thy new, best name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42:3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4Z</dcterms:modified>
  <cp:revision>4</cp:revision>
  <dc:subject/>
  <dc:title>No Slide Title</dc:title>
</cp:coreProperties>
</file>