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Wh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Believ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not why God's wondrous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 he hath made 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hy, unworthy, Christ in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ed me for his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know whom I have belie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m persuaded that he is 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at which I've commit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him against tha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not how this saving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 he did im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how believing in his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rought peace with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know whom I have belie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m persuaded that he is 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at which I've commit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him against tha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not how the Spirit m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vincing us of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ealing Jesus through the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ing faith in h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know whom I have belie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m persuaded that he is 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at which I've commit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him against tha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not when my Lord may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night or noonday f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if I walk the vale with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meet him in the a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know whom I have belie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m persuaded that he is 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at which I've commit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him against tha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32:12Z</dcterms:created>
  <dc:creator>Gary Wintergerst</dc:creator>
  <dc:description/>
  <dc:language>en-US</dc:language>
  <cp:lastModifiedBy>Gary Wintergerst</cp:lastModifiedBy>
  <cp:lastPrinted>1996-01-02T14:06:18Z</cp:lastPrinted>
  <dcterms:modified xsi:type="dcterms:W3CDTF">2000-03-17T04:15:04Z</dcterms:modified>
  <cp:revision>5</cp:revision>
  <dc:subject/>
  <dc:title>No Slide Title</dc:title>
</cp:coreProperties>
</file>