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282160" y="5429160"/>
            <a:ext cx="785520" cy="1123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God B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Glory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UMH 98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"/>
          <p:cNvSpPr/>
          <p:nvPr/>
        </p:nvSpPr>
        <p:spPr>
          <a:xfrm>
            <a:off x="8900640" y="644832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aise the Lord, praise the Lor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the earth hear his voice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aise the Lord, praise the Lor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the people rejoice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come to the Father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ru Jesus the So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give him the glor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reat things he hath done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5000"/>
          </a:bodyPr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God be the glor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reat things he hath done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o loved he the world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at he gave us his So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o yielded his lif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 atonement for si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opened the life-gat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at all may go in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aise the Lord, praise the Lor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the earth hear his voice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aise the Lord, praise the Lor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the people rejoice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come to the Father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ru Jesus the So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give him the glor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reat things he hath done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5000"/>
          </a:bodyPr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perfect redemptio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purchase of bloo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every believer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promise of God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vilest offender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o truly believe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at moment from Jesu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 pardon receives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aise the Lord, praise the Lor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the earth hear his voice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aise the Lord, praise the Lor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the people rejoice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come to the Father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ru Jesus the So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give him the glor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reat things he hath done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reat things he hath taught u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reat things he hath don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great our rejoicing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ru Jesus the Son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ut purer, and highe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greater will b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ur wonder, our transpor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Jesus we se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30T22:00:38Z</dcterms:created>
  <dc:creator>Gary Wintergerst</dc:creator>
  <dc:description/>
  <dc:language>en-US</dc:language>
  <cp:lastModifiedBy>Gary Wintergerst</cp:lastModifiedBy>
  <dcterms:modified xsi:type="dcterms:W3CDTF">1999-11-25T22:03:52Z</dcterms:modified>
  <cp:revision>3</cp:revision>
  <dc:subject/>
  <dc:title>No Slide Title</dc:title>
</cp:coreProperties>
</file>