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i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Ho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ime to be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oft with thy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ide in him al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eed on his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friends of God's childr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those who are w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etting in noth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blessing to see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ime to be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rushes 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nd much time in secr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Jesus al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looking to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him thou shalt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friends in thy conduc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ikeness shall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ime to be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him be thy gu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un not bef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ever beti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joy or in sor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follow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, looking to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trust in his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ime to be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calm in th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thought and each mot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his contro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led by his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untains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soon shalt be fit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ervice ab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6T21:34:06Z</dcterms:created>
  <dc:creator>Gary Wintergerst</dc:creator>
  <dc:description/>
  <dc:language>en-US</dc:language>
  <cp:lastModifiedBy>Gary Wintergerst</cp:lastModifiedBy>
  <cp:lastPrinted>1995-08-06T21:25:56Z</cp:lastPrinted>
  <dcterms:modified xsi:type="dcterms:W3CDTF">1999-11-25T22:05:46Z</dcterms:modified>
  <cp:revision>3</cp:revision>
  <dc:subject/>
  <dc:title>No Slide Title</dc:title>
</cp:coreProperties>
</file>