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From Who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Blessings Fl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5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from whom all blessings f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fecting the saints be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us, who thy nature sh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hy mystic body 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 us, in one spirit jo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still receive of th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for more on thee we c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who fillest all in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e and actuate and gu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verse gifts to each div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aced according to thy w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all our work fulfil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ver from thy service m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edful to each other pr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e the grace on each bestow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mpered by the art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are we now, and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ho Jesus have put 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neither bond nor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le nor female, Lord, in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, like death, hath all destroy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ndered all distinctions voi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mes and sects and parties f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, O Christ, art all in al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2T21:31:56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12Z</dcterms:modified>
  <cp:revision>3</cp:revision>
  <dc:subject/>
  <dc:title>No Slide Title</dc:title>
</cp:coreProperties>
</file>