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Jo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riend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join our friend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ve obtained the pri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he eagle wings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oys celestial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aints on earth unit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to glory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ervants of our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heaven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mily we dwell i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hurch above, ben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w divided by the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rrow stream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rmy of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command we b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 of his host have crossed the f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art are crossing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 thousand to their endless h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olemn moment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are to the margin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expect to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now by faith we join our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that went bef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et the blood-besprinkled b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eternal sh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too shall quickly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irs with glory crow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t to see our Captain's s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is trumpet s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e now might grasp our Gu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d were giv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ord of Hosts, the waves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nd us all in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23:06Z</dcterms:created>
  <dc:creator>Gary Wintergerst</dc:creator>
  <dc:description/>
  <dc:language>en-US</dc:language>
  <cp:lastModifiedBy>Gary Wintergerst</cp:lastModifiedBy>
  <cp:lastPrinted>1996-01-02T14:03:40Z</cp:lastPrinted>
  <dcterms:modified xsi:type="dcterms:W3CDTF">1999-11-25T22:13:00Z</dcterms:modified>
  <cp:revision>4</cp:revision>
  <dc:subject/>
  <dc:title>No Slide Title</dc:title>
</cp:coreProperties>
</file>