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rd of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arn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rd of God incarna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isdom from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ruth unchanged, uncha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ght of our dark sky: we praise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radiance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hallowed p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ntern to our footstep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s on from age to ag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from you, ou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d the gift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that light is lif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all the earth to s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sacred vess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gems of truth are st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heaven-drawn pict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hrist, the living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cripture is a bann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God's host unfurl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a shining beac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darkling wor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hart and compa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o'er life's surging t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mists and rocks and quicks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, O Christ, will gu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ke your church, dea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mp of purest g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ar before the nat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true light as of 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each your wandering pilgri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s their path to t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, clouds and darkness e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ee you face to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41:1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30Z</dcterms:modified>
  <cp:revision>3</cp:revision>
  <dc:subject/>
  <dc:title>No Slide Title</dc:title>
</cp:coreProperties>
</file>