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od,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y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s. 5-7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5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ou art our gloriou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, enthroned in splend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eliverance to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ll honors didst surre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st of a virgin bo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y on that blessed m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take the sting from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, as Savior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cross thy dying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ed wide the realm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lory of that 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set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judge thou wilt 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ho has died to win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y servants, drawing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renew our hearts within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with thy saints we m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 in everlasting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od, we praise th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we bow before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 earth thy scepter cla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n heaven above adore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thy vast dom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is thy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, the glad celestial hym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 choirs above are rai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unceasing chorus p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e heavens with sweet accor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the apostolic tr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s thy sacred name to ha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 swell the glad ref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white-robed martyrs fol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morn to set of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church the song go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Father, Holy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: three we nam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n essence only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ivided God we claim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doring bend the kn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own the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42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28Z</dcterms:modified>
  <cp:revision>5</cp:revision>
  <dc:subject/>
  <dc:title>No Slide Title</dc:title>
</cp:coreProperties>
</file>