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Keep Me N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ro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0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keep me near the cro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a precious f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 to all, a healing strea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ws from Calvary's mount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cross, in the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my glory 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my raptured soul shall fi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t beyond the ri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 the cross, a trembling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and mercy found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the bright and morning st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ds its beams around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cross, in the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my glory 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my raptured soul shall fi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t beyond the ri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 the cross! O Lamb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its scenes before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me walk from day to 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its shadow o'e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cross, in the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my glory 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my raptured soul shall fi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t beyond the ri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 the cross I'll watch and wa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ing, trusting 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I reach the golden str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beyond the riv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cross, in the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my glory 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my raptured soul shall fi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t beyond the ri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1T15:03:0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5:09Z</dcterms:modified>
  <cp:revision>3</cp:revision>
  <dc:subject/>
  <dc:title>No Slide Title</dc:title>
</cp:coreProperties>
</file>