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FE3-354D-4260-8EFD-336404C5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DE2-CC78-4CAB-807E-7232045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85F-74E8-4ED7-975C-1922E777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D0E-7639-49FA-B062-C6340BF9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07E-E6D9-49A9-A296-2BB51C28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725-EFD8-45E2-AB09-ADBE812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295-3A59-4719-A5F2-1299F57A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C30-8046-4D1D-914B-63FBAED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030-34C7-4838-874A-D261D1C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9BA-9F17-49D5-8DFB-827A489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8C0-600C-454E-BDDD-609B66A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4F0-BA6F-47CA-8563-C0935FA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A21-34E4-4F72-906E-5EFB44AD2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4:18:26Z</dcterms:created>
  <dc:creator>Gary Wintergerst</dc:creator>
  <dc:description/>
  <dc:language>en-US</dc:language>
  <cp:lastModifiedBy>Gary Wintergerst</cp:lastModifiedBy>
  <dcterms:modified xsi:type="dcterms:W3CDTF">1999-11-25T22:08:28Z</dcterms:modified>
  <cp:revision>7</cp:revision>
  <dc:subject/>
  <dc:title>No Slide Title</dc:title>
</cp:coreProperties>
</file>