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tter Our C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V. 4,5 optional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tter our cry: that peace may prev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arth will survive, and faith must not fai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with our life for the world in our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eople diminished by doubt and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ry from the fright of our daily sce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rength to say "No" to all that is mea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igns bearing chaos, extinction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energy wasted on weapons of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up our hearts for children unb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isdom, O God, that we may hand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lenished and tended, this good planet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serving the future and wonder of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life, come, share out, we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on earth, revealing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aders conferring round tables for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y may from bias and guile be relea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with us, Lord; love, in protest and ma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o fire with passion your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tch all our statements and lofty resol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eing, unresting, in action invol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the ill or pressure we f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earten and heal, give insight and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ink and make peace with each heartbeat and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ose Christ before Caesar and life before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9:12Z</dcterms:created>
  <dc:creator>Gary Wintergerst</dc:creator>
  <dc:description/>
  <dc:language>en-US</dc:language>
  <cp:lastModifiedBy>Gary Wintergerst</cp:lastModifiedBy>
  <cp:lastPrinted>1996-01-03T12:40:56Z</cp:lastPrinted>
  <dcterms:modified xsi:type="dcterms:W3CDTF">1999-11-25T22:06:03Z</dcterms:modified>
  <cp:revision>5</cp:revision>
  <dc:subject/>
  <dc:title>No Slide Title</dc:title>
</cp:coreProperties>
</file>