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353200"/>
            <a:ext cx="730440" cy="10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0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of 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nd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rancis of Assisi, ca. 1225; trans. By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illiam H. Draper, 1925, adapt. 198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United Methodist  Publishing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e who are of tender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ing others, take your p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long pain and sorrow bear, praise God and on him cast your ca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, our sister, gentle death, waiting to hush our latest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eadest home the child of God, and Christ our Lord the way has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their Creator bless, and worship him in humble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 the Fa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on, and praise the Spirit, Three in 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of our God and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 and with u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other sun with golden bea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ster moon with silver glea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other wind, air, clouds, and r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ich all creatures ye sus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ising morn, in praise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lights of evening, find a v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ster water, flowing cl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usic for thy Lord to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other fire who lights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ing warmth, enhancing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mother earth, who day by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foldest blessing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owers and fruits that in thee g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God’s glory also sh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19:22:08Z</dcterms:created>
  <dc:creator>Gary Wintergerst</dc:creator>
  <dc:description/>
  <dc:language>en-US</dc:language>
  <cp:lastModifiedBy>Gary Wintergerst</cp:lastModifiedBy>
  <dcterms:modified xsi:type="dcterms:W3CDTF">2003-06-14T15:24:26Z</dcterms:modified>
  <cp:revision>7</cp:revision>
  <dc:subject/>
  <dc:title>No Slide Title</dc:title>
</cp:coreProperties>
</file>