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bless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people of his ch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bless the Lord your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soul and v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high above all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blessing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ould not fear his hol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ud and magnif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the living fl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is own altar br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ouch our lips, our minds insp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ng to heaven our thou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our strength and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salvation ou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be his love in Christ proclaim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ur ransomed pow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bless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your God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bless his glorious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nceforth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47:14Z</dcterms:created>
  <dc:creator>Gary Wintergerst</dc:creator>
  <dc:description/>
  <dc:language>en-US</dc:language>
  <cp:lastModifiedBy>Gary Wintergerst</cp:lastModifiedBy>
  <cp:lastPrinted>1995-12-28T04:13:52Z</cp:lastPrinted>
  <dcterms:modified xsi:type="dcterms:W3CDTF">1999-11-25T22:12:42Z</dcterms:modified>
  <cp:revision>4</cp:revision>
  <dc:subject/>
  <dc:title>No Slide Title</dc:title>
</cp:coreProperties>
</file>