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 Througho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Forty Day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 throughout these forty d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didst fast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with thee to mourn our s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se by thee to st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with Satan didst cont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st the victory w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us strength in thee to f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to conquer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didst hunger bear, and thir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each us, graciou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ie to self, and chiefly l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most hol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these days of penit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thy passion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evermore in life and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ith us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with us, that so, this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uffering over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aster of unending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attain at l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6:3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7Z</dcterms:modified>
  <cp:revision>2</cp:revision>
  <dc:subject/>
  <dc:title>No Slide Title</dc:title>
</cp:coreProperties>
</file>