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in bright raiment rolled the st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pt the folded graveclothes where thy body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Jesus meets thee, risen from the to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ly he greets thee, scatters fear and glo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church with gladness hymns of triumph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Lord now liveth; death hath lost its st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 doubt thee, glorious Prince of lif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naught without thee; aid us in our str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more than conquerors, through thy deathles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us safe through Jordan to thy home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53:3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3Z</dcterms:modified>
  <cp:revision>3</cp:revision>
  <dc:subject/>
  <dc:title>No Slide Title</dc:title>
</cp:coreProperties>
</file>