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oice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Cal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43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oice of God is calling its summons in our d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aiah heard in Zion, and now we hear God s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 to succor my people in their ne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 to loosen  the bonds of shame and gre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my people crying in slum and mine and mi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field or mart is silent, no city street is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my people falling in darkness and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 to shatter the fetters which they bear?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ed, O God, Your summons, and answer: Here are w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upon your errand, let us your servants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trength is dust and ashes, our years a passing hou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can use our weakness to magnify your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se and plenty save us; from pride of place absol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ge us of low desire; lift us to high resol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s and make us holy; teach us your will and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, and behold! we answer; command and we obe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0T17:33:10Z</dcterms:created>
  <dc:creator>Gary Wintergerst</dc:creator>
  <dc:description/>
  <dc:language>en-US</dc:language>
  <cp:lastModifiedBy>Gary Wintergerst</cp:lastModifiedBy>
  <dcterms:modified xsi:type="dcterms:W3CDTF">1999-11-25T22:06:02Z</dcterms:modified>
  <cp:revision>3</cp:revision>
  <dc:subject/>
  <dc:title>No Slide Title</dc:title>
</cp:coreProperties>
</file>