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, W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D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, what hast thou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mmortal God hath died fo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's co-eternal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all my sins upon the t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immortal God for me hath di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rucified for me a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us rebels back t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, believe the record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all are bought with Jesus'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all flows from his sid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im, all ye that pass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eding Prince of life and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see your Savior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, "Was ever grief like his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feel with me his blood appli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5:4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4Z</dcterms:modified>
  <cp:revision>2</cp:revision>
  <dc:subject/>
  <dc:title>No Slide Title</dc:title>
</cp:coreProperties>
</file>