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I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E. Bo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I have promi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e to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forever nea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 and my fri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not fear the batt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art by my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ander from the path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wilt be my gu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feel thee near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is ever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e sights that dazz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mpting sounds I h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oes are ever nea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me and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Jesus, draw thou nea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ield my soul from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hear thee spea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ccents clear and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storms of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urmurs of self-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eak to reassur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asten or contro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eak, and make me list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guardian of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thou hast promi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who follow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re thou art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shall thy servan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esus, I have promi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e to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me grace to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 and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4:37:00Z</dcterms:created>
  <dc:creator>Gary Wintergerst</dc:creator>
  <dc:description/>
  <dc:language>en-US</dc:language>
  <cp:lastModifiedBy>Gary Wintergerst</cp:lastModifiedBy>
  <cp:lastPrinted>1995-08-06T21:25:56Z</cp:lastPrinted>
  <dcterms:modified xsi:type="dcterms:W3CDTF">2002-06-19T03:36:23Z</dcterms:modified>
  <cp:revision>4</cp:revision>
  <dc:subject/>
  <dc:title>No Slide Title</dc:title>
</cp:coreProperties>
</file>