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a espig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Sheaves of Summer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3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Sp:2; Eng:7; Sp/Eng:1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3 Ediciones Musical PA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grains which become one same whole loaf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notes that are woven into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droplets of water that are blended in the s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as Christians, one body shall be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God's table together we shall si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God's children, Christ's body we will sha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same hope we will sing together as we walk al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s, sisters, in life, in love, we'll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a espiga dorada por el so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racimo que corta el viñad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aves of summer turned golden by the s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pes in bunches cut down when ripe and 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 convierten ahora en pan y vino de a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el cuerpo y la sangre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converted into the bread and wine of God's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ody and blood of our dea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1040" y="342900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partimos la misma comunió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trigo del mismo sembrado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haring the same communion me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wheat by the same great Sower s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76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molino a la vida nos tritura con dol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millstone life grinds us down with sorrow and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1040" y="259092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os nos hace pueblo nuevo en el am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God makes us new people bound by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7360" y="2666880"/>
            <a:ext cx="85215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a espiga dorada por el so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racimo que corta el viñad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 convierten ahora en pan y vino de a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el cuerpo y la sangre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granos que han hecho el mismo p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grains which become one same whole loaf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760" y="2514600"/>
            <a:ext cx="89028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notas que tejen un cant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notes that are woven into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5080" y="25146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gotas de agua que se funden en el m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droplets of water that are blended in the s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5080" y="25146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cristianos un cuerpo formará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as Christians, one body shall be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8760" y="266688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mesa de Dios se sentará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hijos su pan compartirá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God's table together we shall si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God's children, Christ's body we will sha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a misma esperanza caminando cantará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same hope we will sing together as we walk al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vida como hermanos se amar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s, sisters, in life, in love, we'll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5080" y="25146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partimos la misma comunió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trigo del mismo sembrad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molino a la vida nos tritura con dol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os nos hace pueblo nuevo en el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granos que han hecho el mismo p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notas que tejen un cant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gotas de agua que se funden en el m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cristianos un cuerpo formar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mesa de Dios se sentará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hijos su pan compartirá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a misma esperanza caminando cantará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vida como hermanos se amar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aves of summer turned golden by the s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pes in bunches cut down when ripe and 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converted into the bread and wine of God's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ody and blood of our dea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haring the same communion me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wheat by the same great Sower s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millstone life grinds us down with sorrow and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God makes us new people bound by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5T05:57:08Z</dcterms:created>
  <dc:creator>Gary Wintergerst</dc:creator>
  <dc:description/>
  <dc:language>en-US</dc:language>
  <cp:lastModifiedBy>Gary Wintergerst</cp:lastModifiedBy>
  <cp:lastPrinted>1995-12-25T20:41:58Z</cp:lastPrinted>
  <dcterms:modified xsi:type="dcterms:W3CDTF">1999-11-25T22:12:33Z</dcterms:modified>
  <cp:revision>12</cp:revision>
  <dc:subject/>
  <dc:title>No Slide Title</dc:title>
</cp:coreProperties>
</file>