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Little 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Mi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8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little light of mine, I'm goin'a let it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little light of mine, I'm goin'a let it sh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little light of mine, I'm goin'a let it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shine, let it shine, let it s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where I go, I'm goin'a let it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where I go, I'm goin'a let it sh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where I go, I'm goin'a let it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shine, let it shine, let it s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rough the night, I'm goin'a let it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rough the night, I'm goin'a let it sh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rough the night, I'm goin'a let it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shine, let it shine, let it s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20:16:1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7:26Z</dcterms:modified>
  <cp:revision>3</cp:revision>
  <dc:subject/>
  <dc:title>No Slide Title</dc:title>
</cp:coreProperties>
</file>