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Again 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Dear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6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again to thy dear name we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ne accord our parting hymn of pra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ard thou the lips from sin, the hearts from sh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n this house have called upon th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thy peace upon our homeward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e began, with thee shall end the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harm and danger keep thy children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dark and light are both alik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thy peace throughout our earthly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to thy church from error and from str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to our land, the fruit of truth and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in each heart, thy Spirit from abo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peace in life, the balm of every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peace in death, the hope to rise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, when thy voice shall bid our conflict c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 us, O Lord, to thine eternal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50:58Z</dcterms:created>
  <dc:creator>Gary Wintergerst</dc:creator>
  <dc:description/>
  <dc:language>en-US</dc:language>
  <cp:lastModifiedBy>Gary Wintergerst</cp:lastModifiedBy>
  <cp:lastPrinted>1995-12-28T04:15:02Z</cp:lastPrinted>
  <dcterms:modified xsi:type="dcterms:W3CDTF">1999-11-25T22:12:43Z</dcterms:modified>
  <cp:revision>4</cp:revision>
  <dc:subject/>
  <dc:title>No Slide Title</dc:title>
</cp:coreProperties>
</file>