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re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Al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5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re we yet al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e each other's fac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and thanks to Jesus g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is almighty grac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served by power divi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ull salvation 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gain in Jesus' praise we jo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his sight app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roubles have we se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mighty conflicts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ghtings without, and fears with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we assembled la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out of all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h brought us by his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ill he doth his help aff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des our life ab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us make our boa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s redeeming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saves us to the utterm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can sin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ake up the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the crown ob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ladly reckon all things l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e may Jesus 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5:50:4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13Z</dcterms:modified>
  <cp:revision>3</cp:revision>
  <dc:subject/>
  <dc:title>No Slide Title</dc:title>
</cp:coreProperties>
</file>