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Father'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Begott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8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Father's love begott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re the worlds began to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Alpha and Omeg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the source, the ending 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things that are, that have be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at future years shall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more and ever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ye heights of heaven, adore hi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gel hosts, his praises s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wers, dominions, bow befor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xtol our God and K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no tongue on earth be sile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voice in concert 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more and ever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to thee with God the F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, O Holy Ghost,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ymn and chant and high thanksgiv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unwearied praises b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nor, glory and domin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ternal vict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more and evermore. Am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30T08:21:26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4:25Z</dcterms:modified>
  <cp:revision>3</cp:revision>
  <dc:subject/>
  <dc:title>No Slide Title</dc:title>
</cp:coreProperties>
</file>