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Is K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1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the Lord is K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rd and King ad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tals, give thanks and sing, and triumph ever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; rejoice; again I say,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the Savior reig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d of truth and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 had purged our stains, he took his seat ab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; rejoice, again I say,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kingdom cannot fai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ules o'er earth and hea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eys of earth and hell are to our Jesus gi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; rejoice, again I say,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in glorious hop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the Judge shall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ake his servants up to their eternal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oon shall h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'archangel's voice; the trump of God shall sound, rejoic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59:5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3:03Z</dcterms:modified>
  <cp:revision>3</cp:revision>
  <dc:subject/>
  <dc:title>No Slide Title</dc:title>
</cp:coreProperties>
</file>