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Canta, Débora, cant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08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79f"/>
                </a:solidFill>
                <a:latin typeface="Arial"/>
              </a:rPr>
              <a:t>(Sp:2; Eng:7; Sp/Eng:11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rans.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1989 The UM Publ. Hou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our God is goo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is good, and has chosen those who are humbl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our God is goo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is good, and will strengthen the people with migh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Canta, Débora, cant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Canta, Débora, cant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dre de Israe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der de ejército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nta, Debora, cant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nta, Debora, cant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ther of Israe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der of her armi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1040" y="3505320"/>
            <a:ext cx="85219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nta un himno a tu Seño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orque bueno es Dio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a hymn of victory to our G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our God is goo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1040" y="3505320"/>
            <a:ext cx="85978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eno es Dios, él escoge a los humilde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orque bueno es Dio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is good, and has chosen those who are humbl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our God is goo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7360" y="3429000"/>
            <a:ext cx="84456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eno es Dios. Él los fortalece con su pod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is good, and will strengthen the people with migh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7360" y="3429000"/>
            <a:ext cx="85215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Canta, Débora, cant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Canta, Débora, cant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dos los que canta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cen hoy sus voc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nta, Debora, cant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nta, Debora, cant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lift up our voic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one togeth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3505320"/>
            <a:ext cx="86742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nten un himno de loo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ing the triumphs of our G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1040" y="3505320"/>
            <a:ext cx="86742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eno es Dios. Él los fortalece con su pod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is good, and will strengthen the people with migh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7360" y="3429000"/>
            <a:ext cx="85215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Canta, Débora, cant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Canta, Débora, cant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dre de Israe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der de ejército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nta un himno a tu Seño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orque bueno es Dio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eno es Dios, él escoge a los humilde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orque bueno es Dio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eno es Dios. Él los fortalece con su pod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Canta, Débora, cant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Canta, Débora, cant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dos los que canta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cen hoy sus voc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nten un himno de loo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orque bueno es Dio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eno es Dios, él escoge a los humilde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orque bueno es Dio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eno es Dios. Él los fortalece con su pod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nta, Debora, cant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nta, Debora, cant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ther of Israe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der of her armi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a hymn of victory to our G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our God is goo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is good, and has chosen those who are humbl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our God is goo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is good, and will strengthen the people with migh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nta, Debora, cant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nta, Debora, cant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lift up our voic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one togeth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ing the triumphs of our G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6T21:46:32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3:46Z</dcterms:modified>
  <cp:revision>7</cp:revision>
  <dc:subject/>
  <dc:title>No Slide Title</dc:title>
</cp:coreProperties>
</file>