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lit Sk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glory, starlit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aring music, scholars' tru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ight of swallows, autumn lea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mory's treasure, grace of youth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are the gifts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of love to mind and sen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den is love's agon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endeavor, love's expen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at gives, gives ever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s with zeal, with eager han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es not, keeps not, all outp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tures all, its all exp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ined is love in making fu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in setting other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in making many ri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k in giving power to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he who shows us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less hangs upon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nails and crown of thor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f what God's love mus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God: no monarch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ned in easy state to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God, whose arms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hing, spent, the world sust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38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30Z</dcterms:modified>
  <cp:revision>3</cp:revision>
  <dc:subject/>
  <dc:title>No Slide Title</dc:title>
</cp:coreProperties>
</file>