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o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's Anoin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o the Lord's An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David's greater S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in the time app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ign on earth begu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to break opp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t the captiv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away transg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le in equ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with succor spee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suffer w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lp the poor and nee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 the weak be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them songs for sig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darkness turn to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souls, condemned and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precious in his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hall come down like show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fruitful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joy, and hope, like fl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in his path to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m, on the moun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peace, the herald,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ghteousness, in foun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ill to valley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shall prayer uncea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ily vows asc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still incr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kingdom without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ide of time shall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ovenant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shall stand for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ame to us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27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3Z</dcterms:modified>
  <cp:revision>2</cp:revision>
  <dc:subject/>
  <dc:title>No Slide Title</dc:title>
</cp:coreProperties>
</file>