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Lor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 of all na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of God and man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ill I ch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ill I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my soul's glory, joy, and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are the mead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r still the woodl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bed in the blooming garb of sp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fai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pu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akes the woeful heart to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is the sun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r still the moon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winkling starry h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ines brigh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ines pur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all the angels heaven can bo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Savi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the natio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 and Son of Ma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forevermore b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21:53:20Z</dcterms:created>
  <dc:creator>Gary Wintergerst</dc:creator>
  <dc:description/>
  <dc:language>en-US</dc:language>
  <cp:lastModifiedBy>Gary Wintergerst</cp:lastModifiedBy>
  <cp:lastPrinted>1995-07-20T21:51:08Z</cp:lastPrinted>
  <dcterms:modified xsi:type="dcterms:W3CDTF">1999-11-25T22:04:27Z</dcterms:modified>
  <cp:revision>3</cp:revision>
  <dc:subject/>
  <dc:title>No Slide Title</dc:title>
</cp:coreProperties>
</file>