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Verse 1 in Native America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ialects follow frame 8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Navajo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ZHÓNÍGO JOOBA' DITTS' A'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SDÁSHÍÍTÍNÍGÍÍ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H YÓÓÍÍYÁ, K'AD SHÉNÁHOOSDZ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O EESH'ÍÍ DA NT'ÉÉ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[Kiowa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AW K'EE DA HA DAWTSAHY HE TSOW'HAW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AW K'EE DA HA DAWTSAHY HEE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BAY DAWTSAHY TAW, GAW AYM OW THAH T'AW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AW K'EE DA HA DAWTSAHY H'E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Creek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 YA FEK CHA HE THLAT AH T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 NON AH CHA PA K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 FEE KEE O FUNNAN LA K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 E HA TA LA Y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Choctaw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LOMBISH HOLITOPA M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HMMINTI PULLA CH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AK ILBUSHA PIA H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PI YUKPALASH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grace! How sweet the s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aved a wretch like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nce was lost, but now am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lind, but now I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grace that taught my heart to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ce my fears reliev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precious did that grace app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 I first belie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any dangers, toils, and sn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already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grace hath brought me safe thus 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ce will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has promised goo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rd my hope secur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my shield and portion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ong as life endu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when this flesh and heart shall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ortal life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possess, within the ve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ife of jo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've been there ten thousand y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shining as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ve no less days to sing God's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when we'd first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Cherokee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OH NAY THLA NAH, HEE OO WAY GEE.'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GAH GWOO YAH HAY 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W GWOO JOE SAH, WE YOU LOW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GAH GWOO YAH HO N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2:23:32Z</dcterms:created>
  <dc:creator>Gary Wintergerst</dc:creator>
  <dc:description/>
  <dc:language>en-US</dc:language>
  <cp:lastModifiedBy>Gary Wintergerst</cp:lastModifiedBy>
  <cp:lastPrinted>1995-08-03T22:17:52Z</cp:lastPrinted>
  <dcterms:modified xsi:type="dcterms:W3CDTF">1999-11-25T22:05:40Z</dcterms:modified>
  <cp:revision>3</cp:revision>
  <dc:subject/>
  <dc:title>No Slide Title</dc:title>
</cp:coreProperties>
</file>