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N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draw n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auty and in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ith thy timeless judgment now to match our presen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o our troubled mi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ertain and afr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quiet of a steadfast faith, calm of a call obe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justice to our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dwell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nely build for days to come foundations that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o our world of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vereign word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r may haunt the earth no more, and desolation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draw n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t creation'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 again, and set thy judgments on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5:48Z</dcterms:created>
  <dc:creator>Gary Wintergerst</dc:creator>
  <dc:description/>
  <dc:language>en-US</dc:language>
  <cp:lastModifiedBy>Gary Wintergerst</cp:lastModifiedBy>
  <cp:lastPrinted>1996-01-02T15:15:18Z</cp:lastPrinted>
  <dcterms:modified xsi:type="dcterms:W3CDTF">1999-11-25T22:13:09Z</dcterms:modified>
  <cp:revision>4</cp:revision>
  <dc:subject/>
  <dc:title>No Slide Title</dc:title>
</cp:coreProperties>
</file>