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Bread Whic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Have Brok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1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bread which you have brok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wine which you have pour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words which you have spok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we give you thanks, O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is pledge that you do lov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your gift of peace restor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your call to heaven abov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 all our lives, O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our sainted ones in gl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ted at the heavenly boa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e church that's waiting for you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 love's tie unbroken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r service, Lord, defend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hearts keep watch and wa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world where you have sent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your kingdom come, O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1:24:18Z</dcterms:created>
  <dc:creator>Gary Wintergerst</dc:creator>
  <dc:description/>
  <dc:language>en-US</dc:language>
  <cp:lastModifiedBy>Gary Wintergerst</cp:lastModifiedBy>
  <cp:lastPrinted>1995-12-25T20:19:22Z</cp:lastPrinted>
  <dcterms:modified xsi:type="dcterms:W3CDTF">1999-11-25T22:12:23Z</dcterms:modified>
  <cp:revision>3</cp:revision>
  <dc:subject/>
  <dc:title>No Slide Title</dc:title>
</cp:coreProperties>
</file>