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lds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rning gilds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awaking crie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ike at work and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I repai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becomes a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rom the heart we s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s of darkness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sweet chant they he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earth ar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joyous with the sou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's eternal bli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liest strain is thi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is, while life is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anticle divi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is th'eterna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ages lo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21:44:44Z</dcterms:created>
  <dc:creator>Gary Wintergerst</dc:creator>
  <dc:description/>
  <dc:language>en-US</dc:language>
  <cp:lastModifiedBy>Gary Wintergerst</cp:lastModifiedBy>
  <cp:lastPrinted>1995-07-13T19:38:40Z</cp:lastPrinted>
  <dcterms:modified xsi:type="dcterms:W3CDTF">1999-11-25T22:04:26Z</dcterms:modified>
  <cp:revision>3</cp:revision>
  <dc:subject/>
  <dc:title>No Slide Title</dc:title>
</cp:coreProperties>
</file>