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red Pratt Green, 1970 (Is. 6:8)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Hope Publishing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 our Maker cr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ny, when they hear God'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sure where their vocation l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many shrink from such a ch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o can serve a God so p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claim to speak in such a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doubt makes every step un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lf confuses every ai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et, believing God who cal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s what we are and still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ast defeats, our future fa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are to answer: Lord, se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are called God purif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aily gives us strength to b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houghts, our skills, our energ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tself to this one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51:5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3-06-14T15:05:23Z</dcterms:modified>
  <cp:revision>5</cp:revision>
  <dc:subject/>
  <dc:title>No Slide Title</dc:title>
</cp:coreProperties>
</file>