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Your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Called 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in Christ you set us f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fe to live, your joy to sh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your Spirit's liber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urn from guilt and dull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 all that faith can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ove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your love has called us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, by love, for love were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ving likeness still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marred, dishonored, disobey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all our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all to hear, your love to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with self-inflicted p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roken trust and chosen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f-free, halfbound by inner ch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ocial forces swept a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powers and systems close conf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eeking hope for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in Christ you call 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receive us as your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rough some merit, right, or 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by your gracious love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ain to glimpse your mercy s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nd you kneeling at 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ake the towel, and break th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umble us, and call us frie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er and serve till all are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how grandly love inte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till all creation 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ll all worlds, to crown all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49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3Z</dcterms:modified>
  <cp:revision>4</cp:revision>
  <dc:subject/>
  <dc:title>No Slide Title</dc:title>
</cp:coreProperties>
</file>