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y in a Mang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1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y in a manger, no crib for a b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ttle Lord Jesus laid down his sweet he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ars in the sky looked down where he 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ttle Lord Jesus, asleep on the h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attle are lowing, the baby awak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little Lord Jesus, no crying he mak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ee, Lord Jesus, look down from the sk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ay by my cradle till morning is n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near me, Lord Jesus, I ask thee to st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by me forever, and love me, I pr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all the dear children in thy tender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t us for heaven to live with thee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6:10:0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37Z</dcterms:modified>
  <cp:revision>2</cp:revision>
  <dc:subject/>
  <dc:title>No Slide Title</dc:title>
</cp:coreProperties>
</file>