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k Ye What Grea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ng I Know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6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k ye what great thing I kn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delights and stirs me so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the high reward I win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se the name I glory in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Christ, the crucifi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defeats my fiercest foes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consoles my saddest woes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revives my fainting he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ing all its hidden smart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Christ, the crucifi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is life in life to m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the death of death will b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will place me on his r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countless hosts of light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Christ, the crucifi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at great thing I kn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delights and stirs me so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in him who died to sa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m who triumphed o'er the grav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Christ, the crucifi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9T19:09:26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4:17Z</dcterms:modified>
  <cp:revision>3</cp:revision>
  <dc:subject/>
  <dc:title>No Slide Title</dc:title>
</cp:coreProperties>
</file>