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a Song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nts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a song of the saints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tient and brave and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iled and fought and lived and di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they loved and kne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was a doctor, and one was a qu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was a shepherdess on the gr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ere all of them saints of God, and I me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elping, to be one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loved their Lord so dear, so d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love made them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followed the right for Jesus' s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hole of their good lives 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was a soldier, and one was a pri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was slain by a fierce wild b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's not any reason, no, not the l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I shouldn't be one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lived not only in ages p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hundreds of thousands st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is bright with the joyous sai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love to do Jesus' w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an meet them in school, on the street, in the st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urch, by the sea, in the house next do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are saints of God, whether rich or p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mean to be one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28:36Z</dcterms:created>
  <dc:creator>Gary Wintergerst</dc:creator>
  <dc:description/>
  <dc:language>en-US</dc:language>
  <cp:lastModifiedBy>Gary Wintergerst</cp:lastModifiedBy>
  <cp:lastPrinted>1996-01-02T14:11:44Z</cp:lastPrinted>
  <dcterms:modified xsi:type="dcterms:W3CDTF">1999-11-25T22:13:02Z</dcterms:modified>
  <cp:revision>5</cp:revision>
  <dc:subject/>
  <dc:title>No Slide Title</dc:title>
</cp:coreProperties>
</file>