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iyahambra / Caminand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outh Af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,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, vamos, caminand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mos, caminando en l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z de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 our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 our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for the Lord is, for the 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, singing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, singing, we are singing for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, koo ka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, hahm buh, see yah hahm bu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hm buh, see yah hahm buh koo 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3T05:38:51Z</dcterms:modified>
  <cp:revision>28</cp:revision>
  <dc:subject/>
  <dc:title>In His Time</dc:title>
</cp:coreProperties>
</file>