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Be Glorifi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5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Bob Kilpatric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8 Lorenz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lives,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glorified, be glorifi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lives,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glorified to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homes,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glorified, be glorifi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homes,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glorified to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church,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glorified, be glorifi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church,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glorified to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r world,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glorified, be glorifi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r world,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glorified to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3T03:35:43Z</dcterms:modified>
  <cp:revision>13</cp:revision>
  <dc:subject/>
  <dc:title>A Shield About Me</dc:title>
</cp:coreProperties>
</file>