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ua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mpson &amp; Randy Scrug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, 1996 Whole Armor/Full Arm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573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prepare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a sanctu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and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ed and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anksgi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a l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uary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07T05:31:49Z</dcterms:modified>
  <cp:revision>16</cp:revision>
  <dc:subject/>
  <dc:title>A Shield About Me</dc:title>
</cp:coreProperties>
</file>