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Sh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ary Alan Smith (Isa 60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amut Music Produ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rise, shine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sh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your light has come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light has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nd the glory of the Lor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lory 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s risen upon you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risen upo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0:13:39Z</dcterms:modified>
  <cp:revision>15</cp:revision>
  <dc:subject/>
  <dc:title>A Shield About Me</dc:title>
</cp:coreProperties>
</file>