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-Chil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hirley Erena Murray (Matt. 2:1-1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-Child, earth-Child, go between of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Child, Christ Child, heaven's lightning r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year, this year, let the day arr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hristmas comes for everyone, everyone ali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et child, beat child, no place left to g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rt child, used child, no one wants to kn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year, this year, let the day arr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hristmas comes for everyone, everyone ali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own child, old child, memory full of y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d child, lost child, story told in t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year, this year, let the day arr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hristmas comes for everyone, everyone ali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ared child, spoiled child, having, wanting m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se child, faith child, knowing joy in st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year, this year, let the day arr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hristmas comes for everyone, everyone ali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-for-peace Child, God's stupendous sig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wn-to-earth Child, Star of stars that sh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year, this year, let the day arr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hristmas comes for everyone, everyone ali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23:54:38Z</dcterms:modified>
  <cp:revision>51</cp:revision>
  <dc:subject/>
  <dc:title>A Shield About Me</dc:title>
</cp:coreProperties>
</file>