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Babylonian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ve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wald Bash (Ps. 137:1-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4 American Lutheran Chur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Babylonian river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at down in grief and wep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ng our harps upon the willow, mourned for Zion when we slep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our captors in derision did require of 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e sat with staring vision, and the days were hard and 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we sing the Lord's song in a strange and bitter la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our voices veil the sorrow?  Lord God, help your holy b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35:00Z</dcterms:modified>
  <cp:revision>20</cp:revision>
  <dc:subject/>
  <dc:title>In His Time</dc:title>
</cp:coreProperties>
</file>