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piri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 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ephen R. Ad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Pilot Point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pirit of the Lord is, there is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pirit of the Lord is, ther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comfort in life's darkest hour; ther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help and power in the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pirit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18:22:23Z</dcterms:modified>
  <cp:revision>80</cp:revision>
  <dc:subject/>
  <dc:title>A Shield About Me</dc:title>
</cp:coreProperties>
</file>