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296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296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!  Come!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body Worship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296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7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296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Natalie Sleet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1 Cokesbu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ship and rememb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blessings great and sm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o God an offering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w your thanks for all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!  Come!  Everybody worship with a prayer or song of prais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Vengan todos adoremos con cantos y oraciIó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!  Come!  Everybody worship!  Worship God alway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Vengan todos adoremos a neustro Seño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ship and rememb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Jesus long ag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ught us how to talk to Go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thing we shoul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now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!  Come!  Everybody worship with a prayer or song of prais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Vengan todos adoremos con cantos y oraciIó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!  Come!  Everybody worship!  Worship God alway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Vengan todos adoremos a neustro Seño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ship and rememb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God is like a l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wing you the way to go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 burning brigh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!  Come!  Everybody worship with a prayer or song of prais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Vengan todos adoremos con cantos y oraciIó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!  Come!  Everybody worship!  Worship God alway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Vengan todos adoremos a neustro Seño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!  Come!  Everybody worship with a prayer or song of prais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Vengan todos adoremos con cantos y oraciIó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!  Come!  Everybody worship!  Worship God alway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Vengan todos adoremos a neustro Seño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ship and rememb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keep the Sabbath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a rest and think of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t your work aw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!  Come!  Everybody worship with a prayer or song of prais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Vengan todos adoremos con cantos y oraciIó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!  Come!  Everybody worship!  Worship God alway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Vengan todos adoremos a neustro Seño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ship and rememb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’s unending c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aching out to love and help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ople everywher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!  Come!  Everybody worship with a prayer or song of prais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Vengan todos adoremos con cantos y oraciIó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!  Come!  Everybody worship!  Worship God alway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Vengan todos adoremos a neustro Seño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4-01T00:17:13Z</dcterms:modified>
  <cp:revision>41</cp:revision>
  <dc:subject/>
  <dc:title>Walk With Me</dc:title>
</cp:coreProperties>
</file>