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ng Is Lo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kn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amuel Cros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my plain bel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ong my heart outpou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was pain nor gr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was love lik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riend, in whose sweet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ll my days could gladly spe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ll my days could gladly sp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ng is love un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avior's lov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the loveless sh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ight lovel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o am I, that for my s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should take frail flesh and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should take frail flesh and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eft the richest thr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best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rist as flesh and b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refused to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O my Friend, my Friend ind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t my need did life exp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t my need did life exp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they threw down palm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weetest praises sa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s and glad psal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treets and markets ra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"Crucify!" is all their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lood and death they thirst and cr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lood and death they thirst and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s my Sovereign d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akes this rage and spit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gave new strength to r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d the gift of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injuries! Yet they at the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mselves displease, and 'gainst Christ ri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mselves displease, and 'gainst Christ 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16:16:51Z</dcterms:modified>
  <cp:revision>40</cp:revision>
  <dc:subject/>
  <dc:title>A Shield About Me</dc:title>
</cp:coreProperties>
</file>