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imothy Dudley-Smith (Ps. 9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3 Hope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to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 whom wonders bel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his triumph and tell of his pow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to the Lord a new s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o the ends of the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is salvation is show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he remembers his mercy and tru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hanging in love to his 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and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blish his praises abro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voices in chorus, with trumpet and h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ound for the joy of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with the hills and the se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nders of praise to prol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judgment and justice he comes to the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to the Lord a new s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6-09T13:56:06Z</dcterms:modified>
  <cp:revision>15</cp:revision>
  <dc:subject/>
  <dc:title>Give Thanks</dc:title>
</cp:coreProperties>
</file>