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Our Heart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Confitemini Domin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cque Berthier (Ps. 137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our hearts with y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, O Lord are ho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our hearts with y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fitemini Domino quoniam bon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fitemini Domino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our hearts with y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, O Lord are ho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fitemini Domino quoniam bon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our hearts with y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fitemini Domino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5T05:38:24Z</dcterms:modified>
  <cp:revision>18</cp:revision>
  <dc:subject/>
  <dc:title>No Slide Title</dc:title>
</cp:coreProperties>
</file>