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Giving Brea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6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icky Mana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4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giving br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our hearts are transformed an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fe-giving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share in a life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giving br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our hearts are transformed an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fe-giving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share in a life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together we celebrate lif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a people gather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together wit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as our hea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-giving w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ife-giving brea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giving br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our hearts are transformed an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fe-giving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share in a life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ing and seeing the goodness of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ds us to bles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at all ti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ing and seeing the fruit of the vi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-giving jo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ife-giving win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giving br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our hearts are transformed an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fe-giving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share in a life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ansform our lives wit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eart that is n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broken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bless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ansform our hearts wit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eart that is tru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giving hop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offer to you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giving br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our hearts are transformed an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fe-giving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share in a life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ed now to witness your love, so div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branches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v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ed to be servants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ed to beco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lt for the ear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ght for the worl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0T18:31:50Z</dcterms:modified>
  <cp:revision>27</cp:revision>
  <dc:subject/>
  <dc:title>Walk With Me</dc:title>
</cp:coreProperties>
</file>