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Made Me Gla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7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Leona Von Brethors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6 Maranatha Praise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enter his gates with thanksgiving in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enter his gates with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say, “This is the day that the Lord has made.”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rejoice for he ha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me gl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made me gl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made me gl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rejoice for he ha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me gl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made me gl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made me gl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rejoice for he ha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me gl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1T19:09:20Z</dcterms:modified>
  <cp:revision>38</cp:revision>
  <dc:subject/>
  <dc:title>Walk With Me</dc:title>
</cp:coreProperties>
</file>