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ing Spiri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The Hymn Society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ing Spirit, loving Spirit, you have chosen me to b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drawn me to your wonder you have set your sign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mother you enfold me, hold my life within your 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d me with your very body, form me of your flesh and b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father you protect me, teach me the discerning ey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ist me up upon your shoulder, let me see the world from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iend and lover, in your closeness I am known and held and blesse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promise is my comfort, in your presence I may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ing Spirit, loving Spirit, you have chosen me to b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drawn me to your wonder you have set your sign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0T01:04:08Z</dcterms:modified>
  <cp:revision>85</cp:revision>
  <dc:subject/>
  <dc:title>A Shield About Me</dc:title>
</cp:coreProperties>
</file>