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lbert E. Brum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0 Albert E. Brumley &amp; S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glad morning when this life is o’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home on God’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stial sh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, 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die, halleluja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hadows of this life have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bird from prison bars has fl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, 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die, halleluja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few more weary days and th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land where joys shall never 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, 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die, halleluja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fly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1:10:44Z</dcterms:modified>
  <cp:revision>51</cp:revision>
  <dc:subject/>
  <dc:title>Walk With Me</dc:title>
</cp:coreProperties>
</file>