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 Me, O Go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ty Haugen (Ps. 2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6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 me, 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want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f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eath into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7T05:56:43Z</dcterms:modified>
  <cp:revision>19</cp:revision>
  <dc:subject/>
  <dc:title>A Shield About Me</dc:title>
</cp:coreProperties>
</file>