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Lor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Ris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1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om Colvi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69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Lord is ris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Lord is ris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Lord is ris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Lord is ris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s conquered deat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s conquered deat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s conquered deat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s conquered deat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 has done its wor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 has done its wor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 has done its wor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 has done its wor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King of king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King of king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King of king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King of king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Lord of lord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Lord of lord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Lord of lord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Lord of lord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world is hi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world is hi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world is hi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world is hi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worship him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worship him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worship him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worship him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our Lord is ris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our Lord is ris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our Lord is ris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our Lord is ris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9T05:23:32Z</dcterms:modified>
  <cp:revision>76</cp:revision>
  <dc:subject/>
  <dc:title>A Shield About Me</dc:title>
</cp:coreProperties>
</file>