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ildren Bel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Ritchi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ere children bel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d as part of the worshiping th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God's Word, bread and cup, prayer, and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ere children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13:18Z</dcterms:modified>
  <cp:revision>26</cp:revision>
  <dc:subject/>
  <dc:title>In His Time</dc:title>
</cp:coreProperties>
</file>