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Hunger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2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ylvia G. Dunst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hunger, gather gladly; holy manna is our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from wilderness and wandering. Here, in truth we shall be f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that yearn for days of fullness, all around u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your f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 the grace etern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 that G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g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hunger, never strangers; seeker, be a welcome gu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from restlessness and roaming.  Here,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, we keep the fe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those who from this table live their liv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ratitu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 the grace etern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 that G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g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hunger, sing together; Jesus Christ is living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from loneliness and longing.  Here in peace, we have been l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re those who from this table live their lives in gratitu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 the grace etern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 that G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g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2T04:54:02Z</dcterms:modified>
  <cp:revision>88</cp:revision>
  <dc:subject/>
  <dc:title>A Shield About Me</dc:title>
</cp:coreProperties>
</file>