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Shepherd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l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here's a star in the East on Christmas morn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shepherd, and foll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t will lead to the place where </a:t>
            </a:r>
            <a:br>
              <a:rPr sz="4400"/>
            </a:b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he Christ was born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shepherd, and fol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, follow, rise up, shepherd and foll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 the star of Bethle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shepherd, and fol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f you take good heed to the angel's words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shepherd, and foll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you'll forget your flocks, you'll forget your herds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shepherd, and fol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, follow, rise up, shepherd and foll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 the star of Bethle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shepherd, and fol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4T03:52:39Z</dcterms:modified>
  <cp:revision>53</cp:revision>
  <dc:subject/>
  <dc:title>A Shield About Me</dc:title>
</cp:coreProperties>
</file>