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ophy Conty &amp; Naomi Baty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 and Lord of lords, glory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 and Lord of lords, glory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Prince of Peace, glory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Prince of Peace, glory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0T05:33:28Z</dcterms:modified>
  <cp:revision>33</cp:revision>
  <dc:subject/>
  <dc:title>A Shield About Me</dc:title>
</cp:coreProperties>
</file>