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Perdón, Señor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3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rge Lockward, R. Martínez (trans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6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Por tantas injusticias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Por tanta indiferencia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For grievance and injustice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 Lord.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Aloofness and indifference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Por todos nuestras faltas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Por nuestra rebeldia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For weakness and transgressio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Resistance and rebellio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En tu missericordia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u divina gracia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In your eternal mercy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In your sustaining grace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For grievance and injustice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Aloofness and indifference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For weakness and transgressio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Resistance and rebellio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In your eternal mercy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In your sustaining grace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Por tantas injusticias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Por tanta indiferencia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Por todos nuestras faltas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Por nuestra rebeldia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En tu missericordia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u divina gracia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6T02:23:25Z</dcterms:modified>
  <cp:revision>97</cp:revision>
  <dc:subject/>
  <dc:title>A Shield About Me</dc:title>
</cp:coreProperties>
</file>