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ddie Espinosa (Isa. 6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Mercy / Vineyard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potter, I am the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, this is what I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potter, I am the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, this is what I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ke it ever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my heart, O God, may I b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7T04:54:14Z</dcterms:modified>
  <cp:revision>9</cp:revision>
  <dc:subject/>
  <dc:title>No Slide Title</dc:title>
</cp:coreProperties>
</file>