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ke Up This Morning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8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frican Amer. Spriitu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Oh, Jesus is the captain in your mind, when you keep it stayed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yed on Jes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Jesus is the captain in your mind, when you keep it stayed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yed on Jes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Jesus is the captain in your mind, when you keep it stayed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yed on Jes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Hallelu,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Hallelu,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Oh, I woke up this morning with my mind, and it was stayed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yed on Jes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woke up this morning with my mind, and it was stayed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yed on Jes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woke up this morning with my mind, and it was stayed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yed on Jes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Hallelu,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Hallelu,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Oh, can't hate your neighbor in your mind, if you keep it stayed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yed on Jes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can't hate your neighbor in your mind, if you keep it stayed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yed on Jes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can't hate your neighbor in your mind, if you keep it stayed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yed on Jes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Hallelu,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Hallelu,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77112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Oh, makes you love everybody with your mind, when you keep it stayed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yed on Jes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makes you love everybody with your mind, when you keep it stayed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yed on Jes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771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makes you love everybody with your mind, when you keep it stayed,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yed on Jes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Hallelu,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Hallelu,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Oh, the devil can't catch you in your mind, if you keep it stayed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yed on Jes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the devil can't catch you in your mind, if you keep it stayed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yed on Jes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the devil can't catch you in your mind, if you keep it stayed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yed on Jes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Hallelu,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Hallelu,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2T05:59:27Z</dcterms:modified>
  <cp:revision>39</cp:revision>
  <dc:subject/>
  <dc:title>A Shield About Me</dc:title>
</cp:coreProperties>
</file>