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Cu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t to see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ach out and touch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 that we love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ar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lis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5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nt to see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04:48Z</dcterms:modified>
  <cp:revision>43</cp:revision>
  <dc:subject/>
  <dc:title>A Shield About Me</dc:title>
</cp:coreProperties>
</file>