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 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nie P. Fergu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wonderful salv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ways see Christ's f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perfect habit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quiet resting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, holy quie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ssuredness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tormy sea, Jesus speaks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illows cease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s are flowing like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the Comforter has c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bides with us for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s the trusting heart a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, holy quie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ssuredness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tormy sea, Jesus speaks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illows cease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life and health and gla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is heavenly Gu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nished unbelief and sa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d our weariness to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, holy quie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ssuredness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tormy sea, Jesus speaks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illows cease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rain that falls from hea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sunlight from the sk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e Spirit too is gi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on us from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, holy quie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ssuredness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tormy sea, Jesus speaks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illows cease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a fruitful field is grow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fruit of righteous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streams of life are flow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nely wilder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, holy quie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ssuredness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tormy sea, Jesus speaks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illows cease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3T20:44:43Z</dcterms:modified>
  <cp:revision>6</cp:revision>
  <dc:subject/>
  <dc:title>No Slide Title</dc:title>
</cp:coreProperties>
</file>