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e Great Peac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hread I wea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ep I d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one I car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all I bou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ail I dri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earl I st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lag I wa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ote I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ot I shap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ire I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ence I leap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one I kn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eed I nur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ift I m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I rai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earth I t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eck I writ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arch I jo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aith I stat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ruth I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small par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ne small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ne heart's be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e great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17:07:12Z</dcterms:modified>
  <cp:revision>42</cp:revision>
  <dc:subject/>
  <dc:title>I Am the God That Healeth Thee</dc:title>
</cp:coreProperties>
</file>