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 Lor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Sanctus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5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d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Lord of power and m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,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 are full of your glo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glory to your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glory to your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, bless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he who comes in the name 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, bless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he who comes in the name 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in the high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in the high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30T03:46:21Z</dcterms:modified>
  <cp:revision>22</cp:revision>
  <dc:subject/>
  <dc:title>Walk With Me</dc:title>
</cp:coreProperties>
</file>