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ob Gillman (Col. 3:1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7 Kingway's Thank You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, Lord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cords that canno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brok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, Lord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, Lord, bind us together in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only one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only one K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only one bo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s why we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, Lord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cords that canno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brok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, Lord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us together, Lord, bind us together in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0T03:49:11Z</dcterms:modified>
  <cp:revision>36</cp:revision>
  <dc:subject/>
  <dc:title>In His Time</dc:title>
</cp:coreProperties>
</file>