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'll Know We Are Christians by Our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eter Schol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6 F.E.L. Pub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the Father, from whom all things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praise to Christ Jesus, God's only s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praise to the Spirit, who makes us o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'll know we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ians by our lov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ur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they'll know we ar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Christians by 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the Spirit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the Spirit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pray that all unity may one day be restore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'll know we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ians by our lov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ur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they'll know we ar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Christians by 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alk with each other, we will walk h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alk with eac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ther, we will walk h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gether we'll spread the news that God is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a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'll know we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ians by our lov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ur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they'll know we ar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Christians by 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ork with each other, we will work sid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ork with each other, we will work sid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'll guard human dignity and save human prid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'll know we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ians by our lov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ur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they'll know we ar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Christians by 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6-09T14:47:32Z</dcterms:modified>
  <cp:revision>32</cp:revision>
  <dc:subject/>
  <dc:title>In His Time</dc:title>
</cp:coreProperties>
</file>