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Gonna Live So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Can Use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5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frican American Spiritual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gonna live so (live so) God can use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ywhere, Lord, anytime! (anytime!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gonna live so (live so) God can use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ywhere, Lord, anyti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gonna work so (work so) God can use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ywhere, Lord, anytime! (anytime!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gonna work so (work so) God can use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ywhere, Lord, anyti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gonna pray so (pray so) God can use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ywhere, Lord, anytime! (anytime!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gonna pray so (pray so) God can use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ywhere, Lord, anyti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gonna sing so (sing so) God can use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ywhere, Lord, anytime! (anytime!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gonna sing so (sing so) God can use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ywhere, Lord, anyti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00:46Z</dcterms:created>
  <dc:creator>Gary Wintergerst</dc:creator>
  <dc:description/>
  <dc:language>en-US</dc:language>
  <cp:lastModifiedBy>Gary Wintergerst</cp:lastModifiedBy>
  <cp:lastPrinted>1996-01-02T13:57:40Z</cp:lastPrinted>
  <dcterms:modified xsi:type="dcterms:W3CDTF">2001-03-07T04:54:40Z</dcterms:modified>
  <cp:revision>10</cp:revision>
  <dc:subject/>
  <dc:title>No Slide Title</dc:title>
</cp:coreProperties>
</file>