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Us 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3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2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ty Haugen (Matt. 5:1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n this place new light is stream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s the darkness vanished a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in this space our fears and our dreaming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ught here to you in the light of this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us in the lost and forsak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us in the blind and the l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 to us now, and we shall awa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arise at the sound of 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young our lives are a myste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old who yearn for your f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been sung throughout all of hist'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ed to be light to the whole human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us in the rich and the haught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us in the proud and the str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a heart so meek and so lowl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the courage to enter the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we will take the wine and the wat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we will take the bread of new bi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you shall call your sons and your daughte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 us anew to be salt for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to drink the wine of compass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to eat the bread that is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urish us well, and teach us to fash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s that are holy and hearts that are tru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in the dark of buildings confin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in some heaven, light years away, bu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n this place the new light is shin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s the Kingdom, now is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us in and hold us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us in and make us your 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us in--all peoples toge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re of love in our flesh and our b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12T20:39:16Z</dcterms:modified>
  <cp:revision>10</cp:revision>
  <dc:subject/>
  <dc:title>A Shield About Me</dc:title>
</cp:coreProperties>
</file>