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thy Town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rode into Jerusalem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l the people sang their praise to him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ame to town upon a donkey's back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emed so lowly but he's Lord 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fac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ear the people say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today.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a faithful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it all night 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verybody brought their hopes and dream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ife just isn't always what it seem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Need somebody who can help us b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iberated from captivity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ear the people say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today.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a faithful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it all night 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 Hear the people say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today.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a faithful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it all night 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03:33:15Z</dcterms:modified>
  <cp:revision>68</cp:revision>
  <dc:subject/>
  <dc:title>A Shield About Me</dc:title>
</cp:coreProperties>
</file>