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 to a quie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art from the world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frantic p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y, reflect, and seek God'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pray with me 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gentle s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op of a hill i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lil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ardens like Gethsema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day with thoughts of the countless way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's steadfast love blesses all our d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in with me in silent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say, in words whispered from your sou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elings and actions you can't contro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needs to be mad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 to a quie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's loving arms waiting to emb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ose who come in hope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6T15:25:04Z</dcterms:modified>
  <cp:revision>58</cp:revision>
  <dc:subject/>
  <dc:title>I Am the God That Healeth Thee</dc:title>
</cp:coreProperties>
</file>