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1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cque Berthier (Ps. 103: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4 Les Presses de Taiz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e Lord my soul and bless God's hol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e Lord my soul who leads me into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15:20:49Z</dcterms:modified>
  <cp:revision>20</cp:revision>
  <dc:subject/>
  <dc:title>A Shield About Me</dc:title>
</cp:coreProperties>
</file>