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reedom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reedom!  O freedom!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reedom ov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fore I'd be a sl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be buried in my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home to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mo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mo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moaning ov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fore I'd be a sl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be buried in my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home to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wee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wee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weeping ov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fore I'd be a sl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be buried in my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home to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si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si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singing ov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fore I'd be a sl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be buried in my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home to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shou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shou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shouting ov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fore I'd be a sl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be buried in my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home to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pra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pra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praying ov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fore I'd be a sl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be buried in my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home to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2T02:20:03Z</dcterms:modified>
  <cp:revision>51</cp:revision>
  <dc:subject/>
  <dc:title>I Am the God That Healeth Thee</dc:title>
</cp:coreProperties>
</file>