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, River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G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H. Troe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Oxford University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, River, Spirit, 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p ov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p ove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-carve the depths your fingers trac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culpting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culpting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, River, Spirit, 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p ov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p ove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-carve the depths your fingers trac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culpting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culpting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8T05:48:42Z</dcterms:modified>
  <cp:revision>19</cp:revision>
  <dc:subject/>
  <dc:title>Walk With Me</dc:title>
</cp:coreProperties>
</file>