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the Day-to-Da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Thornbur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9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the day-to-day, among the “A” through “Z,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world of miracles which God calls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lace has its place, museums play their p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ildren’s  simpl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made gifts are precious, Godly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rgeon sews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, the plumber tends the leak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o can match the loving kiss upon 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r-stained cheek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xcavating God unearths new hope each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usts the miracle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to us, the soul-filled c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2:57:18Z</dcterms:modified>
  <cp:revision>11</cp:revision>
  <dc:subject/>
  <dc:title>Walk With Me</dc:title>
</cp:coreProperties>
</file>