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lap Your Hand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028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Handt Hanson &amp; Paul Murakami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(Ps. 47:1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91 Changing Church Foru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lap your hands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lap your hands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g a new song in </a:t>
            </a: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elebration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lap your hands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lap your hands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g a new song in </a:t>
            </a: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elebration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lap your hands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lap your hands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is gre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praise our God with song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is gre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praise our God with song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lap your hands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lap your hands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g a new song in </a:t>
            </a: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elebration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lap your hands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lap your hands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g a new song in </a:t>
            </a: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elebration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lap your hands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lap your hands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5T17:12:58Z</dcterms:created>
  <dc:creator>Gary Wintergerst</dc:creator>
  <dc:description/>
  <dc:language>en-US</dc:language>
  <cp:lastModifiedBy>Gary Wintergerst</cp:lastModifiedBy>
  <cp:lastPrinted>1995-08-30T07:48:42Z</cp:lastPrinted>
  <dcterms:modified xsi:type="dcterms:W3CDTF">2001-02-03T20:30:14Z</dcterms:modified>
  <cp:revision>9</cp:revision>
  <dc:subject/>
  <dc:title>As the Deer</dc:title>
</cp:coreProperties>
</file>