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Bread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W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raham Kendri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Make Wa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bread, here is wi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ith us: H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e bread; taste the wi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ith us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grace, here is pe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ith us: H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 his grace; find his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st on Jesus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ead there is heal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cup there’s lif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moment by the Spirit Christ is with us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e are, joined in 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ith us:  H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ll proclaim till he comes Jesus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ead there is heal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cup there’s lif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moment by the Spirit Christ is with us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04:45:11Z</dcterms:modified>
  <cp:revision>34</cp:revision>
  <dc:subject/>
  <dc:title>Walk With Me</dc:title>
</cp:coreProperties>
</file>