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Claims You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tanley M. Far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1 Stanley M. Far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iel, Daniel,”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ims you, God helps you, protects you, and loves you,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iel, Daniel,”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ims you, God helps you, protects you, and loves you,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his day do all agre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child of God you’ll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iel, Daniel,”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ims you, God helps you, protects you, and loves you,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your family love you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, we vow to help your faith to g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iel, Daniel,”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ims you, God helps you, protects you, and loves you,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to say this day that we will help you on your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iel, Daniel,”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ims you, God helps you, protects you, and loves you,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f you should tire o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y then we will sing this lulla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iel, Daniel,”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ims you, God helps you, protects you, and loves you,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iel, Daniel,”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ims you, God helps you, protects you, and loves you,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5T04:48:42Z</dcterms:modified>
  <cp:revision>15</cp:revision>
  <dc:subject/>
  <dc:title>Walk With Me</dc:title>
</cp:coreProperties>
</file>