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You, Lor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Laurie Klein (Ps. 35:9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8 House of Mercy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you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lift my vo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orship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y soul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joy, my K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at you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it be a sweet, sweet sound in your 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9T02:42:40Z</dcterms:modified>
  <cp:revision>26</cp:revision>
  <dc:subject/>
  <dc:title>A Shield About Me</dc:title>
</cp:coreProperties>
</file>