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joy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joy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lov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lov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peac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peac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faith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faith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Hop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of hope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is a gift from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is a gift fro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7T04:11:14Z</dcterms:modified>
  <cp:revision>105</cp:revision>
  <dc:subject/>
  <dc:title>A Shield About Me</dc:title>
</cp:coreProperties>
</file>