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red Pratt Gre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:  Lights of the c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us remember Christ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re lone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 neighbo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car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:  Little ones sl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us remember Christ is 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are neglect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 neighbo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car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:  Food on the t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s us remember Christ is our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re hung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 neighbo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shar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our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:  Here in our mee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remember Christ is our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may be strang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 neighbo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's a welco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our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06:41Z</dcterms:modified>
  <cp:revision>44</cp:revision>
  <dc:subject/>
  <dc:title>I Am the God That Healeth Thee</dc:title>
</cp:coreProperties>
</file>