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 (Matt. 5:3-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GIA Pub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the poor in spir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s is the kingdom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full of sorr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be conso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the lowly on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inherit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hunger and thir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have their f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show merc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y shall be thei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, the pure of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ll see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seek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are the children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ey who suffer in fait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 of God is thei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! Blessed a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are you. Rejoice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you who suffer ha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ecause of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and be glad, yours is the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for all 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7T04:55:28Z</dcterms:modified>
  <cp:revision>15</cp:revision>
  <dc:subject/>
  <dc:title>No Slide Title</dc:title>
</cp:coreProperties>
</file>