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raw Me Clos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k Founds (James 4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raw me close, closer, Lord,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around me fad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raw me close, closer, Lord,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esire to worship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5T05:42:10Z</dcterms:modified>
  <cp:revision>14</cp:revision>
  <dc:subject/>
  <dc:title>I Am the God That Healeth Thee</dc:title>
</cp:coreProperties>
</file>