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Gloria a Dio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Peruvian (Luke 2:1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en los ceilo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a Jesus Christ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Christ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al Espirit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to the Spiri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to Christ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to the Spiri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en los ceilo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a Jesus Christ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al Espirit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01:56Z</dcterms:modified>
  <cp:revision>16</cp:revision>
  <dc:subject/>
  <dc:title>As the Deer</dc:title>
</cp:coreProperties>
</file>