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285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God's People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20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Bryan Jeffery Leach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76 Fred Bock Music Co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God's people, the chosen of the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rn of the Spirit, established by the W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cornerstone is Christ alone, and strong in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we stan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et us live transparently and walk heart to heart and hand in ha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God's loved ones, the Bride of Christ, our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we have known it, the love of God outpour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let us learn how to return the gift of lov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ce given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et us share each joy and care and live with a zeal that pleases heav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the body of which the Lord is Hea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lled to obey Christ, now risen from the de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wills us be a family diverse, yet truly on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et us give our gifts to God and so shall God's work on earth be d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a temple, th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's dwelling pla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med in great weakness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cup to hold God's g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die alone, for on its own each ember loses fir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t joined in one the flame burns on to give warmth and light and to inspi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3T12:48:26Z</dcterms:created>
  <dc:creator>Gary Wintergerst</dc:creator>
  <dc:description/>
  <dc:language>en-US</dc:language>
  <cp:lastModifiedBy>Gary Wintergerst</cp:lastModifiedBy>
  <dcterms:modified xsi:type="dcterms:W3CDTF">2001-03-18T03:59:13Z</dcterms:modified>
  <cp:revision>23</cp:revision>
  <dc:subject/>
  <dc:title>In His Time</dc:title>
</cp:coreProperties>
</file>