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Need a Faith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81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John Thornbur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5 Abingdon Pres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need a faith so color blin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free from time worn lie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when we look from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ce to fac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ee the eyes of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need an ethic of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spec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 honest pledge of trus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when we share the deepest thing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feel the warmth of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need to act as well as speak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ee each other's swea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as we labor side by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d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do the work of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Christians, look for characte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not for shade of ski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as we rend the wall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rac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live the peace of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20:00:46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3-10T03:36:16Z</dcterms:modified>
  <cp:revision>36</cp:revision>
  <dc:subject/>
  <dc:title>I Am the God That Healeth Thee</dc:title>
</cp:coreProperties>
</file>