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 Beyond All Prais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0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ichael Perry (Heb 13:15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7 Jubilate Hym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 beyond all praising, we worship you toda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ing the love amazing that songs cannot repa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we can only wonder at every gift you se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blessings without number and mercies without en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lift our hearts before you and wait upon your W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onor and adore you, our great and mighty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hear, O gracious Savior, accept the lov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r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e who know your favor may serve you as our ki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ther our tomorrows be filled with good or i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triumph through our sorrows and rise to bless you still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arvel at your beauty and glory in your way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ke a joyful duty our sacrifice of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3T03:55:54Z</dcterms:modified>
  <cp:revision>14</cp:revision>
  <dc:subject/>
  <dc:title>A Shield About Me</dc:title>
</cp:coreProperties>
</file>