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lone Are Holy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Sólo Tú Eres Santo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7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t. 2 Jorge Lockwar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2000 Abingdon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cruz moriste y resucitast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ú me diste vida y muy pronto volverá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ur sins you suffered, died and resurrect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ing us salvation, giving us eternal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ólo tú eres santo, sólo tú eres dign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ú eres hermoso y maravillos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lone are holy; you alone are worth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filled with splendor and awesome wonder. 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rrama tu Espiritu y que tu luz brill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you Holy Spirit; may it shine upon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tu gloria llene ahora mismo este lug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your wondrous glory with its radiance fill this pl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lone are holy; you alone are worth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filled with splendor and awesome wond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ur sins you suffered, died and resurrect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ing us salvation, giving us eternal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lone are holy; you alone are worth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filled with splendor and awesome wond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you Holy Spirit; may it shine upon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your wondrous glory with its radiance fill this pl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ólo tú eres santo, sólo tú eres dign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ú eres hermoso y maravillos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cruz moriste y resucitast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ú me diste vida y muy pronto volverá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ólo tú eres santo, sólo tú eres dign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ú eres hermoso y maravillos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rrama tu Espiritu y que tu luz brill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tu gloria llene ahora mismo este lug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ólo tú eres santo, sólo tú eres dign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ú eres hermoso y maravillos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lone are holy; you alone are worth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filled with splendor and awesome wonder. 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0T05:55:52Z</dcterms:modified>
  <cp:revision>35</cp:revision>
  <dc:subject/>
  <dc:title>A Shield About Me</dc:title>
</cp:coreProperties>
</file>