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lease Enter My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t, Hossan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5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athy Townley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7 Abingdon Pr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lease enter my heart, hosann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lease lead my life to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entle Lamb of God, the Christ, the anointed 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't you enter my heart today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lease hear my prayer, hosann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se words that I need to s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entle Lamb of God, the Christ, the anointed 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't you enter my heart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tay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Jesus co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! Hosann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Jesus, come to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lease enter my heart, hosann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lease lead my life to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entle Lamb of God, the Christ, the anointed 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't you enter my heart today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lease hear my prayer, hosann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se words that I need to s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entle Lamb of God, the Christ, the anointed 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't you enter my heart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tay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Jesus co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! Hosann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Jesus, 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! Hosann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Jesus, come tod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to st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18:00:46Z</dcterms:created>
  <dc:creator>Gary Wintergerst</dc:creator>
  <dc:description/>
  <dc:language>en-US</dc:language>
  <cp:lastModifiedBy>Gary Wintergerst</cp:lastModifiedBy>
  <cp:lastPrinted>1996-01-02T13:57:40Z</cp:lastPrinted>
  <dcterms:modified xsi:type="dcterms:W3CDTF">2001-03-07T04:55:15Z</dcterms:modified>
  <cp:revision>13</cp:revision>
  <dc:subject/>
  <dc:title>No Slide Title</dc:title>
</cp:coreProperties>
</file>