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rvant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ard Gillard (Matt. 20: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Scripture in S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pilgrims on a journey; we're togeth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ere to help each other walk the mile and bear the l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the Christligh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in the nightti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f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my hand out to you, speak the peace you long t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eep when you are weeping; when you laugh I'll laugh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hare your joy and sorrow till we've seen this journey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ing to God in heaven, we shall fi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harmo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all we've known together of Christ's love and ag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let me serve you, let me be as Christ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hat I may have the grace to let you be my servant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be your servant, let me be as Christ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00:21Z</dcterms:modified>
  <cp:revision>26</cp:revision>
  <dc:subject/>
  <dc:title>In His Time</dc:title>
</cp:coreProperties>
</file>