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Are Some Things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May Not Know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47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Kenneth Morri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44 Martin and Morri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's love for me is like pure gol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s God is real for I can feel God in my sou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are some things I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not know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are some places I cannot go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I am sure of this one thi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God is real for I can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eel God deep withi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s, God is real, real in my soul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s God is real for God has washed  and made me whol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's love for me is like pure gol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s God is real for I can feel God in my sou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me folks may doubt, some folks may scor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can desert and leave me alon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as for me I'll take God's par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God is real and I can feel God in my hear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s, God is real, real in my soul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s God is real for God has washed  and made me whol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's love for me is like pure gol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s God is real for I can feel God in my sou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687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cannot tell just how you fel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7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Jesus took your sins awa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7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since that day, yes since that hou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7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has been real for I can feel God's holy pow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s, God is real, real in my soul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s God is real for God has washed  and made me whol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01T18:00:46Z</dcterms:created>
  <dc:creator>Gary Wintergerst</dc:creator>
  <dc:description/>
  <dc:language>en-US</dc:language>
  <cp:lastModifiedBy>Gary Wintergerst</cp:lastModifiedBy>
  <cp:lastPrinted>1996-01-02T13:57:40Z</cp:lastPrinted>
  <dcterms:modified xsi:type="dcterms:W3CDTF">2001-03-04T01:20:11Z</dcterms:modified>
  <cp:revision>11</cp:revision>
  <dc:subject/>
  <dc:title>No Slide Title</dc:title>
</cp:coreProperties>
</file>