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Dimens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ulian B. Ru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Julian B. Ru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the threats of dire predictions cause us to withdraw in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blazing phoenix spirit resurrect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urch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new dimensions, in the fa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anging w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lead the pilgrim peoples wandering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separate way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flood of starving people, warring factions and despai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lift the olive branches?  Who will light the flame of car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tand a worl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vided by our ow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lf-seeking sche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at we, your global village, might envision wider drea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n and we are woman, all persuasions, old and you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a gift in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on, each a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 to be su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rainbow, fiery pillar, leading where the eagles so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, ours the journey now and e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, now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4T03:59:54Z</dcterms:modified>
  <cp:revision>11</cp:revision>
  <dc:subject/>
  <dc:title>A Shield About Me</dc:title>
</cp:coreProperties>
</file>