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nor and Pra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1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willa Paris (Rev. 22:1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Ariose Music/Mt. Spring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eous and holy in all of your way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 before you with honor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to adore you for all of our day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 before you with honor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the heavens, how faithful you 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down upon us, O bright Morning St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eous and holy in all of your way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 before you with honor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ing the temple, the work of you gr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 before you with honor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to adore you for all of our day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 before you with honor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the heavens, how faithful you 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in our spirits, O bright Morning St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eous and holy in all of your way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 before you with honor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15:51:14Z</dcterms:modified>
  <cp:revision>23</cp:revision>
  <dc:subject/>
  <dc:title>A Shield About Me</dc:title>
</cp:coreProperties>
</file>