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by Faith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nry Alf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by faith, and not by sigh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gracious words we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spoke as none e'er spok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believe him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not touch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s and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follow where he tr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his promise we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, "My Lord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en, O Lord, our unbel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our faith abou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ll on you when you are n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ek where you are fou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n our life of faith is d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alms of clearer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behold you as you a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ull and endless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by faith, and not by sigh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gracious words we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spoke as none e'er spok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believe him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28:45Z</dcterms:modified>
  <cp:revision>53</cp:revision>
  <dc:subject/>
  <dc:title>I Am the God That Healeth Thee</dc:title>
</cp:coreProperties>
</file>