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I Adore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errye Coehlo (Matt. 6:9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2 Maranath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I ad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y my life befor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I lov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I ador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y my life befor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I lov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I ad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y my life befor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I lov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I ad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y my life befor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I lov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…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…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3T22:42:14Z</dcterms:modified>
  <cp:revision>8</cp:revision>
  <dc:subject/>
  <dc:title>Give Thanks</dc:title>
</cp:coreProperties>
</file>