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Lu Walker (Luke 2:1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5 Mary Lu Wal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Christmas candles, n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donkey, sheep, and c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rthday candles for the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alleluias 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waiting has beg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started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think of Christma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two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f humble shepherds, wh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wonder at the s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hild of Christmas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th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f heavenly harmon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singing "Peace on earth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blessed Savior's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e Advent candle, fou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f joy forever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Child in a stable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 of love that Christmas m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,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cold winter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dle, candle burning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Christma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28:32Z</dcterms:modified>
  <cp:revision>47</cp:revision>
  <dc:subject/>
  <dc:title>A Shield About Me</dc:title>
</cp:coreProperties>
</file>