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dmin. GIA Pub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Desca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and forever lives to challenge and to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se lives are messed or mangled, all who find religion stran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pres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idence of transformation in which God is known and s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while earth slumbers, Christ has risen where hope d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said and as he promised, as we doubted and den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moon embrace the blessing; let the sun sustain the che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confirm the rumor:  Christ is rise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for the people whom he died to love and sa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for the women bringing flower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race his gr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for disciples huddled in an upstairs ro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se word inspired creation can't be silenced by the to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to companion former friends who fear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sing loss and limitation where their faith had once burned b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emoan what is no longer, they expect no hopeful sig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hrist ends their conversation, breaking bread and sharing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and forever lives to challenge and to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se lives are messed or mangled, all who find religion stran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present making us what he has b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idence of transformation in which God is known and s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2-06-19T02:20:44Z</dcterms:modified>
  <cp:revision>76</cp:revision>
  <dc:subject/>
  <dc:title>A Shield About Me</dc:title>
</cp:coreProperties>
</file>