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munion Sett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a - Preface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United Methodist Hym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The United Meth. Publ. Ho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d - Great Amen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 Lord be with you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so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ift up your heart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them up to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et us give thanks to the Lord our Go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right to give our thanks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b - Sanctu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power and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your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is the one who com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nam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c - Memorial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lamation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ill come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3:56:39Z</dcterms:modified>
  <cp:revision>23</cp:revision>
  <dc:subject/>
  <dc:title>Walk With Me</dc:title>
</cp:coreProperties>
</file>