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ol Cymbala (John 17:22-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, Lord,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make u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love flow so the world wi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39:09Z</dcterms:modified>
  <cp:revision>32</cp:revision>
  <dc:subject/>
  <dc:title>In His Time</dc:title>
</cp:coreProperties>
</file>