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ful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n Struth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ords perm. Oxford Univ.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hopefulness, Lord of all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trust, ever childlike, no cares could destro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waking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us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bliss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break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eagerness, Lord of all fai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strong hands were skilled at the plan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th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labors, and give us,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trength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oon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kindliness, Lord of all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ands swift to welcome, your arms to embr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homing, and give us,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eve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gentleness, Lord of all cal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voic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tentment, whose presence is balm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sleeping, and give us,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eace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end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3T05:23:24Z</dcterms:modified>
  <cp:revision>54</cp:revision>
  <dc:subject/>
  <dc:title>I Am the God That Healeth Thee</dc:title>
</cp:coreProperties>
</file>