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I Lift Your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ame on High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88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Rick Found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9 Maranatha Praise, Inc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I lift your name on high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I love to sing your prais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m so glad you're in my lif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m so glad you came to save 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came from heaven to earth to show the wa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he earth to the cros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debt to pa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he cross to the gra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he grave to the sk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I lift your name on hig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12T23:14:06Z</dcterms:modified>
  <cp:revision>45</cp:revision>
  <dc:subject/>
  <dc:title>A Shield About Me</dc:title>
</cp:coreProperties>
</file>