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to You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arcia Grindal (Deut., Ps.)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Selah Publishing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to you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ck who gave us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rejoicing sing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, 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ongs be raised, in joyful hymns, our feast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ndered far from h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in a desert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ielded with your love our fearful pilgrim b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kept us sa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your arms and sheltered us agains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ear us through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agle to her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ises on her wings and bears us toward the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ide the vaul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ight and air and trust in your unfailing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eternal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ide within your w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verlasting arms to whom our praises 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is tru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ay is just, you are the God in whom we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9:04:12Z</dcterms:modified>
  <cp:revision>11</cp:revision>
  <dc:subject/>
  <dc:title>A Shield About Me</dc:title>
</cp:coreProperties>
</file>