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t to the Lor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7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rlene Zsche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Darlene Zschech/Hillsong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t to the Lord, all the earth, let us 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wer and majesty, praise to the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untains bow down and the seas will roar at the sound of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for joy at the work of your han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ever I'll love you, forever I'll st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compares to the promises I have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09T14:07:46Z</dcterms:modified>
  <cp:revision>33</cp:revision>
  <dc:subject/>
  <dc:title>A Shield About Me</dc:title>
</cp:coreProperties>
</file>