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Rejoice in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Jubilate Servit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 Berthier (Ps. 10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rejoice in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serve your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 De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mnist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te Domi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aetiti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 Deo omnist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te Domino in laetiti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rejoice in God;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your God, serve your God, 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gladly serve your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5T00:44:43Z</dcterms:modified>
  <cp:revision>23</cp:revision>
  <dc:subject/>
  <dc:title>A Shield About Me</dc:title>
</cp:coreProperties>
</file>