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 of Wonders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4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ane Parker Hub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0 Jane Parker Hub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 of wonders, here reveale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’s covenant with us is seal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ong before we know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pr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’s love enfolds us every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n this sacrament we s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’s grace unbound, for all, for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respond with joyful pra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loving service all our day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child of God, though young or ol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elcome now into Christ’s fol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now with us God’s loving ca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all our joys and sorrows sh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we our vow of faith ren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tch wide our sights to global vi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laim with Christian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r and n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arger family held d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25T04:34:57Z</dcterms:modified>
  <cp:revision>13</cp:revision>
  <dc:subject/>
  <dc:title>Walk With Me</dc:title>
</cp:coreProperties>
</file>