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know our fears and sa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us with your peace and glad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all comfort, fill our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ain and joy behol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your grace is still unfold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all your visio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strength to love each 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ister, every broth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all kindness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gu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know eac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t and fee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all your way of heal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compassio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each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09:52Z</dcterms:modified>
  <cp:revision>17</cp:revision>
  <dc:subject/>
  <dc:title>In His Time</dc:title>
</cp:coreProperties>
</file>