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ian Wren (Matt. 25:31-4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underneath the bridges in our wint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ties homeless people sl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n decaying houses little children shiver, crying at the c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r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eople in the lineup, anxious for a handout, aching for a jo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nsioners and strikers sing and march together, wanting something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r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wo or three are gathered, ready to be altered, sharing win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ose who hear the preaching change their way of living, find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r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0:59:48Z</dcterms:modified>
  <cp:revision>32</cp:revision>
  <dc:subject/>
  <dc:title>I Am the God That Healeth Thee</dc:title>
</cp:coreProperties>
</file>