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280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Chris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Scott Wesley Brown &amp; David Hampt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©1996 New Spring Publishing, Inc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heart, one Spirit, one voice to prais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oal, one vision:  To see you exalt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is we give our liv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1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you glor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Christ.  One goal, one visio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you exalt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, we are th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, we are the body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heart, one Spirit, one voice to prais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oal, one vision:  To see you exalt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0T03:55:07Z</dcterms:modified>
  <cp:revision>37</cp:revision>
  <dc:subject/>
  <dc:title>In His Time</dc:title>
</cp:coreProperties>
</file>