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176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51768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51768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omb of Lif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51768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517680" indent="0" algn="ctr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1768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FWS 2046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17680" indent="0" algn="ctr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176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Ruth Duck (John 1:14; 20:19-23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176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©1992 GIA Publications, Inc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omb of life, and source of being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me of every restless heart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your arms the worlds awakened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 have loved us from the start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, your children, gather 'round you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t the table you prepar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haring stories, tears, and laughter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are nurtured by your car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ord in flesh, our brother Jesus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orn to bring us second birth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 have come to stand beside u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knowing weakness, knowing earth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iest who shares our human struggles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ife of Life, and Death of Death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isen Christ, come stand among us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end the Spirit by your breath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9000"/>
          </a:bodyPr>
          <a:p>
            <a:pPr marL="90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rooding Spirit, move among us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0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e our partner, be our frien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0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our memory fails, remind us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0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ose we are, what we inten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abor with us, aid the birthing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f the new world yet to b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ree of servant, Lord, and maste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ree for love and unit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other, Brother, Holy Partner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ather, Spirit, Only Son: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would praise your name forever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ne-in-three and Three-in-on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would share your life, your passion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hare your word of world made new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ver singing, ever praising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ne with all, and one with you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19T19:53:44Z</dcterms:created>
  <dc:creator>Gary Wintergerst</dc:creator>
  <dc:description/>
  <dc:language>en-US</dc:language>
  <cp:lastModifiedBy>Gary Wintergerst</cp:lastModifiedBy>
  <cp:lastPrinted>1995-08-30T07:48:42Z</cp:lastPrinted>
  <dcterms:modified xsi:type="dcterms:W3CDTF">2001-02-04T03:57:31Z</dcterms:modified>
  <cp:revision>15</cp:revision>
  <dc:subject/>
  <dc:title>Give Thanks</dc:title>
</cp:coreProperties>
</file>