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thering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Gave Me Bi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ean Janz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1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thering God, you gave me bi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right morning of this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or, source of every brea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my rain, my wind, my s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thering Christ, you took my for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fering me your food of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in of life, and grape of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very body for my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thering Spirit, nurt'ring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rms of patience hold me clo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at in faith I root and gr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I flow'r, until I k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4T22:39:16Z</dcterms:modified>
  <cp:revision>13</cp:revision>
  <dc:subject/>
  <dc:title>A Shield About Me</dc:title>
</cp:coreProperties>
</file>