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ness Is Strong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Evi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An African Prayer Boo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Desmond Tut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ness is stronger than evi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stronger than hat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is stronger than dark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is stronger than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ory is ours, victory is ou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him who loved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4-06T01:55:20Z</dcterms:modified>
  <cp:revision>23</cp:revision>
  <dc:subject/>
  <dc:title>In His Time</dc:title>
</cp:coreProperties>
</file>