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'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id His Hands on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Did ever you see the like befor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King Jesus preaching to the poor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wasn't that a happy da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ome seek the Lord and don't seek him right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y fool all day and pray at night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y Lord's done just what he said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e's healed the sick and raised the dead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7T03:53:50Z</dcterms:modified>
  <cp:revision>103</cp:revision>
  <dc:subject/>
  <dc:title>A Shield About Me</dc:title>
</cp:coreProperties>
</file>