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eedom Is Coming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9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rad. South Afric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4 Utryc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229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eedom is coming.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eedom is coming.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eedom is com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29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yes, I know.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yes, I know.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yes, I know.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yes, I know.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yes, I kn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2T02:09:12Z</dcterms:modified>
  <cp:revision>49</cp:revision>
  <dc:subject/>
  <dc:title>I Am the God That Healeth Thee</dc:title>
</cp:coreProperties>
</file>