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Depth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 (Ps. 130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depths, O God, we call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nds of the past remain, affecting all we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cing our lives, we need your love so muc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community, heal us by your touc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depths of fear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we sp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silences, the searing truth we see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among friends, our grief and rage we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community, hold us in your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loving heart, we praise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 through our lives and loves; anoint with Spirit fl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ght illumines each familiar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communi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et us with your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2:39:55Z</dcterms:modified>
  <cp:revision>99</cp:revision>
  <dc:subject/>
  <dc:title>A Shield About Me</dc:title>
</cp:coreProperties>
</file>