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Flows On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obert Low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flows on in endless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earth's lament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 the clear, thoug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-off hym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ails a new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storm can shake my inmost cal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o that Rock I'm cl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love is Lor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e tumult and the str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 that music r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finds an echo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storm can shake my inmost cal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o that Rock I'm cl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love is Lor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ough my joys and comforts di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my Savior live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ough the darkness gather rou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in the night he give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storm can shake my inmost cal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o that Rock I'm cl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love is Lor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eace of Christ makes fresh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fountain ever spring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are mine sinc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storm can shake my inmost cal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o that Rock I'm cl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love is Lor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6-09T14:45:09Z</dcterms:modified>
  <cp:revision>16</cp:revision>
  <dc:subject/>
  <dc:title>In His Time</dc:title>
</cp:coreProperties>
</file>