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Saint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8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Bel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WRG The Iona Commun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saints who’ve shone your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ow they live and where they m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indful women, caring 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ept our gratitude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saints who love your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faith increased the Savior’s f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ang your songs and shared your pra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ept our gratitude good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saints who named your wi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wed the kingdom coming sti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selfless protest, prayer, and pra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ept the gratitude we 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all whose will or name or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flects the grace of heaven ab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unacclaimed by earthly powe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ife through theirs has hallowed ou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21:17:18Z</dcterms:modified>
  <cp:revision>52</cp:revision>
  <dc:subject/>
  <dc:title>Walk With Me</dc:title>
</cp:coreProperties>
</file>