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Guide M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1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oris Ak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53 Doris Ak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guide me, along the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f you lead me, I cannot st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me walk each day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O Lord, lead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weak and I need thy strength and pow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lp me over m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akest hou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me through the darkness thy face to s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O Lord, lead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guide me, along the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f you lead me, I cannot st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me walk each day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O Lord, lead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me tread in the paths of righteous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my aid when Satan and sin oppr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putting all my trust in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O Lord, lead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guide me, along the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f you lead me, I cannot st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me walk each day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O Lord, lead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ost if you take your hand from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lind without th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to s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just always let m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servant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O Lord, lead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guide me, along the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f you lead me, I cannot st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me walk each day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O Lord, lead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8T03:18:45Z</dcterms:modified>
  <cp:revision>18</cp:revision>
  <dc:subject/>
  <dc:title>In His Time</dc:title>
</cp:coreProperties>
</file>