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 (Jn. 5:2-9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host all dressed in whi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eader looks like the Israeli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band all dressed in 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s like the band that Moses l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ver yonder, what do I se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Ghost a-coming on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de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don't believe I've been redeem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follow me down to Jordan's strea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a-gonna trouble the wat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03:19:23Z</dcterms:modified>
  <cp:revision>65</cp:revision>
  <dc:subject/>
  <dc:title>A Shield About Me</dc:title>
</cp:coreProperties>
</file>