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Tabl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aire Cloning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Word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table of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d with the wine and the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are hungry and thirs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your souls will be f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t the Lord’s invitatio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 from h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il-scarred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of the bread of salvatio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of the blood of the Lamb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00:19:31Z</dcterms:modified>
  <cp:revision>32</cp:revision>
  <dc:subject/>
  <dc:title>Walk With Me</dc:title>
</cp:coreProperties>
</file>