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Matt. 5:13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salt for the eart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t for the King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the flavor of lif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light on the hill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for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so holy and brigh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for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eed of the Wor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the Kingd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ds of mercy and seeds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 in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blest and a pilgrim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for the Kingdom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our journey and love our home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the King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49:08Z</dcterms:modified>
  <cp:revision>47</cp:revision>
  <dc:subject/>
  <dc:title>I Am the God That Healeth Thee</dc:title>
</cp:coreProperties>
</file>