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tand So Fa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y, My Go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 (Ps. 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tand so far away, my God?  Why hide in times of ne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ud, unbridle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se the poor,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rse you in their gr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do you hide when, full of lies, they murder and betra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ait to pounce upon the weak as lions stalk their pr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k are crushed and fall to earth; the wicked strut and p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in these cruel, chaotic times cannot your fa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ee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ges past you heard the voice of those the proud oppr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those who  suffer now, who cry in deep distr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O God, and lift your hand; bring justice to the p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elp us stop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 of blood!  Let terror reign no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3:28:57Z</dcterms:modified>
  <cp:revision>35</cp:revision>
  <dc:subject/>
  <dc:title>I Am the God That Healeth Thee</dc:title>
</cp:coreProperties>
</file>