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Glorify th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of King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8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wila Par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2 Singspiration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glorify the King of king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glorify the Lamb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glorify the Lord of lord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s the great I A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Jehovah reigns in majest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bow before the thro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worship him in righteous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worship him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Lord of heaven, Lord of ea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Lord of all who li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Lord above the univer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raise to him we g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 to the King of king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 to the Lamb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 to the Lord of lor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s the great I A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2T23:10:33Z</dcterms:modified>
  <cp:revision>44</cp:revision>
  <dc:subject/>
  <dc:title>A Shield About Me</dc:title>
</cp:coreProperties>
</file>