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mmon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r summons echoes true when you but call m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turn and follow you and never be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ompany I'll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love and footsteps sh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I'll move and live and g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come and follow me if I but call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go where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know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love be sh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name be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y life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ave yourself behind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care for cruel and kind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risk the hostile st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your life attract or sc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me answer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et the blinded see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set the prisoners free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kiss the leper cl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such as t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mit to what I me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love the "you" you hide if I but call your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quell the fear inside and never be the s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7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use the fa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f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shape the world a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sight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and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 and you in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6:21:40Z</dcterms:modified>
  <cp:revision>93</cp:revision>
  <dc:subject/>
  <dc:title>A Shield About Me</dc:title>
</cp:coreProperties>
</file>