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Your Mother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Earth Prayer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5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hirley Erena Murr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66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your mother:  Do not neglect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ren, protect me -- I need your trus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breath is your breath, my death is your dea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hes to ashes, dust into du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your nurture:  Do not destroy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and enjoy me, savor my frui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ood is your good, my food is your fo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er and flower, branches and roo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your lodging:  Do not abuse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nderly use me, soothing my scar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lth is your health, my wealth is your weal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ing with promise, set among sta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our maker:  Do not deny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llenge, defy God, threaten this pl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is to cherish, -- care, or we peris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your mother, -- tears on my f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6-12T17:21:22Z</dcterms:modified>
  <cp:revision>21</cp:revision>
  <dc:subject/>
  <dc:title>A Shield About Me</dc:title>
</cp:coreProperties>
</file>