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inda Stass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Linda Stassen, New So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 un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 un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 un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 world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en redeem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 world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en redeem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 world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en redeem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surrection sets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surrection sets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surrection sets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elebrate the fe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elebrate the fea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elebrate the fe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eluia to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4:03:59Z</dcterms:modified>
  <cp:revision>24</cp:revision>
  <dc:subject/>
  <dc:title>Walk With Me</dc:title>
</cp:coreProperties>
</file>