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fy Thy Na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16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Donna Adkins (Ps. 86:12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76 Maranatha! Music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ther, we love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orship and adore you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fy thy name in all the ear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fy thy na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fy thy na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fy thy name in all the ear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we love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orship and adore you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fy thy name in all the ear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fy thy na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fy thy na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fy thy name in all the ear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, we love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orship and adore you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fy thy name in all the ear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fy thy na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fy thy na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fy thy name in all the ear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03T15:31:56Z</dcterms:modified>
  <cp:revision>21</cp:revision>
  <dc:subject/>
  <dc:title>A Shield About Me</dc:title>
</cp:coreProperties>
</file>