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to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orning C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was there to hear your borning c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when you are 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joiced the day you were bapt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r life unf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when you were but a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faith to suit you we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blaze of light you wandered of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 where demons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you heard the wonder of th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to cheer you 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ere raised to praise the living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you now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find someone to share your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join your hearts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to make your verses rhy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usk till rising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n the middle ages of your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oo old, no longer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to guide you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lete what I've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evening gently closes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shut your weary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as I have always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ust one more surp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was there to hear your borning c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when you are 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joiced the day you were bapt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r life unfo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6T02:32:41Z</dcterms:modified>
  <cp:revision>14</cp:revision>
  <dc:subject/>
  <dc:title>A Shield About Me</dc:title>
</cp:coreProperties>
</file>