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mes E. Moore (Ps. 34:1-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bless the Lord at all ti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shall always be on my lip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shall glory i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has been so go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e Lord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let us all praise God’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lled the Lord who answered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my troubles I was set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the Lord, all you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’ll want nothing if you as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the Lord is go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 we need put all our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4:52:11Z</dcterms:modified>
  <cp:revision>35</cp:revision>
  <dc:subject/>
  <dc:title>Walk With Me</dc:title>
</cp:coreProperties>
</file>