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50548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Share the Lord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69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Bryan Jefferey Leech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7 Fred Bock Music Co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gather here in Jesus’ nam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love is burning in our hearts like living flam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rough the loving son the Father makes us one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take the bread;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drink the wine; come, share the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 one is a stranger her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one belongs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nding our forgiveness her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in turn forgive all wrong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46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46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joins us her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46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breaks the brea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46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ord who pours the cup is risen from the dead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46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one we love the most is now our gracious host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take the bread;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drink the wine; come, share the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now a famil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which the Lord is head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gh unseen he meets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s her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breaking of the brea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’ll gather soon where angels sing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’ll see the glory of our Lord and coming King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we anticipate the feast for which we wait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take the bread;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drink the wine; come, share the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21T17:42:14Z</dcterms:created>
  <dc:creator>Gary Wintergerst</dc:creator>
  <dc:description/>
  <dc:language>en-US</dc:language>
  <cp:lastModifiedBy>Gary Wintergerst</cp:lastModifiedBy>
  <dcterms:modified xsi:type="dcterms:W3CDTF">2001-03-31T19:04:34Z</dcterms:modified>
  <cp:revision>37</cp:revision>
  <dc:subject/>
  <dc:title>Walk With Me</dc:title>
</cp:coreProperties>
</file>