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ly of the Valle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. F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Lily of the Valley, the bright and Morning S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found a friend in Jesus, he's everything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ly of the Valley, in him alone I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need to cleanse and make me fully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orrow he's my comfort, in trouble he's my st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ells me every care on him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Lily of the Valley, the bright and Morning S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ll my grief has taken, and all my sorrows bor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emptation he's my strong and mighty tow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all for him forsaken, and all my idols to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my heart, and now he keeps me by his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all the world forsake me, and Satan tempts me s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Jesus I shall safely reach the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Lily of the Valley, the bright and Morning S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fairest of ten thousand to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ever, never leave me, nor yet forsake me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 live by faith and do his blessed w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all of fire about me, I've nothing now to f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manna he my hungry soul shall f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weeping up to glory, to see his blessed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rivers of delight shall ever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32:21Z</dcterms:modified>
  <cp:revision>21</cp:revision>
  <dc:subject/>
  <dc:title>A Shield About Me</dc:title>
</cp:coreProperties>
</file>