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Come a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's Own Bid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arl P. Daw, Jr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come at Christ's own bidding to this high and holy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we wait with hope and longing for some token of God's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we pray for new assurance that our faith is not in v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rching like those first disciples for a sign both clear and pl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breaks through our clouds and shadows, splendor bathes the flesh joined W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ses and Elijah marvel as the heavenly voice is he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yes and hearts behold with wonder how the Law and Prophets mee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ith garments drenched in brightness, stands transfigured and comple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ened by this glimpse of glory, fearful lest our faith decl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like Peter, find it tempting to remain and build a shr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rue worship gives us courage to proclaim what we prof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our daily lives may prove us people of the God we bl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7T05:20:10Z</dcterms:modified>
  <cp:revision>61</cp:revision>
  <dc:subject/>
  <dc:title>A Shield About Me</dc:title>
</cp:coreProperties>
</file>